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32.wmf" ContentType="image/x-wmf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83AD-5C1D-4581-AAC0-ECDD69103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45A6-50B9-42A2-9D42-5E052CCDF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7E15-3CFC-41D1-A599-A59DD6234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3C17-BB67-409D-BE3C-0159F04BB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BA22-134F-444F-83D7-6164F7400E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D67C-911D-425F-B32C-4DAA44806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D984-9454-4687-8E39-72CF53ED3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6EB6-7320-49D6-BC1B-E7ED356A7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9734-DF5F-406B-B8F7-57527403B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637F-E58B-4985-AB23-2BCAB11ED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9534-5724-45DC-912B-972B596E4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9500-8A9E-4788-8040-FF638241D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22CD-ED1E-4AF7-9BA4-48CB8BC860C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B599-0F4B-4E4A-A0BC-877FB9CEE54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0E2F-31CB-4F85-8E7C-30DA60C57FF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AD1B-347B-45AE-A5DD-DF3442A5045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62B22-C1BB-4760-9B6A-36FCD685D27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96F5-C84F-4060-B392-AD8255BFB980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480" y="3962520"/>
          <a:ext cx="5639040" cy="148428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9FC4-5A4F-432E-8742-4A15DD2362F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15DB-FE04-494E-80FB-EB2C75F69C10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38B4-B34C-4DD7-9C47-35AA65F25CA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85880" y="1905120"/>
          <a:ext cx="700092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1905120"/>
                    <a:ext cx="70009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814D-AB23-43B7-A18F-12096880F21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14479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D40C-94B2-44E5-BCE7-CE046441679C}" type="slidenum">
              <a:t>18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5698-9BE6-4336-93E1-BDFD088DCA9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0AC1-E87B-4904-A294-CA92294DCD6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1A69-0F11-4B03-BD77-97450077E0AD}" type="slidenum">
              <a:t>20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B7C3-ED5A-4ADD-B647-3601B5D0BA30}" type="slidenum">
              <a:t>21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892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E8FC-8649-4197-8E7D-34EEDD4B45C9}" type="slidenum">
              <a:t>22</a:t>
            </a:fld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01A2-9FF9-42E8-AA92-14FD74F6C75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1B3D-D157-47F7-BDBC-76F4AF2D01F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4408-DA66-49D3-8896-5A66A53ECD84}" type="slidenum">
              <a:t>25</a:t>
            </a:fld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55F6-012B-44E9-B349-DEE62B31BB18}" type="slidenum">
              <a:t>26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011D-D4AA-484C-8294-1354992972E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AF7EC-4070-421A-8B1F-1A579D7B5B4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CB19-4CD5-47B9-99D3-4391B2D3951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1D2B-0ED4-4A93-AFA7-EF41C8CA93C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63B5-05BA-48AA-ADAC-BF7EE30661AC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4472-71CA-4D52-B100-ACF6C8F181FA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9D404-5153-4C47-88E9-4F8BA8026F61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C183-4E7D-486E-AE13-1F2662FBD68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9879-70AB-47A8-B050-CE2C0CCE8BF2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1C3C-C8CC-4B52-B18C-6E7EFB6E9704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76BC-0817-491B-A9CB-EC938F2EDFE1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3DA6-F115-4F7E-A5EA-A874A6CEF0F9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E12C-842F-4D56-AE55-FDCC32A9ECBA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7BC6-ECCF-4CDC-8087-7A39451C6509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EF06-593D-4FEC-AE86-25066BF7997D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D17A-8282-45A0-8CEF-A0C29668DE78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66AB-82B6-4172-8DE5-D6F82E7F7076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246D-14AD-42FB-854A-6AAE09B00F4E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9B19-259A-4784-8D1A-A9337E62667C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5D90-378C-4A63-8421-FDB3DCB04994}" type="slidenum">
              <a:t>44</a:t>
            </a:fld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B8B7-2447-4DED-B36F-FF1B0E83F637}" type="slidenum">
              <a:t>45</a:t>
            </a:fld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D360-3801-4DB2-B591-FF830F12DFC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0B33-D899-4D02-9533-D3AD34A3AC0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4FA2-F3C2-489D-98CB-27C7954F3E6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’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D115-64ED-4BD6-ACBB-9157D898696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C4A4-EE0B-49DA-B482-E7CBFE2D884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15:35Z</dcterms:modified>
  <cp:revision>409</cp:revision>
  <dc:subject/>
  <dc:title>PowerPoint Presentation</dc:title>
</cp:coreProperties>
</file>