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32.wmf" ContentType="image/x-wmf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F16E-1675-4D67-9319-77BE405BA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0203B-C4F6-489A-B7B2-7DC90560D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6F0BA-7756-4C6F-9F22-DD46A4A84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460CE-A630-4589-B55E-4A20E81ED0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89D7-B3AA-4B7F-A7A2-FAC045567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2DBE-80C6-4391-9738-798964F1A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8ABB-DB24-4240-AF85-287B1EBBA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9B8F-F09A-45CA-9D30-CD6B68854F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F8D1-4BC3-4E4D-BDCA-78353C1BF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D1BE-1676-4DE2-90C6-D0355A683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F747-DB19-4617-A7B6-092DEBE63F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F0E56-04BA-411C-A52C-1058CEB24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20DE-15E0-477F-9009-8B0F546778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650D-5BD0-4250-B3C5-6274B9B8619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4E91-C30C-4D79-B604-26346BA71C8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DA03-B834-4F52-ABE3-2C64B2DAEE4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FB75-E58A-407A-889F-138A1AA53F1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4A9B-9B1E-486D-A126-5729E6A83365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3962520"/>
          <a:ext cx="5639040" cy="148428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1F9DF-B941-49B8-90B3-DDEB7B836E9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AE19C-A559-45EC-AF38-ED5220C5BB8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EE55-8EA1-4131-8382-B95A0585FB5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85880" y="1905120"/>
          <a:ext cx="700092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905120"/>
                    <a:ext cx="7000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C44AA-E64F-4114-8BAD-B8975500529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14479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F01DE-7053-465A-87FE-74C4C8C8B259}" type="slidenum">
              <a:t>18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FA0F0-15B4-4A6D-8846-61E11E1E8E6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8C6F5-64E3-445F-84E4-4AE2C76CB6B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67AD-6FA1-45D2-B3F8-84EB3773EF0C}" type="slidenum">
              <a:t>20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62AA-A4E0-4595-AB8B-24A23B5C14E2}" type="slidenum">
              <a:t>21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892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21BD7-B635-4F6A-AA34-A03F64448715}" type="slidenum">
              <a:t>22</a:t>
            </a:fld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405D-11A3-4991-A3DE-86C0C382A85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6B719-7E06-4243-86D1-1D939AD3763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B9E45-20D1-4044-B3EA-A167DA5F33DB}" type="slidenum">
              <a:t>25</a:t>
            </a:fld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01D72-3391-454B-9D98-E9EB85590394}" type="slidenum">
              <a:t>26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9C496-72D4-41E5-81E4-73923C97C8BF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BC2B9-F113-4B3B-81E3-618BD885B37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3A9DE-7531-4BA5-AF06-0B6ED6778DF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2583C-776C-4263-885B-D7712C50004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EFBD5-BD7E-4CF2-BD3A-F03DF4A37840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4DF5-2FB9-4D6F-BC77-2595D3D3FDC5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31F9-5823-4FAC-B5E0-E108E6962BC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BDD2-A041-4480-B2E0-780633602B0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4C54-BC2F-4E8D-97A4-98DEA451B67F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9B07-B45D-495B-BF41-C74F26DE33AF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66D4-A326-470A-8D02-B487F50FF7C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9A30-6977-4307-A7CE-9C0946300F97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147E6-9959-4EEB-8902-301CA73A044A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93567-0E7B-453E-A7ED-8E74AF666539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A810-9F6E-4171-BD02-508CE19B384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89727-14AB-4113-AE1E-E94B69F7BF88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6DA11-936E-4098-87D8-6C0EFB857D62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4155-9EC1-4FEC-81AE-67658FAB9F8F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EB1AB-B2AD-47A5-829A-7EEFE0AA88F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B737-2B8B-4840-9CE4-3BC46694E09B}" type="slidenum">
              <a:t>44</a:t>
            </a:fld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7DB45-8278-4548-9A50-1F905EF73EB4}" type="slidenum">
              <a:t>45</a:t>
            </a:fld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2CCC-607F-4FA7-BB14-DD689A4489B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1B175-3FF7-487E-A8F9-A4997801796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7A128-95CD-4A7B-9D0E-B7DFA4775FD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’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62F31-265B-416F-A598-9851969B6D2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0E9BD-0E09-4AED-9A5F-77CF7889EDB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15:35Z</dcterms:modified>
  <cp:revision>409</cp:revision>
  <dc:subject/>
  <dc:title>PowerPoint Presentation</dc:title>
</cp:coreProperties>
</file>