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wmf" ContentType="image/x-wmf"/>
  <Override PartName="/ppt/media/image22.jpeg" ContentType="image/jpeg"/>
  <Override PartName="/ppt/media/image42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9.wmf" ContentType="image/x-wmf"/>
  <Override PartName="/ppt/media/image25.wmf" ContentType="image/x-wmf"/>
  <Override PartName="/ppt/media/image26.wmf" ContentType="image/x-wmf"/>
  <Override PartName="/ppt/media/image3.wmf" ContentType="image/x-wmf"/>
  <Override PartName="/ppt/media/image33.wmf" ContentType="image/x-wmf"/>
  <Override PartName="/ppt/media/image9.wmf" ContentType="image/x-wmf"/>
  <Override PartName="/ppt/media/image39.wmf" ContentType="image/x-wmf"/>
  <Override PartName="/ppt/media/image41.wmf" ContentType="image/x-wmf"/>
  <Override PartName="/ppt/media/image30.wmf" ContentType="image/x-wmf"/>
  <Override PartName="/ppt/media/image28.wmf" ContentType="image/x-wmf"/>
  <Override PartName="/ppt/media/image40.wmf" ContentType="image/x-wmf"/>
  <Override PartName="/ppt/media/image31.wmf" ContentType="image/x-wmf"/>
  <Override PartName="/ppt/media/image46.png" ContentType="image/png"/>
  <Override PartName="/ppt/media/image43.wmf" ContentType="image/x-wmf"/>
  <Override PartName="/ppt/media/image32.wmf" ContentType="image/x-wmf"/>
  <Override PartName="/ppt/media/image47.png" ContentType="image/png"/>
  <Override PartName="/ppt/media/image44.wmf" ContentType="image/x-wmf"/>
  <Override PartName="/ppt/media/image45.wmf" ContentType="image/x-wmf"/>
  <Override PartName="/ppt/media/image10.wmf" ContentType="image/x-wmf"/>
  <Override PartName="/ppt/media/image48.png" ContentType="image/png"/>
  <Override PartName="/ppt/media/image38.wmf" ContentType="image/x-wmf"/>
  <Override PartName="/ppt/media/image8.wmf" ContentType="image/x-wmf"/>
  <Override PartName="/ppt/media/image13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9601200" cy="7315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00FB15-4A32-473B-A2FF-CD88DCCB6D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6424D8-7ADD-454C-8397-9951809623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EC635B-0B1C-46B8-9CE3-D6D2079920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DC1817-E8DD-42E1-8816-90D9978D38C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A085EB-7C89-4F96-AFCB-8C2B1CC67D8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366D82-D3BE-459E-ADDC-4A4E6AAEEE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C80869-884F-4667-86AE-F1C85ACA9D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FC13DF-4EB0-4D20-B0CF-495E21CFE0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22023A-3501-4648-9FA7-F2BCC3CE1D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F3E4D2-AE7A-4DF5-A7F7-72B09AFDA8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C02EF6-362A-4280-8E1B-DE2A4C7105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D29197-62EA-485E-9E77-87D0CCEC31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4F4E8-83B4-41E8-9871-3AE2B9D162CE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095880"/>
            <a:ext cx="7772400" cy="152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685800" y="1295280"/>
            <a:ext cx="7772400" cy="152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3733920" y="624852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MOS VLSI Design </a:t>
            </a:r>
            <a:r>
              <a:rPr b="1" lang="en-US" sz="1400" spc="-1" strike="noStrike" baseline="30000">
                <a:solidFill>
                  <a:srgbClr val="0000ff"/>
                </a:solidFill>
                <a:latin typeface="Arial"/>
              </a:rPr>
              <a:t>4th 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wmf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4.wmf"/><Relationship Id="rId5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7.wmf"/><Relationship Id="rId5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wmf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1.wmf"/><Relationship Id="rId5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3.wmf"/><Relationship Id="rId5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5.wmf"/><Relationship Id="rId5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952880" y="4190760"/>
            <a:ext cx="4191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Lecture 0: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33520" y="762120"/>
            <a:ext cx="4381560" cy="5486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0: Introduc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382462-2FA3-4D3E-AB8A-B69D7DA6D165}" type="slidenum">
              <a:t>1</a:t>
            </a:fld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ower Supply Voltag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ND = 0 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1980’s,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5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s decreased in modern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ould damage modern tiny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wer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s 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3.3, 2.5, 1.8, 1.5, 1.2, 1.0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0: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E659CB-E445-4620-A6B7-734040BDE317}" type="slidenum">
              <a:t>10</a:t>
            </a:fld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Transistors as Switch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can view MOS transistors as electrically controlled swit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ltage at gate controls path from source to d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990720" y="2590920"/>
          <a:ext cx="7162560" cy="340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590920"/>
                    <a:ext cx="7162560" cy="340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0: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54F165-AEC6-4D8B-8AC2-87D2EB72ABB8}" type="slidenum">
              <a:t>11</a:t>
            </a:fld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4802400" y="3276720"/>
            <a:ext cx="3499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4191120" y="1523880"/>
          <a:ext cx="3593880" cy="472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1120" y="1523880"/>
                    <a:ext cx="3593880" cy="47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MOS Inverte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838080" y="1905120"/>
          <a:ext cx="1447920" cy="1676160"/>
        </p:xfrm>
        <a:graphic>
          <a:graphicData uri="http://schemas.openxmlformats.org/drawingml/2006/table">
            <a:tbl>
              <a:tblPr/>
              <a:tblGrid>
                <a:gridCol w="723960"/>
                <a:gridCol w="723960"/>
              </a:tblGrid>
              <a:tr h="55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4" name=""/>
          <p:cNvGraphicFramePr/>
          <p:nvPr/>
        </p:nvGraphicFramePr>
        <p:xfrm>
          <a:off x="762120" y="4572000"/>
          <a:ext cx="3733560" cy="1087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4572000"/>
                    <a:ext cx="3733560" cy="108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"/>
          <p:cNvSpPr/>
          <p:nvPr/>
        </p:nvSpPr>
        <p:spPr>
          <a:xfrm>
            <a:off x="1600200" y="2514600"/>
            <a:ext cx="609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600200" y="3048120"/>
            <a:ext cx="609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914400" y="2514600"/>
            <a:ext cx="609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3048120"/>
            <a:ext cx="609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944320" y="4114800"/>
            <a:ext cx="7902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944680" y="3048120"/>
            <a:ext cx="7232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943600" y="3048120"/>
            <a:ext cx="609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943600" y="4114800"/>
            <a:ext cx="7621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802400" y="3276720"/>
            <a:ext cx="3499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867280" y="4114800"/>
            <a:ext cx="8384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868360" y="3048120"/>
            <a:ext cx="7902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943600" y="3048120"/>
            <a:ext cx="609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867280" y="4114800"/>
            <a:ext cx="9144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800600" y="3276720"/>
            <a:ext cx="3049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0: Introduc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D68A31-C16A-4B01-860E-356D36C86031}" type="slidenum">
              <a:t>12</a:t>
            </a:fld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MOS NAND Gat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838080" y="1676520"/>
          <a:ext cx="2171880" cy="2790720"/>
        </p:xfrm>
        <a:graphic>
          <a:graphicData uri="http://schemas.openxmlformats.org/drawingml/2006/table">
            <a:tbl>
              <a:tblPr/>
              <a:tblGrid>
                <a:gridCol w="723960"/>
                <a:gridCol w="723960"/>
                <a:gridCol w="723960"/>
              </a:tblGrid>
              <a:tr h="55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2" name=""/>
          <p:cNvGraphicFramePr/>
          <p:nvPr/>
        </p:nvGraphicFramePr>
        <p:xfrm>
          <a:off x="1295280" y="4572000"/>
          <a:ext cx="1273320" cy="151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4572000"/>
                    <a:ext cx="1273320" cy="151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2362320" y="2286000"/>
            <a:ext cx="6094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362320" y="2819520"/>
            <a:ext cx="6094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362320" y="3429000"/>
            <a:ext cx="6094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362320" y="3962520"/>
            <a:ext cx="6094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4269240" y="2133720"/>
            <a:ext cx="3579480" cy="2593080"/>
            <a:chOff x="4269240" y="2133720"/>
            <a:chExt cx="3579480" cy="2593080"/>
          </a:xfrm>
        </p:grpSpPr>
        <p:sp>
          <p:nvSpPr>
            <p:cNvPr id="119" name=""/>
            <p:cNvSpPr/>
            <p:nvPr/>
          </p:nvSpPr>
          <p:spPr>
            <a:xfrm>
              <a:off x="6935040" y="2133720"/>
              <a:ext cx="7902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rial"/>
                </a:rPr>
                <a:t>OF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411160" y="2133720"/>
              <a:ext cx="7902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rial"/>
                </a:rPr>
                <a:t>OF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934320" y="4267080"/>
              <a:ext cx="9144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rial"/>
                </a:rPr>
                <a:t>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34320" y="3352680"/>
              <a:ext cx="9144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rial"/>
                </a:rPr>
                <a:t>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269240" y="4038480"/>
              <a:ext cx="3499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269240" y="3124080"/>
              <a:ext cx="3499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4269240" y="2133720"/>
            <a:ext cx="3579480" cy="2593080"/>
            <a:chOff x="4269240" y="2133720"/>
            <a:chExt cx="3579480" cy="2593080"/>
          </a:xfrm>
        </p:grpSpPr>
        <p:sp>
          <p:nvSpPr>
            <p:cNvPr id="126" name=""/>
            <p:cNvSpPr/>
            <p:nvPr/>
          </p:nvSpPr>
          <p:spPr>
            <a:xfrm>
              <a:off x="6935040" y="2133720"/>
              <a:ext cx="7902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rial"/>
                </a:rPr>
                <a:t>OF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410440" y="2133720"/>
              <a:ext cx="80856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rial"/>
                </a:rPr>
                <a:t>ON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934320" y="4267080"/>
              <a:ext cx="9144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rial"/>
                </a:rPr>
                <a:t>OF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934320" y="3352680"/>
              <a:ext cx="9144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rial"/>
                </a:rPr>
                <a:t>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269240" y="4038480"/>
              <a:ext cx="3499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269240" y="3124080"/>
              <a:ext cx="3499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4268880" y="2209680"/>
            <a:ext cx="3579480" cy="2593440"/>
            <a:chOff x="4268880" y="2209680"/>
            <a:chExt cx="3579480" cy="2593440"/>
          </a:xfrm>
        </p:grpSpPr>
        <p:sp>
          <p:nvSpPr>
            <p:cNvPr id="133" name=""/>
            <p:cNvSpPr/>
            <p:nvPr/>
          </p:nvSpPr>
          <p:spPr>
            <a:xfrm>
              <a:off x="6934320" y="2209680"/>
              <a:ext cx="80856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rial"/>
                </a:rPr>
                <a:t>ON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410800" y="2209680"/>
              <a:ext cx="7902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rial"/>
                </a:rPr>
                <a:t>OF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933960" y="4343400"/>
              <a:ext cx="9144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rial"/>
                </a:rPr>
                <a:t>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933960" y="3429000"/>
              <a:ext cx="9144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rial"/>
                </a:rPr>
                <a:t>OF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268880" y="4114800"/>
              <a:ext cx="3499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268880" y="3200400"/>
              <a:ext cx="3499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4269240" y="2209680"/>
            <a:ext cx="3579480" cy="2593080"/>
            <a:chOff x="4269240" y="2209680"/>
            <a:chExt cx="3579480" cy="2593080"/>
          </a:xfrm>
        </p:grpSpPr>
        <p:sp>
          <p:nvSpPr>
            <p:cNvPr id="140" name=""/>
            <p:cNvSpPr/>
            <p:nvPr/>
          </p:nvSpPr>
          <p:spPr>
            <a:xfrm>
              <a:off x="6934680" y="2209680"/>
              <a:ext cx="80856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rial"/>
                </a:rPr>
                <a:t>ON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410440" y="2209680"/>
              <a:ext cx="80856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rial"/>
                </a:rPr>
                <a:t>ON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934320" y="4343040"/>
              <a:ext cx="9144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rial"/>
                </a:rPr>
                <a:t>OF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934320" y="3428640"/>
              <a:ext cx="9144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rial"/>
                </a:rPr>
                <a:t>OF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69240" y="4114440"/>
              <a:ext cx="3499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269240" y="3200040"/>
              <a:ext cx="3499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4267080" y="2209680"/>
            <a:ext cx="3429000" cy="2590560"/>
            <a:chOff x="4267080" y="2209680"/>
            <a:chExt cx="3429000" cy="2590560"/>
          </a:xfrm>
        </p:grpSpPr>
        <p:sp>
          <p:nvSpPr>
            <p:cNvPr id="147" name=""/>
            <p:cNvSpPr/>
            <p:nvPr/>
          </p:nvSpPr>
          <p:spPr>
            <a:xfrm>
              <a:off x="4267080" y="4114440"/>
              <a:ext cx="30492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267080" y="3124080"/>
              <a:ext cx="30492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934320" y="4343040"/>
              <a:ext cx="68580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934320" y="3428640"/>
              <a:ext cx="68580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010280" y="2209680"/>
              <a:ext cx="68580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410080" y="2209680"/>
              <a:ext cx="68580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3" name=""/>
          <p:cNvGraphicFramePr/>
          <p:nvPr/>
        </p:nvGraphicFramePr>
        <p:xfrm>
          <a:off x="3505320" y="1905120"/>
          <a:ext cx="5029200" cy="383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05320" y="1905120"/>
                    <a:ext cx="5029200" cy="383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0: Introduc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DBD39F-6555-4A33-89B6-C56E22BA1749}" type="slidenum">
              <a:t>13</a:t>
            </a:fld>
          </a:p>
        </p:txBody>
      </p:sp>
    </p:spTree>
  </p:cSld>
  <p:transition>
    <p:zoom dir="out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6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MOS NOR Gat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838080" y="1676520"/>
          <a:ext cx="2171880" cy="2790720"/>
        </p:xfrm>
        <a:graphic>
          <a:graphicData uri="http://schemas.openxmlformats.org/drawingml/2006/table">
            <a:tbl>
              <a:tblPr/>
              <a:tblGrid>
                <a:gridCol w="723960"/>
                <a:gridCol w="723960"/>
                <a:gridCol w="723960"/>
              </a:tblGrid>
              <a:tr h="55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7" name=""/>
          <p:cNvGraphicFramePr/>
          <p:nvPr/>
        </p:nvGraphicFramePr>
        <p:xfrm>
          <a:off x="1219320" y="4495680"/>
          <a:ext cx="1284120" cy="152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4495680"/>
                    <a:ext cx="1284120" cy="152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9" name=""/>
          <p:cNvGraphicFramePr/>
          <p:nvPr/>
        </p:nvGraphicFramePr>
        <p:xfrm>
          <a:off x="3505320" y="1600200"/>
          <a:ext cx="5181480" cy="4275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05320" y="1600200"/>
                    <a:ext cx="5181480" cy="427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0: Introduc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3B0B4E-E8C0-419F-8719-A7DE1DC98445}" type="slidenum">
              <a:t>14</a:t>
            </a:fld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3-input NAND Gat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 pulls low if ALL inputs ar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 pulls high if ANY input is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2209680" y="2438280"/>
          <a:ext cx="4648320" cy="353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2438280"/>
                    <a:ext cx="4648320" cy="353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5" name=""/>
          <p:cNvSpPr/>
          <p:nvPr/>
        </p:nvSpPr>
        <p:spPr>
          <a:xfrm>
            <a:off x="2209680" y="2666880"/>
            <a:ext cx="449604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0: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7431D8-3025-4018-8BDF-629B9CD22C2C}" type="slidenum">
              <a:t>15</a:t>
            </a:fld>
          </a:p>
        </p:txBody>
      </p:sp>
    </p:spTree>
  </p:cSld>
  <p:transition>
    <p:zoom dir="out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0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MOS Fabric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MOS transistors are fabricated on silicon wa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thography process similar to printing p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each step, different materials are deposited or etc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iest to understand by viewing both top and cross-section of wafer in a simplified manufacturing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0: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A22835-73D0-462E-8C28-C84C96B7D217}" type="slidenum">
              <a:t>16</a:t>
            </a:fld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Inverter Cross-sec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ically use p-type substrate for nMOS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s n-well for body of pMOS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609480" y="2590920"/>
          <a:ext cx="8153640" cy="266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2590920"/>
                    <a:ext cx="8153640" cy="266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0: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FD9705-DE19-45EA-B0C8-0041E7A1EE73}" type="slidenum">
              <a:t>17</a:t>
            </a:fld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Well and Substrate Tap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strate must be tied to GND and n-well to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l to lightly-doped semiconductor forms poor connection called Shottky Di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heavily doped well and substrate contacts / t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457200" y="3130560"/>
          <a:ext cx="8077320" cy="296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130560"/>
                    <a:ext cx="8077320" cy="296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0: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C7B30D-080B-433D-B880-512EBF58910F}" type="slidenum">
              <a:t>18</a:t>
            </a:fld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Inverter Mask Se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istors and wires are defined by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a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oss-section taken along dashed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533520" y="2514600"/>
          <a:ext cx="8001000" cy="3452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514600"/>
                    <a:ext cx="8001000" cy="345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0: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F2468C-AD49-4EE9-A00B-BC4053294409}" type="slidenum">
              <a:t>19</a:t>
            </a:fld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grated circuits: many transistors on one chi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Very Large Scale Integr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VLSI): bucketload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mplementary Metal Oxide Semiconduct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st, cheap, low power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day:  How to build your own simple CMOS c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MOS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ing logic gates from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istor layout and fabr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t of the course: How to build a good CMOS c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0: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E349DE-6A36-4AEB-B3F1-9B70CDD7A01C}" type="slidenum">
              <a:t>2</a:t>
            </a:fld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etailed Mask View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 ma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-w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lysilic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+ diff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+ diff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4038480" y="1523880"/>
          <a:ext cx="4148280" cy="441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1523880"/>
                    <a:ext cx="4148280" cy="441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0: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2A9325-23BE-4840-9894-CD9A5B399424}" type="slidenum">
              <a:t>20</a:t>
            </a:fld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Fabric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ips are built in huge factories called fab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ain clean rooms as large as football fiel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1295280" y="2514600"/>
            <a:ext cx="4572000" cy="339264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5868720" y="5410080"/>
            <a:ext cx="2035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urtesy of Internation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usiness Machines Corporation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authorized use not permitt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0: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33546D-1F73-4328-BBAE-7FD03E0ED96C}" type="slidenum">
              <a:t>21</a:t>
            </a:fld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Fabrication Step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rt with blank wa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inverter from the bottom 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st step will be to form the n-w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ver wafer with protective layer of Si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ox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move layer where n-well should be bui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lant or diffuse n dopants into exposed wa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ip off Si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533520" y="5097600"/>
          <a:ext cx="8153280" cy="931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5097600"/>
                    <a:ext cx="8153280" cy="93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0: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02BE8D-47C4-4E24-A95C-4E884614B2AB}" type="slidenum">
              <a:t>22</a:t>
            </a:fld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Oxid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 Si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n top of Si wa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00 – 1200 C with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 or 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oxidation furn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533520" y="4876920"/>
          <a:ext cx="8153280" cy="110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4876920"/>
                    <a:ext cx="8153280" cy="110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0: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4D0FC1-DAB3-4226-B7C7-D401C0767C24}" type="slidenum">
              <a:t>23</a:t>
            </a:fld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hotoresis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in on photores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otoresist is a light-sensitive organic polym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ftens where exposed to l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533520" y="4724280"/>
          <a:ext cx="8153280" cy="136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4724280"/>
                    <a:ext cx="8153280" cy="136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0: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B8A741-2017-452C-98CD-1FD2323CE0B8}" type="slidenum">
              <a:t>24</a:t>
            </a:fld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ithography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ose photoresist through n-well ma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ip off exposed photores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533520" y="4648320"/>
          <a:ext cx="8153280" cy="136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4648320"/>
                    <a:ext cx="8153280" cy="136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4" name=""/>
          <p:cNvGraphicFramePr/>
          <p:nvPr/>
        </p:nvGraphicFramePr>
        <p:xfrm>
          <a:off x="990720" y="3429000"/>
          <a:ext cx="6484680" cy="97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90720" y="3429000"/>
                    <a:ext cx="6484680" cy="9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0: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B11DAD-378B-418F-AC5F-A9A567BCC53A}" type="slidenum">
              <a:t>25</a:t>
            </a:fld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tch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tch oxide with hydrofluoric acid (H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eps through skin and eats bone; nasty stuff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attacks oxide where resist has been expo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533520" y="4648320"/>
          <a:ext cx="8153280" cy="136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4648320"/>
                    <a:ext cx="8153280" cy="136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0: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550FF3-F03A-430F-83BD-80225DEA56CC}" type="slidenum">
              <a:t>26</a:t>
            </a:fld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trip Photoresis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ip off remaining photores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mixture of acids called piranah et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cessary so resist doesn’t melt in next ste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533520" y="4898880"/>
          <a:ext cx="8076960" cy="109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4898880"/>
                    <a:ext cx="8076960" cy="109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0: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DE1DC9-9850-43BD-A950-657C5088D7D2}" type="slidenum">
              <a:t>27</a:t>
            </a:fld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n-well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-well is formed with diffusion or ion impla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ce wafer in furnace with arsenic g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t until As atoms diffuse into exposed 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on Implana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ast wafer with beam of As 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ons blocked by Si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only enter exposed 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533520" y="4888080"/>
          <a:ext cx="8153280" cy="110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4888080"/>
                    <a:ext cx="8153280" cy="110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0: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54BE70-807A-4F50-B7FB-295B97C1DF07}" type="slidenum">
              <a:t>28</a:t>
            </a:fld>
          </a:p>
        </p:txBody>
      </p:sp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trip Oxid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ip off the remaining oxide using H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ck to bare wafer with n-w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sequent steps involve similar series of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533520" y="5105520"/>
          <a:ext cx="8153280" cy="96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5105520"/>
                    <a:ext cx="8153280" cy="96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0: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A35D77-894A-48A7-A715-074871E2FB7F}" type="slidenum">
              <a:t>29</a:t>
            </a:fld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ilicon Lattic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istors are built on a silicon subst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licon is a Group IV mate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s crystal lattice with bonds to four neighb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2895480" y="2895480"/>
          <a:ext cx="3124440" cy="3065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5480" y="2895480"/>
                    <a:ext cx="3124440" cy="306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0: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438A2D-FE6F-4DFA-89DC-826E559DFA34}" type="slidenum">
              <a:t>3</a:t>
            </a:fld>
          </a:p>
        </p:txBody>
      </p:sp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olysilic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osit very thin layer of gate ox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 20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Å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6-7 atomic laye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mical Vapor Deposition (CVD) of silicon la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ce wafer in furnace with Silane gas (Si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s many small crystals called polysilic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vily doped to be good condu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533520" y="4768920"/>
          <a:ext cx="8153280" cy="1230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4768920"/>
                    <a:ext cx="8153280" cy="123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0: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96B8E6-16DD-4D23-904D-D29EE94F46AC}" type="slidenum">
              <a:t>30</a:t>
            </a:fld>
          </a:p>
        </p:txBody>
      </p:sp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olysilicon Patterning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same lithography process to pattern polysilic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304920" y="2590920"/>
          <a:ext cx="8229600" cy="178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590920"/>
                    <a:ext cx="8229600" cy="178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0" name=""/>
          <p:cNvGraphicFramePr/>
          <p:nvPr/>
        </p:nvGraphicFramePr>
        <p:xfrm>
          <a:off x="533520" y="4772160"/>
          <a:ext cx="8153280" cy="122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520" y="4772160"/>
                    <a:ext cx="8153280" cy="122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0: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C76A3A-4AB8-485C-A785-4FA7FE87EADF}" type="slidenum">
              <a:t>31</a:t>
            </a:fld>
          </a:p>
        </p:txBody>
      </p:sp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elf-Aligned Proces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xide and masking to expose where n+ dopants should be diffused or impla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-diffusion forms nMOS source, drain, and n-well cont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533520" y="4740120"/>
          <a:ext cx="8153280" cy="131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4740120"/>
                    <a:ext cx="8153280" cy="131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0: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9990F4-0DF9-4A8D-8A8F-48F703A6F03B}" type="slidenum">
              <a:t>32</a:t>
            </a:fld>
          </a:p>
        </p:txBody>
      </p:sp>
    </p:spTree>
  </p:cSld>
  <p:transition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N-diffus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ttern oxide and form n+ reg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elf-aligned proce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here gate blocks diff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lysilicon is better than metal for self-aligned gates because it doesn’t melt during later 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609480" y="4751280"/>
          <a:ext cx="8077320" cy="130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4751280"/>
                    <a:ext cx="8077320" cy="130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0" name=""/>
          <p:cNvGraphicFramePr/>
          <p:nvPr/>
        </p:nvGraphicFramePr>
        <p:xfrm>
          <a:off x="380880" y="3352680"/>
          <a:ext cx="8229600" cy="895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3352680"/>
                    <a:ext cx="8229600" cy="89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0: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245422-9ADE-4276-A10A-AADE1A5AC3E4}" type="slidenum">
              <a:t>33</a:t>
            </a:fld>
          </a:p>
        </p:txBody>
      </p:sp>
    </p:spTree>
  </p:cSld>
  <p:transition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N-diffusion cont.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storically dopants were diffu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ually ion implantation to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regions are still called diff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533520" y="4740120"/>
          <a:ext cx="8153280" cy="131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4740120"/>
                    <a:ext cx="8153280" cy="131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0: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C07821-E3F4-4333-9D9C-625258F19A08}" type="slidenum">
              <a:t>34</a:t>
            </a:fld>
          </a:p>
        </p:txBody>
      </p:sp>
    </p:spTree>
  </p:cSld>
  <p:transition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N-diffusion cont.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ip off oxide to complete patterning ste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533520" y="4768920"/>
          <a:ext cx="8153280" cy="1230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4768920"/>
                    <a:ext cx="8153280" cy="123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0: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303085-89AC-4287-9D32-4C802DF7F7F3}" type="slidenum">
              <a:t>35</a:t>
            </a:fld>
          </a:p>
        </p:txBody>
      </p:sp>
    </p:spTree>
  </p:cSld>
  <p:transition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-Diffus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ilar set of steps form p+ diffusion regions for pMOS source and drain and substrate cont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2" name=""/>
          <p:cNvGraphicFramePr/>
          <p:nvPr/>
        </p:nvGraphicFramePr>
        <p:xfrm>
          <a:off x="380880" y="3276720"/>
          <a:ext cx="8229600" cy="930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276720"/>
                    <a:ext cx="8229600" cy="93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4" name=""/>
          <p:cNvGraphicFramePr/>
          <p:nvPr/>
        </p:nvGraphicFramePr>
        <p:xfrm>
          <a:off x="533520" y="4768920"/>
          <a:ext cx="8153280" cy="1230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520" y="4768920"/>
                    <a:ext cx="8153280" cy="123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0: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67FEDD-0774-48AE-BF1F-6AD27CD60AE8}" type="slidenum">
              <a:t>36</a:t>
            </a:fld>
          </a:p>
        </p:txBody>
      </p:sp>
    </p:spTree>
  </p:cSld>
  <p:transition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ontact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w we need to wire together the de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ver chip with thick field ox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tch oxide where contact cuts are nee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8" name=""/>
          <p:cNvGraphicFramePr/>
          <p:nvPr/>
        </p:nvGraphicFramePr>
        <p:xfrm>
          <a:off x="533520" y="4675320"/>
          <a:ext cx="8153280" cy="1306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4675320"/>
                    <a:ext cx="8153280" cy="13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0" name=""/>
          <p:cNvGraphicFramePr/>
          <p:nvPr/>
        </p:nvGraphicFramePr>
        <p:xfrm>
          <a:off x="304920" y="3581280"/>
          <a:ext cx="8001000" cy="766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3581280"/>
                    <a:ext cx="8001000" cy="7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0: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EE92BD-A2AF-452A-AABE-958782A01002}" type="slidenum">
              <a:t>37</a:t>
            </a:fld>
          </a:p>
        </p:txBody>
      </p:sp>
    </p:spTree>
  </p:cSld>
  <p:transition>
    <p:zoom dir="ou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Metaliz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utter on aluminum over whole wa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ttern to remove excess metal, leaving wi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4" name=""/>
          <p:cNvGraphicFramePr/>
          <p:nvPr/>
        </p:nvGraphicFramePr>
        <p:xfrm>
          <a:off x="533520" y="4660920"/>
          <a:ext cx="8153280" cy="135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4660920"/>
                    <a:ext cx="8153280" cy="135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6" name=""/>
          <p:cNvGraphicFramePr/>
          <p:nvPr/>
        </p:nvGraphicFramePr>
        <p:xfrm>
          <a:off x="304920" y="2362320"/>
          <a:ext cx="7924680" cy="2209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2362320"/>
                    <a:ext cx="7924680" cy="22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0: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3FC30C-7834-4A57-8ED4-F4AF88B5E4B2}" type="slidenum">
              <a:t>38</a:t>
            </a:fld>
          </a:p>
        </p:txBody>
      </p:sp>
    </p:spTree>
  </p:cSld>
  <p:transition>
    <p:zoom dir="ou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ayou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ips are specified with set of ma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imum dimensions of masks determine transistor size (and hence speed, cost, and pow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ature siz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distance between source and d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by minimum width of polysilic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ature size improves 30% every 3 years or 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rmalize for feature size when describing design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ress rules in terms o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0.3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 in 0.6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0: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BF9DC0-60D0-4147-BA7A-853FA6DF3A74}" type="slidenum">
              <a:t>39</a:t>
            </a:fld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opant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licon is a semicondu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re silicon has no free carriers and conducts poor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ing dopants increases the conduc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up V: extra electron (n-typ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up III: missing electron, called hole (p-typ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1905120" y="4027320"/>
          <a:ext cx="4419360" cy="189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4027320"/>
                    <a:ext cx="4419360" cy="189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0: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836013-F8D3-43DB-8397-E8EB28178046}" type="slidenum">
              <a:t>4</a:t>
            </a:fld>
          </a:p>
        </p:txBody>
      </p:sp>
    </p:spTree>
  </p:cSld>
  <p:transition>
    <p:zoom dir="ou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implified Design Rul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ervative rules to get you star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696080" cy="4032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0: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560174-107C-4020-B51E-ECD7D085B832}" type="slidenum">
              <a:t>40</a:t>
            </a:fld>
          </a:p>
        </p:txBody>
      </p:sp>
    </p:spTree>
  </p:cSld>
  <p:transition>
    <p:zoom dir="ou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>
            <a:off x="914400" y="3124080"/>
            <a:ext cx="1163520" cy="289584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Inverter Layou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istor dimensions specified as Width / L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imum size is 4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/ 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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times called 1 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0.6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 process, this is 1.2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 wide, 0.6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 lo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2"/>
          <a:stretch/>
        </p:blipFill>
        <p:spPr>
          <a:xfrm>
            <a:off x="2895480" y="3505320"/>
            <a:ext cx="4191120" cy="2371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0: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E9A91B-714A-4C60-8474-1AA95EB9C40E}" type="slidenum">
              <a:t>41</a:t>
            </a:fld>
          </a:p>
        </p:txBody>
      </p:sp>
    </p:spTree>
  </p:cSld>
  <p:transition>
    <p:zoom dir="ou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 transistors are stacks of gate, oxide, silic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 as electrically controlled swit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logic gates out of swit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w masks to specify layout of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w you know everything necessary to start designing schematics and layout for a simple chip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0: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397828-4B0F-4786-8B64-3ED1A085D9FD}" type="slidenum">
              <a:t>42</a:t>
            </a:fld>
          </a:p>
        </p:txBody>
      </p:sp>
    </p:spTree>
  </p:cSld>
  <p:transition>
    <p:zoom dir="ou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bout these Not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cture notes © 2010 David Money Harr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se notes may be used and modified for educational and/or non-commercial purposes so long as the source is at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0: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BC9812-E49C-4348-8195-30BD7BA6F479}" type="slidenum">
              <a:t>43</a:t>
            </a:fld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-n Junction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junction between p-type and n-type semiconductor forms a di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flows only in one dir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2286000" y="2881440"/>
          <a:ext cx="4343400" cy="303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2881440"/>
                    <a:ext cx="4343400" cy="303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0: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85EC15-DF6C-41A1-A7A9-79B47B5A434E}" type="slidenum">
              <a:t>5</a:t>
            </a:fld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nMOS Transisto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 terminals: gate, source, drain, bo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te – oxide – body stack looks like a capaci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te and body are condu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oxide) is a very good ins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ed metal – oxide – semiconductor (MOS) capaci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n though gate i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longer made of me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4267080" y="3800520"/>
          <a:ext cx="4289400" cy="2168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7080" y="3800520"/>
                    <a:ext cx="4289400" cy="216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0: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D2ABE5-98C2-4A70-BF3B-6AEA96DC2784}" type="slidenum">
              <a:t>6</a:t>
            </a:fld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nMOS Oper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dy is usually tied to ground (0 V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the gate is at a low volt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-type body is at low volt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urce-body and drain-body diodes are O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urrent flows, transistor is O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2209680" y="3733920"/>
          <a:ext cx="4191120" cy="230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3733920"/>
                    <a:ext cx="4191120" cy="23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0: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F91F15-EA69-489F-AC16-C3FAC7E52530}" type="slidenum">
              <a:t>7</a:t>
            </a:fld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nMOS Operation Cont.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the gate is at a high volt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itive charge on gate of MOS capaci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gative charge attracted to bo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erts a channel under gate to n-ty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w current can flow through n-type silicon from source through channel to drain, transistor is 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2819520" y="4114800"/>
          <a:ext cx="3429000" cy="188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19520" y="4114800"/>
                    <a:ext cx="3429000" cy="188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0: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42FB3A-EFEB-48AB-BAF7-9B2EA71AEDD1}" type="slidenum">
              <a:t>8</a:t>
            </a:fld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MOS Transisto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ilar, but doping and voltages rever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dy tied to high voltage (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te low: transistor 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te high: transistor O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bble indicates inverted behavi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2057400" y="3733920"/>
          <a:ext cx="4419720" cy="223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3733920"/>
                    <a:ext cx="4419720" cy="22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0: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CC3F3E-C540-44C2-9B31-D92C57BA896A}" type="slidenum">
              <a:t>9</a:t>
            </a:fld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03:13:39Z</dcterms:created>
  <dc:creator>David Harris</dc:creator>
  <dc:description/>
  <dc:language>en-US</dc:language>
  <cp:lastModifiedBy>Harris</cp:lastModifiedBy>
  <dcterms:modified xsi:type="dcterms:W3CDTF">2010-02-11T00:14:56Z</dcterms:modified>
  <cp:revision>312</cp:revision>
  <dc:subject/>
  <dc:title>PowerPoint Presentation</dc:title>
</cp:coreProperties>
</file>