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AAE8D-E15D-4EB3-8FBC-698667DF3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21DED-1F83-4B85-A480-484FA2F25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2536-3D3B-47F5-9FB7-8EDBE711B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1D1B-E4F4-4E08-91AE-1DDC1AB61B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2E722-C499-40B1-BFC9-76D5BF091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CE2C-A3A3-4C9C-B311-BBA86764B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A7463-9012-4CED-B882-BD36A5A60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7E42-9D0C-4CB2-9EFD-5BDEDA14F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CFDC-47EC-440C-AA70-80E52AA45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57D8-434B-43B4-B01A-E01397B13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F7020-D64D-4A0B-858B-785CAA248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9B42-2B23-437C-AC71-9B37CD495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2BD4-513F-4100-8EFD-D56F4A11C1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46A6-41E2-43C8-81ED-66F55D97083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’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D2ED-71C7-4B0A-BE3F-3965CBDD9DB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66034-F391-48D9-A423-4F6DD4D8F17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AB61-204A-4255-9D93-0416EF31794A}" type="slidenum">
              <a:t>1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19" name="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26" name="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33" name="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40" name="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47" name="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3" name="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A47C-FCF4-442B-BB5E-6D83C3344896}" type="slidenum">
              <a:t>13</a:t>
            </a:fld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E84B-820B-4B1B-8AE9-992226BBBA6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BE25-7D57-4577-A807-E575D464B0AD}" type="slidenum">
              <a:t>15</a:t>
            </a:fld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A76A-9567-4AA1-A2BA-2D8B575C00E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1E8A-84A1-428C-ADE4-0777610A2B5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15A62-0823-40C9-9EE5-59F28B76FD1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1414-7ECF-4B37-BD28-9174AAD1445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0DCFD-6CB7-4645-A3DF-DB5081D07F5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D379C-6DC3-495C-AC6B-712E34807B2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B5025-5B5F-4924-A1B8-812E35D4D488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1AF7-DD95-4B66-8535-135075AD761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1ED7C-6DB0-42EE-9C60-F11B89B7780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560B8-31FF-4039-82EF-9895DEC6945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1ACE3-B25C-42E7-B590-CA9BA6B0DB4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9039D-9DEE-4CDC-984D-0DF17CD95FB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’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97EB9-3CE0-4753-B62A-EFE72E64A456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F2EA-66C4-416F-AA3B-6F3D6126FCD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E559-D181-47EB-822D-656F9B0491D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A497-ECD8-40C0-8A7F-73C7669A1C8C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178AD-4303-4FA7-8616-6106D3F89CA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F8545-8646-4778-A88E-597822067C9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288FC-3B4A-40FE-8EFE-CFCB78EFFC8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’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5DA3A-1203-481E-A20F-197A478AE93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3F97-8B7A-4801-9215-1D5E6A8B9F5D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68039-0F1C-4364-A3FE-237761182DF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62FA-7345-4F35-B058-CDFA20B6C23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812E7-CDB4-49DD-82A9-C134EF8253C3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82D7-36B2-4D80-8094-893729105EA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A386-B0E8-4958-B463-CBF48C0D1D9C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306DD-1110-4FC6-8EC3-8062B157E9C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152A6-E526-4015-8F2D-DD12CA9D5439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5D5F6-7256-46DE-A130-268C9212DDC7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B201-52CF-49C6-A6AD-258E5FDF72D0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0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2904-5D8C-4363-9F5E-7362047EB1A0}" type="slidenum">
              <a:t>43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3384-43B2-44AD-B4DD-60053F80C0E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8140A-ADD7-4B37-A346-461AEF22E54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E3079-1D89-4BC3-A057-99338B48EE3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23B8C-6899-4DC7-A69C-EA20DB448EB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80E59-C6D1-419B-B2A3-5547BF4E49D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4:56Z</dcterms:modified>
  <cp:revision>312</cp:revision>
  <dc:subject/>
  <dc:title>PowerPoint Presentation</dc:title>
</cp:coreProperties>
</file>