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13.wmf" ContentType="image/x-wmf"/>
  <Override PartName="/ppt/media/image10.wmf" ContentType="image/x-wmf"/>
  <Override PartName="/ppt/media/image25.png" ContentType="image/png"/>
  <Override PartName="/ppt/media/image2.png" ContentType="image/png"/>
  <Override PartName="/ppt/media/image3.png" ContentType="image/png"/>
  <Override PartName="/ppt/media/image11.wmf" ContentType="image/x-wmf"/>
  <Override PartName="/ppt/media/image26.png" ContentType="image/png"/>
  <Override PartName="/ppt/media/image7.png" ContentType="image/png"/>
  <Override PartName="/ppt/media/image8.wmf" ContentType="image/x-wmf"/>
  <Override PartName="/ppt/media/image28.png" ContentType="image/png"/>
  <Override PartName="/ppt/media/image5.png" ContentType="image/png"/>
  <Override PartName="/ppt/media/image4.png" ContentType="image/png"/>
  <Override PartName="/ppt/media/image12.wmf" ContentType="image/x-wmf"/>
  <Override PartName="/ppt/media/image30.jpeg" ContentType="image/jpeg"/>
  <Override PartName="/ppt/media/image6.png" ContentType="image/png"/>
  <Override PartName="/ppt/media/image29.png" ContentType="image/png"/>
  <Override PartName="/ppt/media/image9.jpeg" ContentType="image/jpeg"/>
  <Override PartName="/ppt/media/image23.wmf" ContentType="image/x-wmf"/>
  <Override PartName="/ppt/media/image31.png" ContentType="image/png"/>
  <Override PartName="/ppt/media/image1.png" ContentType="image/png"/>
  <Override PartName="/ppt/media/image24.png" ContentType="image/png"/>
  <Override PartName="/ppt/media/image14.jpeg" ContentType="image/jpeg"/>
  <Override PartName="/ppt/media/image15.jpeg" ContentType="image/jpe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ED90BB-C5B6-4F3F-8758-5DCCD36C8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6D0B7B-5250-44E0-966B-4634A5FF0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34024D-823F-45DA-94A1-D39F80D77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C712A2-9362-41ED-A62C-F92804035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4FC60-A9E1-43FE-A85F-7C427AD84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9F1AC-A4B8-4D86-AAFF-D9CD402A9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07AA0-221C-4B5A-B9AC-A10923AED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6CF69-8C97-4BB8-B50A-2752F0904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1A882-5133-4A66-8B38-C0E6F7A3D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F8340-4F27-4902-BDC9-6437D59B3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C2884-79CD-4924-BA22-8753D1377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656406-1C83-437F-854D-9EF3CA139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18921-A409-4D40-93C5-52E2E0F11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23428-77D0-4B09-B9C7-67A2E496C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EB62D-B867-4CF1-BB76-F634D50F8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DB9A8-EB01-424F-BE69-509195D37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B1493-4C5C-4032-BD29-D01B189A2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67B217-6801-4600-88C4-645C74E53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A8E775-07F4-48F5-BDC0-FC0D3E827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38F967-276B-4D7D-ADF9-900B1367C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5E38A2-9806-45C9-8A44-8281392DF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9784AE-E427-4360-B54F-7B143DBFB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8345EF-2734-4CF6-AAAA-F6BE72292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88538F-B24B-4138-9E1D-8A149FC96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7CA83-2261-43C2-B3C8-7B78BDC2B05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28CD8-1DBC-4CC7-81D3-4035BC90DC7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The Mudd ][:</a:t>
            </a:r>
            <a:br>
              <a:rPr sz="6600"/>
            </a:br>
            <a:br>
              <a:rPr sz="32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 6502 Microprocessor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04920" y="4419720"/>
            <a:ext cx="83818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158 Introduction to CMOS VLSI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7,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DA6E6E-E87F-4A04-9351-7009E667C6D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hema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952880" y="2133720"/>
            <a:ext cx="39625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5000"/>
          </a:bodyPr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ing for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648320" y="2819520"/>
            <a:ext cx="4303440" cy="30924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4572000" cy="3824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51C1E2-14B2-45B8-AAA1-6DA0DFEBF6B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04920" y="3962520"/>
            <a:ext cx="8534160" cy="251928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hema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3280" y="1722600"/>
            <a:ext cx="3687840" cy="49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yout in mind at abstract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ical linear 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ular hierarc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debugg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4952880" y="533520"/>
            <a:ext cx="3810240" cy="3749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4135B1-1EF9-4E97-97FC-C24B9AF57E4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787920" y="1676520"/>
            <a:ext cx="5356080" cy="429552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gn Deci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63520" y="1870200"/>
            <a:ext cx="9070920" cy="49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wer and Del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stor siz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nchronous Re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ted cl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8B9CE6-6976-4290-85F0-363E2490246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oc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1532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iginal 6502 used two-phase clocking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rs implements two-phase non-overlapping clo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vent race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 ph0 used to create ph1 &amp; ph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762120" y="4267080"/>
          <a:ext cx="7619760" cy="232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4267080"/>
                    <a:ext cx="7619760" cy="232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DD7E97-1A17-47FC-BC21-B0CB79B1E30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ock Gener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2133720" y="2971800"/>
            <a:ext cx="5029200" cy="3794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6" name=""/>
          <p:cNvGraphicFramePr/>
          <p:nvPr/>
        </p:nvGraphicFramePr>
        <p:xfrm>
          <a:off x="1295280" y="1447920"/>
          <a:ext cx="6629400" cy="1625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95280" y="1447920"/>
                    <a:ext cx="6629400" cy="162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41F5D8-3A69-428B-8D2F-5987868C143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dd ][ Critical Pa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1600200" y="1600200"/>
          <a:ext cx="5867280" cy="515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600200"/>
                    <a:ext cx="5867280" cy="515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A9F7DA-32A6-428B-BB77-C669FCF2B88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zor L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533520" y="1752480"/>
          <a:ext cx="8229600" cy="456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752480"/>
                    <a:ext cx="8229600" cy="456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C12A64-167C-4F19-9472-750123AF680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c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1676520" y="1523880"/>
          <a:ext cx="5867280" cy="51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523880"/>
                    <a:ext cx="5867280" cy="51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"/>
          <p:cNvSpPr/>
          <p:nvPr/>
        </p:nvSpPr>
        <p:spPr>
          <a:xfrm>
            <a:off x="2514600" y="4495680"/>
            <a:ext cx="76212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2CF75B-BD4A-499E-AAC6-E6AF7055C1F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059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enerated by following schematics that followed the Register Transfer Level (RTL) description in the microco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adeoffs between optimizing for min size, min power consumption, min area and max spe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8E2FE8-ADC3-4AD3-8914-A6032B30F3E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U and Ripple Carry Ad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of the largest components in the floor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pple carry adder chosen to reduce amount of hardware needed for a comparable sp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67B529-48F7-4F9B-862B-322FF07590A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V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y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L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ge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le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I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teg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you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 a chip with millions of transisto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ify that the chip 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it fa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it consume minimal pow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B74D2C-EBB8-4FF1-BE9D-71282D9E07E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2133720" y="533520"/>
            <a:ext cx="4784760" cy="6095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B6256B-0292-4150-BBCA-ECF376B349E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pa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52280" y="1900080"/>
            <a:ext cx="8839440" cy="391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A3AB96-1317-4F28-843E-30ECF706F55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seudo-nMOS NOR ROM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number of states in controller F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ificant power cost but without pMOS, saves space and delay without introducing timing challenges of dynamic log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990458-25FE-4A88-B493-44FF3291DDE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rcRect l="7461" t="0" r="7461" b="7070"/>
          <a:stretch/>
        </p:blipFill>
        <p:spPr>
          <a:xfrm>
            <a:off x="4280040" y="685800"/>
            <a:ext cx="4529160" cy="571500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380880" y="1752480"/>
            <a:ext cx="3873600" cy="256716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3200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OM Exa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F08D92-E76E-489E-8F6B-068649D31CD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437920"/>
            <a:ext cx="41911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te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code R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5334120" y="0"/>
            <a:ext cx="3373200" cy="6477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EC9894-A6BC-48BA-997A-7B3C38078BB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roll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0" y="1546200"/>
            <a:ext cx="9144000" cy="5311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3042EB-9F12-44C7-AE93-B55A4D288F4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dfra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ucture that connects core to output p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pad for each pin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s of pa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dd • Gnd • Input • Output • In/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rnal Vdd • Corn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0" y="4343400"/>
            <a:ext cx="7315200" cy="249084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6705720" y="2590920"/>
            <a:ext cx="2141280" cy="2590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C52CEC-8840-413B-A847-0CD14E2560A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vel Conver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1577880" y="2031840"/>
          <a:ext cx="5986440" cy="378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2031840"/>
                    <a:ext cx="5986440" cy="378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952C68-AC4A-416F-A577-946E92DF83D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vel Conver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1577880" y="2031840"/>
          <a:ext cx="5986440" cy="378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2031840"/>
                    <a:ext cx="5986440" cy="378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"/>
          <p:cNvSpPr/>
          <p:nvPr/>
        </p:nvSpPr>
        <p:spPr>
          <a:xfrm>
            <a:off x="457200" y="594360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lower 1.5 reference voltage will be seen as indeterminate in the p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650480" y="541008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RR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040640" y="502920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RR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257D29-6CE2-4F8E-BC90-B7EA61FD04B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d (Layout) with Level Conver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419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vel converter is long and narrow to fi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5410080" y="1447920"/>
            <a:ext cx="2740320" cy="541008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304920" y="4267080"/>
            <a:ext cx="4916520" cy="13496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B7BCC0-A8CC-4B00-A7BE-3F9910E01A9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le ][ 6502 Microprocess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5105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-bit microprocess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truly low-cost microprocess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d for ~$25 e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SC (Complex Instruction Set Comput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ock speed: 1 MH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goal: Minimize p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562720" y="2133720"/>
            <a:ext cx="3276360" cy="27162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5562720" y="4876920"/>
            <a:ext cx="327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solarnavigator.net/computers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2F2FD4-28AC-46D9-BEDF-BF50EBBB2BC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dframe (Layou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981080" y="1600200"/>
            <a:ext cx="5105520" cy="5065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C38F0F-3759-4F01-8D55-7F9BF403427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lete Ch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905120" y="1536840"/>
            <a:ext cx="5257800" cy="5149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317C81-D2EF-42C6-8773-D8B245E270E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r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TL behavioral verification (Modelsi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suites P and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C, NCC, E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havioral of layout (Modelsi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SIM switch-level simulations of Suite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not accurately model transis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ICE simulations of Suite 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SIM models of transis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wer estim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BF0BB2-A377-4161-949A-62896BC98FF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deal Testing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122400" y="1515960"/>
            <a:ext cx="2842920" cy="1830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353880" y="4281480"/>
            <a:ext cx="2881440" cy="216072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1928880" y="2936880"/>
            <a:ext cx="0" cy="1268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60285D-9191-4B3F-BF6B-5591CF477E6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deal Testing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22400" y="1515960"/>
            <a:ext cx="2842920" cy="18306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353880" y="4281480"/>
            <a:ext cx="2881440" cy="21607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3657600" y="2438280"/>
            <a:ext cx="5335560" cy="34783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1928880" y="2936880"/>
            <a:ext cx="0" cy="1268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35320" y="4933800"/>
            <a:ext cx="3841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4A348F-D46C-4108-97D5-D930E631843E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ditional Te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u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p tester checks corner c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ng oscillator checks padframe and level-conver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ot power vs. core volt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ify razor lat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561DA6-A907-4C08-811D-24012A6734BA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 / Conclu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communication is essent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standing how parts fit into wh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arge group project has prepared us for team interactions in our future care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80A963-771C-4B22-855B-BAAE3D6BE24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380880" y="2743200"/>
            <a:ext cx="8229600" cy="2481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90276D-7EB1-4368-B271-F11DA63C6A1B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am Dynam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stru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fessor David Harr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hief Circuit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thaniel Pinckn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hief Microarchit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omas Bar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icroarchite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ther Jus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yle Mar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chema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ic Burkh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evin Muraka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son Squ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876920" y="1828800"/>
            <a:ext cx="38098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Razor La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 Gord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ny Ev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Lay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chael Bra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sha Geo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ey Heb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ROM Gen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t Jeffr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/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 Huntzick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E86311-8748-41AD-8D5D-2D0913A0CE2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cro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 Technology 6502 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tecture is the programmer’s view of the process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croarchitecture defines implement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lly specifies datapath op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p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ister file and processor fla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 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U (Arithmetic Logic Un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063C8B-4D39-4BF9-BA92-4FAD6B441CC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croarchitecture Desig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SC requires complex controlling log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dd ][ datapath is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olling logic pushed into automatically synthesized RO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eak down CISC instructions into “micro-op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path is extremely flex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architectures can be implemented by changing the RO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2FE083-859A-4B7A-9A3A-E98DCF4C5B0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croc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ler broken into two RO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M groups commonly used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code ROM contains control signals specific to individual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5F64C5-5966-45C1-AA85-8D655CEEA0D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hema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1676520"/>
            <a:ext cx="3733560" cy="49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TL (Verilo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module regfile(input         clk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put         write_enable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put  [1:0]  read_addr_a,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read_addr_b, write_addr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put  [7:0]  write_dat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output [7:0]  read_data_a,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read_data_b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reg [7:0] reg_file [3:0]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logic gated_clk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assign gated_clk = clk &amp; write_enable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/ three ported register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/ read two ports combinational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/ write third port as lat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always_lat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f (gated_clk) reg_file[write_addr] &lt;=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write_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assign read_data_a = reg_file[read_addr_a]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assign read_data_b = reg_file[read_addr_b]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endmodu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343400" y="1676520"/>
            <a:ext cx="4459320" cy="49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ema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733920" y="1981080"/>
            <a:ext cx="4682880" cy="4740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B42320-AB7E-4418-8695-27D9BC97377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133720" y="1758960"/>
            <a:ext cx="6359400" cy="509904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hema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" y="1487520"/>
            <a:ext cx="8001000" cy="49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431640" indent="-3236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ansistor level schema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g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E921A4-3999-40F1-B649-E15B69DB191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4T22:48:57Z</dcterms:created>
  <dc:creator>Computing and Information Services</dc:creator>
  <dc:description/>
  <dc:language>en-US</dc:language>
  <cp:lastModifiedBy>Kyle Marsh</cp:lastModifiedBy>
  <dcterms:modified xsi:type="dcterms:W3CDTF">2008-05-07T09:30:49Z</dcterms:modified>
  <cp:revision>55</cp:revision>
  <dc:subject/>
  <dc:title>  The Mudd II:  A 6502 Microprocessor Implementation</dc:title>
</cp:coreProperties>
</file>