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8.wmf" ContentType="image/x-wmf"/>
  <Override PartName="/ppt/media/image28.png" ContentType="image/png"/>
  <Override PartName="/ppt/media/image5.png" ContentType="image/png"/>
  <Override PartName="/ppt/media/image4.png" ContentType="image/png"/>
  <Override PartName="/ppt/media/image12.wmf" ContentType="image/x-wmf"/>
  <Override PartName="/ppt/media/image30.jpeg" ContentType="image/jpeg"/>
  <Override PartName="/ppt/media/image6.png" ContentType="image/png"/>
  <Override PartName="/ppt/media/image29.png" ContentType="image/png"/>
  <Override PartName="/ppt/media/image9.jpeg" ContentType="image/jpeg"/>
  <Override PartName="/ppt/media/image2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F622-9902-4707-A843-90200315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7544C-866F-45BA-B05F-91F28F22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9D26-7B30-4D41-A0E4-903A2DAC2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1AE4-576D-47F4-ACEA-3B61EBCF5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91F86-666D-490B-AE53-A22DFB6F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A70F-E68B-4BB6-A8DB-A7E779D2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271B-7357-4EFF-B62C-015AA9DD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665C-9838-42F3-A98E-BD71058E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7547-6A79-4887-8469-29EA88EB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E0BC-F3BD-4FD9-9E6B-ACE8C351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8CA2-2066-4F71-A778-DB86C1BC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62BE4-C4C5-4489-8353-74AEA4BF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319D-0673-4E59-8173-C3395672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B8FE-39AB-421A-9671-AD84C6BF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8DD1-9204-43D9-A81C-71D9AF6E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3418-B74E-43A2-B427-85C55F0B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19FC-C4A2-479A-9D49-A76C5131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178F2-F421-4C8A-BA62-0F8F0105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56A5-640F-4ABC-92FF-1333EB16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CE30-3C04-4884-9A2B-6DD3A676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5CA72-C7D5-41B5-BF84-7B00A891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13E9-065F-41C5-98A6-E1C98564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03EDC-47C5-4461-ACAF-F7992CB5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F6AB8-9266-403E-B9C8-B468930F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39F6-0EE0-47DC-A6F8-05C0D5D94F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E55B-4EC8-4622-9E3E-1874788FD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The Mudd ][:</a:t>
            </a:r>
            <a:br>
              <a:rPr sz="6600"/>
            </a:br>
            <a:br>
              <a:rPr sz="32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6502 Microprocessor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44197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158 Introduction to CMOS VLSI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7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AB89E-3BE0-4720-90CA-D6A5B1846ED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2133720"/>
            <a:ext cx="39625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4303440" cy="3092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38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2A2F9-9FD6-40EC-8F37-B5C014662F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04920" y="3962520"/>
            <a:ext cx="8534160" cy="25192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3280" y="1722600"/>
            <a:ext cx="368784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in mind at abstrac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linear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ebu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52880" y="533520"/>
            <a:ext cx="3810240" cy="374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D4093-B784-4FD5-8C9C-D610ED0CD3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87920" y="1676520"/>
            <a:ext cx="5356080" cy="42955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63520" y="1870200"/>
            <a:ext cx="90709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and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Re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d c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952D-6FB9-4329-9E8E-BEC4C22653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6502 used two-phase clo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s implements two-phase non-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 race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ph0 used to create ph1 &amp;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62120" y="4267080"/>
          <a:ext cx="761976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267080"/>
                    <a:ext cx="761976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8F12-B3AB-4B1E-8F27-7345F684CF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ck Gen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5029200" cy="379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1295280" y="1447920"/>
          <a:ext cx="6629400" cy="162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447920"/>
                    <a:ext cx="662940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34ADD-611C-4CF7-A017-723E41BCA5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dd ][ Critica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00200" y="1600200"/>
          <a:ext cx="586728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5867280" cy="51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84EC9-1E93-488B-A5A7-65F10B257F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zor L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33520" y="1752480"/>
          <a:ext cx="8229600" cy="456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229600" cy="456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18AB-81CD-4DF7-8644-7D503C053E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76520" y="1523880"/>
          <a:ext cx="5867280" cy="51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867280" cy="51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2514600" y="4495680"/>
            <a:ext cx="7621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A2BD-8992-40AB-8D14-CE4097BF11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ted by following schematics that followed the Register Transfer Level (RTL) description in the micro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eoffs between optimizing for min size, min power consumption, min area and max sp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4229D-D981-46D7-B6B5-A00EC098F8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 and Ripple Carry Ad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largest components in the floor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pple carry adder chosen to reduce amount of hardware needed for a comparable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828D-80FC-457E-B44C-B9981B150A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y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g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te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 chip with millions of transis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that the chip 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it consume minimal po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85B9-48B2-4FAC-B7BB-EAE1370CA8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4784760" cy="609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7FE0-7C62-45A8-936C-09B2A1E6F7A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280" y="1900080"/>
            <a:ext cx="8839440" cy="39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D9B32-E5A2-4125-A41A-B125F9D0B5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-nMOS NOR RO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number of states in controller F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power cost but without pMOS, saves space and delay without introducing timing challenges of dynamic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4B10-5744-4289-A604-AA473BADE7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7461" t="0" r="7461" b="7070"/>
          <a:stretch/>
        </p:blipFill>
        <p:spPr>
          <a:xfrm>
            <a:off x="4280040" y="685800"/>
            <a:ext cx="4529160" cy="5715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3873600" cy="2567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M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AB0E2-96E9-48DD-9B69-3456C373661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code 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373200" cy="647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A2ED-150A-4B84-A3A9-05E1572065E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1546200"/>
            <a:ext cx="9144000" cy="53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16FE1-5E82-4141-8E2E-C97159FD3B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d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that connects core to output p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ad for each pin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pa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dd • Gnd • Input • Output • In/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Vdd • Corn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4343400"/>
            <a:ext cx="7315200" cy="2490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705720" y="2590920"/>
            <a:ext cx="2141280" cy="259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B314E-C0DD-48D1-8C15-8F39575015A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Conver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577880" y="2031840"/>
          <a:ext cx="5986440" cy="37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31840"/>
                    <a:ext cx="598644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4E2C-B76F-4587-8554-2483B3DC38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Conver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77880" y="2031840"/>
          <a:ext cx="5986440" cy="37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2031840"/>
                    <a:ext cx="598644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57200" y="59436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ower 1.5 reference voltage will be seen as indeterminate in the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50480" y="54100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40640" y="50292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1087-60D9-40DA-BE88-BCF1371F5D1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d (Layout) with Level Conver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converter is long and narrow to f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2740320" cy="5410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4916520" cy="134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0C5A-9233-4311-A6EB-EB4313BBA33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e ][ 6502 Microproces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105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-bit micro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ruly low-cost micro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d for ~$25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SC (Complex Instruction Set Compu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ck speed: 1 M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goal: Minimize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3276360" cy="27162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562720" y="4876920"/>
            <a:ext cx="32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olarnavigator.net/computers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46B38-C1AC-42B8-9889-0219BDFC97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dframe (Layou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105520" cy="506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ACC4F-FA61-4D2F-B65E-259DBFD94B9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C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05120" y="1536840"/>
            <a:ext cx="5257800" cy="514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3BC9-A3F0-41B8-90D2-F6618D1DA1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L behavioral verification (Models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uites P and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C, NCC, E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of layout (Modelsi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SIM switch-level simulations of Suit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accurately model tran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 simulations of Suite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SIM models of transis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est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FA112-A4DB-449A-84E1-CA1C42AED4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l Tes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2400" y="1515960"/>
            <a:ext cx="2842920" cy="1830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53880" y="428148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928880" y="2936880"/>
            <a:ext cx="0" cy="1268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DB749-9660-4B8E-9812-80BD479157E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l Testing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22400" y="1515960"/>
            <a:ext cx="2842920" cy="18306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53880" y="4281480"/>
            <a:ext cx="2881440" cy="2160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657600" y="2438280"/>
            <a:ext cx="5335560" cy="34783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928880" y="2936880"/>
            <a:ext cx="0" cy="1268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35320" y="4933800"/>
            <a:ext cx="384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4EE8D-F2F8-4EDA-8A79-8D91296C0F8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p tester checks corner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ng oscillator checks padframe and level-conver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power vs. core vol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y razor l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C4C5-8862-4854-98E9-DBD716E16D8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 / 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communication is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ing how parts fit into wh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rge group project has prepared us for team interactions in our future car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54A50-3908-45A2-B22A-7BA419CF1E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229600" cy="248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4214B-AD0C-43A6-8CF8-86D64D3BC1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am Dyna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essor David Har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ief Circuit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haniel Pinck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hief Microarchit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as Bar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cro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ther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le Mar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Burk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vin Mura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son Squ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182880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zor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 Gor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ny Ev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Br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sha Ge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y He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M Gen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 Jeffr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/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 Huntzic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32D81-C9A2-48D5-9CDD-F9A6525711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 Technology 6502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is the programmer’s view of the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architecture defines implement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y specifies datapath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er file and processor fl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U (Arithmetic Logic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E8E9E-A4B9-4B3E-9249-A6282E9B7D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architectur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C requires complex controlling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d ][ datapath is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olling logic pushed into automatically synthesized R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down CISC instructions into “micro-o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path is extremely 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architectures can be implemented by changing th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66A36-2B2F-47AD-B38D-A2CA6146CB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er broken into two R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M groups commonly used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code ROM contains control signals specific to individu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8940-02C3-4C16-85AB-1A6368AD58A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676520"/>
            <a:ext cx="373356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L (Verilo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odule regfile(input         clk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        write_enabl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 [1:0]  read_addr_a,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_addr_b, write_addr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put  [7:0]  write_dat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utput [7:0]  read_data_a,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_data_b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g [7:0] reg_file [3:0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logic gated_clk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ssign gated_clk = clk &amp; write_enabl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hree ported register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ead two ports combinationa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write third port as la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lways_la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gated_clk) reg_file[write_addr] &lt;=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_dat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ssign read_data_a = reg_file[read_addr_a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ssign read_data_b = reg_file[read_addr_b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43400" y="1676520"/>
            <a:ext cx="445932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682880" cy="474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F5B3-0591-4940-9D2E-9DDF553128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33720" y="1758960"/>
            <a:ext cx="6359400" cy="5099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487520"/>
            <a:ext cx="800100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istor level sche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g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E9F16-53F0-4E8C-BF9A-9075D3C52C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22:48:57Z</dcterms:created>
  <dc:creator>Computing and Information Services</dc:creator>
  <dc:description/>
  <dc:language>en-US</dc:language>
  <cp:lastModifiedBy>Kyle Marsh</cp:lastModifiedBy>
  <dcterms:modified xsi:type="dcterms:W3CDTF">2008-05-07T09:30:49Z</dcterms:modified>
  <cp:revision>55</cp:revision>
  <dc:subject/>
  <dc:title>  The Mudd II:  A 6502 Microprocessor Implementation</dc:title>
</cp:coreProperties>
</file>