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5.png" ContentType="image/png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65938" cy="9151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BE533-6CA7-43B8-88FC-CFA060118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5E86B-E7EA-46FC-9B78-CB1ABB355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967A-E1BC-4168-8614-C11C56083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ACBBD-DCD7-4DA0-8381-F5AA1FB1B8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2144-3A81-4A81-9A96-9DC3A9A0A5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87E09-10B5-40E3-BCEF-332573ACF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0A01-516B-4B53-A1E5-DBB1EDBA3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53C6-A4D6-4CEC-B74C-391CE068C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1423-A57F-41AE-9F8B-0A00E7008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F77A9-DA23-4C75-83C0-98F401D72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1FC83-0B15-47F7-A45D-B9690F64C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6D221-D50C-4E73-84B4-BAEE3836D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D5292BC2-5E33-46D1-9593-7160A1A71E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8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SPICE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56033-5D5C-46A1-BEC8-A3F28FD55E1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62120" y="1523880"/>
          <a:ext cx="4876560" cy="395316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88D8F-FE4B-4E64-A107-FBDB074BC39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tsmc180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0.36u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0.18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8 0.05 SWEEP Vgs 0 1.8 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923C-AE06-4401-977D-5B8E8C4EF76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505320" y="1981080"/>
          <a:ext cx="5105160" cy="39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510516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46B89-09FC-455E-BD99-0EE21B06F8C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13E3-5301-459D-8A1A-8D2E932DBB42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9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tsmc180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572B6-FF19-4C57-9150-1E54C6CC011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3200" y="1995480"/>
          <a:ext cx="5715000" cy="39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995480"/>
                    <a:ext cx="5715000" cy="39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6B787-7B1B-466B-8947-E036B283EB4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B657-B759-43DF-8642-FFA92074222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9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tsmc180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100ps 100ps 500ps 10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C97F2-22C9-4F8A-BB5B-A7C567A6357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0DBF4-8349-4AA6-B512-9D9BA3B7494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600200"/>
          <a:ext cx="617220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17220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59B3-19EF-4D4B-BACB-88674853B6AE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94DC7-3694-42FC-BFD1-122742E5224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7EEE3-11E8-42D3-ABE4-4C16DBA527E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9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tsmc180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100ps 100ps 500ps 10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0820B-A90A-41C1-9C6A-B909179BB76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4A80-66D3-48E7-AAD1-D9744A21DDA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3.6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4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7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9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73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F827C-D068-4C14-A506-CFA9A00DDA8A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85021-D1CC-4C71-97B6-5D41FBEEE02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647F-9852-4BD4-93E1-A4E8D834B09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724280" y="2895480"/>
          <a:ext cx="3886200" cy="334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895480"/>
                    <a:ext cx="3886200" cy="33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17220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5 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D223-ECE3-44D6-80A4-9E5B13CF2A7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TSMC 180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762120" y="1981080"/>
            <a:ext cx="7772400" cy="267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DD3D6-39A9-4C20-B3A8-41997A86D53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914400" y="1523880"/>
            <a:ext cx="7086600" cy="451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D4852-122A-4645-B01A-1DD8F023380D}" type="slidenum">
              <a:t>28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’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BA88-0A2C-4A20-9403-3FAD01CE4C44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E2DDF-E4C3-4DC1-B18D-86C1CB0A8B1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8 800ps 1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8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A35DA-D6D4-424C-B992-E4933F15F30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Textu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1447920"/>
            <a:ext cx="4648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: v(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b: v(ou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       v(i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(ab      )       0.          500.0000m       1.0000        1.5000       2.0000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    +             +             +       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0.         0.    -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+------+------+------+------+------+------+------+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0.0000p    0.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      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0.0000p    0.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      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0.0000p    0.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      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80.0000p    0.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      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00.0000p    0.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2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      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20.0000p  720.000m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+      +     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40.0000p    1.440  +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    + 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60.0000p    1.800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   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80.0000p    1.800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  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00.0000p    1.800 -+------+------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+------+------+------+------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+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20.0000p    1.800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40.0000p    1.800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60.0000p    1.800  +      +      +      +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80.0000p    1.800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300.0000p    1.800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320.0000p    1.800  +      +      +      +      +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340.0000p    1.800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360.0000p    1.800  +      +      +      +      + 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380.0000p    1.800  +    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00.0000p    1.800 -+------+------+------+------+------+--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+------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+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20.0000p    1.800  +      +      +      +      +      +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40.0000p    1.800  +    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60.0000p    1.800  +      +    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80.0000p    1.800  +      +      +      +      +      + 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00.0000p    1.800  +      +    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20.0000p    1.800  +      +      +      +      +      + 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40.0000p    1.800  +      +      +      +      +      +      +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60.0000p    1.800  +      +      +      +      +      +      +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80.0000p    1.800  +      +      +      +      +      +      +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00.0000p    1.800 -+------+------+------+------+------+------+---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+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20.0000p    1.800  +      +      +      +      +      +      +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40.0000p    1.800  +      +    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60.0000p    1.800  +      +    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680.0000p    1.800  +      +      +      +      +      +      +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700.0000p    1.800  +      +      +    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720.0000p    1.800  +      +      +    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740.0000p    1.800  +      +      +    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760.0000p    1.800  +      +      +      +      +      +      +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780.0000p    1.800  +      +      +      +      +      +      +      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+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800.0000p    1.800 -+------+------+------+------+------+------+------</a:t>
            </a:r>
            <a:r>
              <a:rPr b="0" lang="en-US" sz="600" spc="-1" strike="noStrike">
                <a:solidFill>
                  <a:srgbClr val="0000ff"/>
                </a:solidFill>
                <a:latin typeface="Courier New"/>
                <a:ea typeface="Courier New"/>
              </a:rPr>
              <a:t>ba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+-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+             +             +             +             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7067E-1082-49DA-BEDF-2B24C4D3E8F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600200"/>
          <a:ext cx="5867640" cy="439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586764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ADF92-9FCC-489F-A7D9-9171A116B58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8 800ps 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8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AECA1-2B6B-4B09-92B4-79DA2D51C8B1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75" name="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76" name="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2" name="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71236-D21A-4F29-8B74-4EB9B51BF8C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06:52:41Z</dcterms:modified>
  <cp:revision>959</cp:revision>
  <dc:subject/>
  <dc:title>PowerPoint Presentation</dc:title>
</cp:coreProperties>
</file>