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B380-B050-49F8-A0C0-5FF4553EF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7660-3361-4B59-AF45-2F635C836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75CF-353C-499E-AE4B-5452B63D9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2DDC-8B6D-46D9-9A5A-769537A95C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BE6A-7775-46A4-890F-31944684E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2448-3880-4095-BA28-023F8DAA0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FA35-9394-4E92-8940-AB47F7915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0871-5F38-4AD5-A677-FDFB4E5C6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BF6F-2DE0-478A-AEBD-56CF09ECA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AD33-1AC7-431B-AB6E-86170D2B9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4307-2098-40EC-92B6-715F54DEA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7E0C-1C57-428D-B092-3D8CAB711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372F844-8014-4D0D-96B5-E1686CDAF4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8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PICE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3A0C-6A7A-4A04-9955-83A3FEF1E4C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DC4D-642D-498E-9569-9473BF01DDC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0.36u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0.18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8 0.05 SWEEP Vgs 0 1.8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2D96-135F-4A45-8C41-BD1AE4BDDE2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05320" y="1981080"/>
          <a:ext cx="510516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51051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4B1A-4291-4971-8E25-33A353D2252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05D8-DAAE-4352-BD7F-6018B8AF9F1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8AD2-9C65-4B90-A7D6-50C35D616A5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3200" y="1995480"/>
          <a:ext cx="571500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95480"/>
                    <a:ext cx="57150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8DA8-1251-4C23-92E9-DCD3EF13D7B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A381-5820-45A5-B09B-4AC39CC582E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100ps 100ps 500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8F56-2C8B-4398-895D-BBFB2879686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03AA-EB70-4DEE-A3E2-1E3C5510D6E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600200"/>
          <a:ext cx="61722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1722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7538-8528-4D52-B908-0BF02769809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5CDB-E879-48E9-9F20-CE398783BA2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9055-621D-48F7-9E80-041B6167866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100ps 100ps 500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D166-5943-48D3-AFBF-B56677B41F6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AEB9-F3CF-4533-85E6-30D223A2C9E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3.6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4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7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9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3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824D-F182-46DB-A65A-11B75E003A1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EC45-27CA-4502-BB45-8F8E90A7A74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6F91-85FD-4AEF-AFBA-5492B8F5363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24280" y="2895480"/>
          <a:ext cx="388620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895480"/>
                    <a:ext cx="38862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1722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FC80-3BDA-42FA-AD64-CD6E76BAAC3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TSMC 180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1981080"/>
            <a:ext cx="777240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BA94-5739-4EBA-9709-FA6BFD04446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523880"/>
            <a:ext cx="708660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6975-DE74-4F1D-B904-FE9E69DCACC2}" type="slidenum">
              <a:t>28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7D80-DB1C-455E-A109-C7AE54AC58B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C072-F83E-4ADA-B64A-4465F58CC12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8 800ps 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8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B103-F814-42B5-870C-BDF309A49B9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Textu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1447920"/>
            <a:ext cx="4648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v(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v(ou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      v(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(ab      )       0.          500.0000m       1.0000        1.5000       2.0000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+             +             +       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.         0.    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+------+------+------+------+------+------+-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8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0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20.0000p  720.000m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40.0000p    1.440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60.0000p    1.800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80.0000p    1.800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.0000p    1.800 -+---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-----+------+---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20.0000p    1.800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40.0000p    1.800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60.0000p    1.800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80.0000p    1.800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00.0000p    1.800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20.0000p    1.800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40.0000p    1.800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60.0000p    1.800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80.0000p    1.800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00.0000p    1.800 -+------+------+------+------+------+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20.0000p    1.800  +      +    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40.0000p    1.800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60.0000p    1.800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80.0000p    1.800  +    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00.0000p    1.800  + 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20.0000p    1.800  + 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40.0000p    1.800  +      +      +      +      +      +      +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60.0000p    1.800  +      +    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80.0000p    1.800  +      +    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00.0000p    1.800 -+------+------+------+------+------+------+-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20.0000p    1.800  +      +      +    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4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6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8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0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2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4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6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80.0000p    1.800  +      +    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.0000p    1.800 -+------+------+------+------+------+------+----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+             +             +             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BCCC-57A7-47BF-A491-B42FF5E3AFC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600200"/>
          <a:ext cx="586764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586764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0A60-58A2-4F88-9B96-CB19EA94B71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8 800ps 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8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C375-B9DC-4980-9F53-4F454BAB1A1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5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D94F-DFB8-48AE-B285-8270E09F772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2:41Z</dcterms:modified>
  <cp:revision>959</cp:revision>
  <dc:subject/>
  <dc:title>PowerPoint Presentation</dc:title>
</cp:coreProperties>
</file>