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90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69.wmf" ContentType="image/x-wmf"/>
  <Override PartName="/ppt/media/image71.wmf" ContentType="image/x-wmf"/>
  <Override PartName="/ppt/media/image1.png" ContentType="image/png"/>
  <Override PartName="/ppt/media/image29.wmf" ContentType="image/x-wmf"/>
  <Override PartName="/ppt/media/image68.wmf" ContentType="image/x-wmf"/>
  <Override PartName="/ppt/media/image70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14.wmf" ContentType="image/x-wmf"/>
  <Override PartName="/ppt/media/image28.wmf" ContentType="image/x-wmf"/>
  <Override PartName="/ppt/media/image93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CE663-403D-4187-9F61-377FEFEB0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D7C12-5E4F-4BA2-AB1F-BA02EEA79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322D1-18DB-4FB2-A9A4-D77AA3961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DF388-FD44-4606-834B-3DAB521FAD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44218-CD36-4A84-8DE7-C8FA35854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99B9-35AC-4B37-BA6A-0FB00C539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2297D-8284-4736-852B-4AE399FF0A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8841-A4A4-44B2-AE23-BDAC3BE38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ACDDB-68B2-4079-A874-7775ED726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4B8A-A143-4453-B22C-429DD0AA7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ABA2-D74C-4990-9C1D-2BE8019BD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6EDF6-A6C1-48C3-86F7-2D17FC30B8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F43F85B4-9FFA-4DDC-85CF-ED4632E5222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8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8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8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8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88.wmf"/><Relationship Id="rId3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3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6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ogical Effor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4884E-A223-4027-AE1C-7CB5D18ECDA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E04B5-5D91-4290-8D90-8638A0F40EE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4A063-A927-435F-8E12-B8092ED0C8CD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286000" y="2362320"/>
          <a:ext cx="4572000" cy="36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457200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AFB1C-2625-416F-A134-B699D27A87A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86000" y="2362320"/>
          <a:ext cx="4572000" cy="36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362320"/>
                    <a:ext cx="4572000" cy="36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1127-CE80-4C44-8D8A-598E0FE656C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95280" y="2438280"/>
          <a:ext cx="632484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63248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C4514-65B6-4A97-BE54-CDD0B90B6495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more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ransistors look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 or pulldown network model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more delay of 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3984480"/>
          <a:ext cx="6019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84480"/>
                    <a:ext cx="6019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41641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2743200"/>
          <a:ext cx="779472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94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AEBB8-D0EF-44E9-9B9D-5D1CC13DF89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worst-case rising and falling delay of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75DD-31A9-4E27-AE29-5AA46D53AE7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rising and falling propagation delays of a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F027-331D-4FFB-ADE5-811DE851B20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alling propagation delays of a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219320" y="4648320"/>
          <a:ext cx="1600200" cy="14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160020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2971800" y="5105520"/>
          <a:ext cx="890640" cy="591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5105520"/>
                    <a:ext cx="890640" cy="59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1AB0-8685-4F04-86A6-FB63396BBDC3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alling propagation delays of a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1219320" y="4648320"/>
          <a:ext cx="1600200" cy="14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160020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2971800" y="5057640"/>
          <a:ext cx="2743200" cy="63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1800" y="5057640"/>
                    <a:ext cx="274320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4A74-A774-466E-811A-ECD30E8A790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a Log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Logi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E4145-E72B-436B-83A7-0DEDF64E29E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rising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agation delays of a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C45E-44E1-4F37-AA06-75CFDAEB438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rising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agation delays of a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657600" y="5029200"/>
          <a:ext cx="925560" cy="5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57600" y="5029200"/>
                    <a:ext cx="92556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85800" y="4840200"/>
          <a:ext cx="2666880" cy="114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4840200"/>
                    <a:ext cx="266688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BD4D-1D60-4C38-BD1E-D3ACE225E43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2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rising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agation delays of a 2-input NAND driv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dentical g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5105520" y="2362320"/>
          <a:ext cx="30477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0477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85800" y="2590920"/>
          <a:ext cx="42670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59092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3200400" y="4648320"/>
          <a:ext cx="5524560" cy="129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648320"/>
                    <a:ext cx="5524560" cy="12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685800" y="4840200"/>
          <a:ext cx="2666880" cy="114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4840200"/>
                    <a:ext cx="2666880" cy="11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08AAE-2D11-4178-A0A2-AE15DEAF20C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Compon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or 7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h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lo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287D-804A-477F-A67D-5A28968F624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mination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-case (contamination) delay can be substantially less than propagation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f both inputs fall simultane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5800" y="2743200"/>
          <a:ext cx="4267080" cy="20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42670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219320" y="4648320"/>
          <a:ext cx="1600200" cy="14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648320"/>
                    <a:ext cx="1600200" cy="14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3008160" y="5057640"/>
          <a:ext cx="2668680" cy="63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8160" y="5057640"/>
                    <a:ext cx="2668680" cy="6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4947B-12FF-4954-8CF7-238A2E879D6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600200" y="3621240"/>
          <a:ext cx="5867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21240"/>
                    <a:ext cx="5867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ontacted diffusion on every s /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yout minimizes diffus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3 layout shares one diffusio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utput capacitance by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uncontacted diffusion might help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F53D-A9E6-4D30-8FE9-6B9000444C2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 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yout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838080" y="2209680"/>
          <a:ext cx="73152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3152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92A1D-74EA-4639-9931-E19ABDEB5A6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designers face a bewildering array of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circuit topology for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of logic give least de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de should the transistor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effort is a method to make thes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model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ack-of-the-envelop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make rapid comparisons betwee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remarkable sym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086600" y="1752480"/>
          <a:ext cx="13683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752480"/>
                    <a:ext cx="1368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2E7DB-CD56-4D5F-BAF0-0F1EADEE995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C0638-696A-4CDC-B303-DA7C1F3AD55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1981080"/>
          <a:ext cx="1269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1269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5334120" y="1981080"/>
            <a:ext cx="3200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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3R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ps in 180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7287-72B0-4E7E-B122-7A833CDEB4F6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Dela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valent circuits for 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switch + capacitance and ON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MOS has resistance 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MOS has resistance 2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versely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4038480"/>
          <a:ext cx="75438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5438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A5768-6507-410F-96C9-5B4038843FE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19320" y="1981080"/>
          <a:ext cx="1269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1269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219320" y="3429000"/>
          <a:ext cx="15112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1511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E2057-3E07-4F4F-86D3-6B1D391A3C1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19320" y="1981080"/>
          <a:ext cx="1269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1269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1219320" y="3429000"/>
          <a:ext cx="15112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1511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CA3DA-D8D5-4226-BAE1-0DE17DB47955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 dela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relative ability of gate to deliver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for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219320" y="1981080"/>
          <a:ext cx="1269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1269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219320" y="3429000"/>
          <a:ext cx="15112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1511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D429E-73E6-4A39-86F0-A525CD9E02C4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 dela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 = g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output to input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fan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219320" y="1981080"/>
          <a:ext cx="1269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1269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219320" y="3429000"/>
          <a:ext cx="15112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1511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7B5CE-A27E-432D-BBFF-CA6A357614D5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delay of gate driving no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internal parasitic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219320" y="1981080"/>
          <a:ext cx="1269720" cy="88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126972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219320" y="3429000"/>
          <a:ext cx="15112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429000"/>
                    <a:ext cx="15112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A9AE7-9D6B-410C-A91B-C59FA6B064D9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1A8E-D74D-4B04-846D-FE8D79804D84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F294-C54A-40E9-B591-0AE51B2F7BA1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uting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ogical effort is the ratio of the input capacitance of a gate to the input capacitance of an inverter delivering the same output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from delay vs. fanout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by counting transistor 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219320" y="3657600"/>
          <a:ext cx="61722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172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D7D6-3A69-43C9-B89F-540A4487C14F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+2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n+1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12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16, 1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4EB42-DEA7-455B-B7AF-4E5D74D87A48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ltiples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5141F-0748-46F4-9184-4FB3CDD11AE9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Val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of gate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imilar across many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u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with shorter channe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minimum contacted device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matter as long as you ar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331C-4B85-4C33-B3F9-DB2DE1354CCB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895AD-F86A-4A26-94D9-EB362079BF37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(2*N*d) = 1/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5638680" y="3733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stage ring oscillator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 has frequency of ~ 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8E4F4-C8F4-4475-967D-C771D9F5DBA8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9C188-B438-48F3-94C9-095E82A37E5A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4952880" y="41911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4 delay is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 ps in a 180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/3 ns in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56E3-BF10-4B4A-9566-096F587F221E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324320" y="2666880"/>
          <a:ext cx="18288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4320" y="2666880"/>
                    <a:ext cx="182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1371600" y="4572000"/>
          <a:ext cx="640080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64008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8D7F2-0493-4EC4-B381-489B091848CB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write F = 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267080" y="2666880"/>
          <a:ext cx="1943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94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DCAB-0933-4BAC-BF13-728449546C10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5152D-8D8C-4E62-B5EA-40F6C23C21C7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5 +15) / 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1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= 2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7765-CE15-4408-BD5F-2E8B59804DC4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anching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branching between stages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ompute th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1562040" y="2514600"/>
          <a:ext cx="2933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514600"/>
                    <a:ext cx="2933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1523880" y="3733920"/>
          <a:ext cx="1447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447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6324480" y="3962520"/>
          <a:ext cx="1778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177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625032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0370B-300C-4C23-8C99-BD63E9BC007C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Del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4419720" y="1523880"/>
          <a:ext cx="1638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1638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4419720" y="2362320"/>
          <a:ext cx="14475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447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4419720" y="3200400"/>
          <a:ext cx="29336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004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BDEF-108D-4931-8DCB-1EFD3194E979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FCD3A-965C-4478-91B4-DD5FDED75C9D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ing Fast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s smallest when each stage bears sam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minimum delay of N stage pa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astest possibl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require calculating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219320" y="1600200"/>
          <a:ext cx="29336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1295280" y="2895480"/>
          <a:ext cx="21211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2121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219320" y="4038480"/>
          <a:ext cx="208260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2082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143000" y="4038480"/>
            <a:ext cx="2286000" cy="609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6132-75ED-4359-8B72-B25592A757D3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he gates be for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backward, apply capacitance transformation to find input capacitance of each gate given load it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ork by verifying input cap spec is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143000" y="2209680"/>
          <a:ext cx="26416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6416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8FAE3-243A-400B-B49B-6CFD6904A8A1}" type="slidenum">
              <a:t>51</a:t>
            </a:fld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ate sizes x and y for least delay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838080" y="2057400"/>
          <a:ext cx="739152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B81D-D7C5-4B2B-B4B9-93FD3202ED3A}" type="slidenum">
              <a:t>52</a:t>
            </a:fld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"/>
          <p:cNvGraphicFramePr/>
          <p:nvPr/>
        </p:nvGraphicFramePr>
        <p:xfrm>
          <a:off x="4114800" y="4572000"/>
          <a:ext cx="6094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6094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3874-F4F4-4199-8AE3-45151BA36A2E}" type="slidenum">
              <a:t>53</a:t>
            </a:fld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4/3)*(5/3)*(5/3) = 100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5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3 *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+ 3 +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3*5 + 7 = 22 = 4.4 F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"/>
          <p:cNvGraphicFramePr/>
          <p:nvPr/>
        </p:nvGraphicFramePr>
        <p:xfrm>
          <a:off x="4114800" y="4572000"/>
          <a:ext cx="18032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1803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60D34-312E-4992-AE15-F99A9B9B15DF}" type="slidenum">
              <a:t>54</a:t>
            </a:fld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95280" y="2973240"/>
          <a:ext cx="55627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3240"/>
                    <a:ext cx="55627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7E778-948C-41C1-8E52-7599017993A4}" type="slidenum">
              <a:t>55</a:t>
            </a:fld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45 * (5/3) / 5 =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15*2) * (5/3) / 5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1219320" y="3124080"/>
          <a:ext cx="60958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60958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53E9-F1FB-41F2-8681-3A6615919463}" type="slidenum">
              <a:t>56</a:t>
            </a:fld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F6A5-E56B-4CD8-A229-E4784E4632CB}" type="slidenum">
              <a:t>57</a:t>
            </a:fld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(6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F613-1290-4E4B-9E43-BD3999101708}" type="slidenum">
              <a:t>58</a:t>
            </a:fld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dding inverters to end of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ive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best stag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4120" y="2057400"/>
          <a:ext cx="3276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276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685800" y="2438280"/>
          <a:ext cx="48132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48132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85800" y="3429000"/>
          <a:ext cx="48895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488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1676520" y="5334120"/>
          <a:ext cx="31496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149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572000" y="4495680"/>
          <a:ext cx="114300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95680"/>
                    <a:ext cx="1143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BC581-C8C3-4FE3-9F90-5FDF9D7E169A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16230-2568-468B-B6C1-320BEF60BD74}" type="slidenum">
              <a:t>6</a:t>
            </a:fld>
          </a:p>
        </p:txBody>
      </p:sp>
    </p:spTree>
  </p:cSld>
  <p:transition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Stage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losed-fo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ing parasitics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, we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718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solve numerical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1219320" y="1523880"/>
          <a:ext cx="3149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149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BC88C-0F88-4FC4-85C8-4AE824CFCA32}" type="slidenum">
              <a:t>60</a:t>
            </a:fld>
          </a:p>
        </p:txBody>
      </p:sp>
    </p:spTree>
  </p:cSld>
  <p:transition>
    <p:zoom dir="ou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ensitive is delay to using exactly the best number of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 gives delay within 15% of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e slop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4038480" y="1981080"/>
          <a:ext cx="40388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81080"/>
                    <a:ext cx="40388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E6E10-8DEA-4519-A8F6-03F234CCC686}" type="slidenum">
              <a:t>61</a:t>
            </a:fld>
          </a:p>
        </p:txBody>
      </p:sp>
    </p:spTree>
  </p:cSld>
  <p:transition>
    <p:zoom dir="ou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,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82C8-4E33-4F44-ACAF-6482498C0336}" type="slidenum">
              <a:t>62</a:t>
            </a:fld>
          </a:p>
        </p:txBody>
      </p:sp>
    </p:spTree>
  </p:cSld>
  <p:transition>
    <p:zoom dir="ou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24276-BCAF-4642-8703-C9F5C7C74DCD}" type="slidenum">
              <a:t>63</a:t>
            </a:fld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(32*3) / 10 =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7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3-stag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D6C9-712B-432A-9469-363EC8DC9BD7}" type="slidenum">
              <a:t>64</a:t>
            </a:fld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y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3505320" y="2362320"/>
          <a:ext cx="60948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6094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"/>
          <p:cNvGraphicFramePr/>
          <p:nvPr/>
        </p:nvGraphicFramePr>
        <p:xfrm>
          <a:off x="3479760" y="2971800"/>
          <a:ext cx="63504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79760" y="2971800"/>
                    <a:ext cx="6350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E811-824D-4521-BC43-2B3B96475177}" type="slidenum">
              <a:t>65</a:t>
            </a:fld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6/3 *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*1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    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*2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3505320" y="2362320"/>
          <a:ext cx="23367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3367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"/>
          <p:cNvGraphicFramePr/>
          <p:nvPr/>
        </p:nvGraphicFramePr>
        <p:xfrm>
          <a:off x="3505320" y="2819520"/>
          <a:ext cx="3670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367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E0865-640B-4BE6-9FC6-EDC510729791}" type="slidenum">
              <a:t>66</a:t>
            </a:fld>
          </a:p>
        </p:txBody>
      </p:sp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any alternatives with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219320" y="2209680"/>
          <a:ext cx="6476760" cy="3557880"/>
        </p:xfrm>
        <a:graphic>
          <a:graphicData uri="http://schemas.openxmlformats.org/drawingml/2006/table">
            <a:tbl>
              <a:tblPr/>
              <a:tblGrid>
                <a:gridCol w="4038480"/>
                <a:gridCol w="457200"/>
                <a:gridCol w="762120"/>
                <a:gridCol w="457200"/>
                <a:gridCol w="761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V-NAND4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-INV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-INV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ND2-INV-NAND2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-NAND2-INV-NAND2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INV-NAND2-INV-INV-IN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008D-F52A-4924-BB15-B85D7677C56A}" type="slidenum">
              <a:t>67</a:t>
            </a:fld>
          </a:p>
        </p:txBody>
      </p: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 of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685800" y="1676520"/>
          <a:ext cx="7696080" cy="4008240"/>
        </p:xfrm>
        <a:graphic>
          <a:graphicData uri="http://schemas.openxmlformats.org/drawingml/2006/table">
            <a:tbl>
              <a:tblPr/>
              <a:tblGrid>
                <a:gridCol w="2678040"/>
                <a:gridCol w="2509920"/>
                <a:gridCol w="250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ic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0" name=""/>
          <p:cNvGraphicFramePr/>
          <p:nvPr/>
        </p:nvGraphicFramePr>
        <p:xfrm>
          <a:off x="5943600" y="2590920"/>
          <a:ext cx="9525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5950080" y="3009960"/>
          <a:ext cx="939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009960"/>
                    <a:ext cx="939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5943600" y="2209680"/>
          <a:ext cx="2286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09680"/>
                    <a:ext cx="228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5969160" y="3505320"/>
          <a:ext cx="90144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9160" y="3505320"/>
                    <a:ext cx="901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5950080" y="3943440"/>
          <a:ext cx="939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0080" y="39434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5911920" y="4343400"/>
          <a:ext cx="101592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1920" y="4343400"/>
                    <a:ext cx="1015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5943600" y="4876920"/>
          <a:ext cx="90180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876920"/>
                    <a:ext cx="9018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5943600" y="5257800"/>
          <a:ext cx="1866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257800"/>
                    <a:ext cx="1866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"/>
          <p:cNvGraphicFramePr/>
          <p:nvPr/>
        </p:nvGraphicFramePr>
        <p:xfrm>
          <a:off x="3429000" y="3048120"/>
          <a:ext cx="66024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29000" y="3048120"/>
                    <a:ext cx="660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8" name=""/>
          <p:cNvGraphicFramePr/>
          <p:nvPr/>
        </p:nvGraphicFramePr>
        <p:xfrm>
          <a:off x="3429000" y="3429000"/>
          <a:ext cx="13082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3429000"/>
                    <a:ext cx="130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0" name=""/>
          <p:cNvGraphicFramePr/>
          <p:nvPr/>
        </p:nvGraphicFramePr>
        <p:xfrm>
          <a:off x="3429000" y="3962520"/>
          <a:ext cx="6858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39625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429000" y="4419720"/>
          <a:ext cx="20304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419720"/>
                    <a:ext cx="20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3429000" y="4952880"/>
          <a:ext cx="190440" cy="216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952880"/>
                    <a:ext cx="1904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"/>
          <p:cNvGraphicFramePr/>
          <p:nvPr/>
        </p:nvGraphicFramePr>
        <p:xfrm>
          <a:off x="3429000" y="5334120"/>
          <a:ext cx="92700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334120"/>
                    <a:ext cx="92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3429000" y="2666880"/>
          <a:ext cx="177840" cy="216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2666880"/>
                    <a:ext cx="1778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429000" y="2209680"/>
          <a:ext cx="114480" cy="216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9000" y="22096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7FEA-2B03-48D8-BF88-FB0C89545700}" type="slidenum">
              <a:t>68</a:t>
            </a:fld>
          </a:p>
        </p:txBody>
      </p: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path with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leas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est stag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6400800" y="1600200"/>
          <a:ext cx="1231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600200"/>
                    <a:ext cx="1231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6400800" y="205740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"/>
          <p:cNvGraphicFramePr/>
          <p:nvPr/>
        </p:nvGraphicFramePr>
        <p:xfrm>
          <a:off x="6400800" y="2819520"/>
          <a:ext cx="16765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1676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6400800" y="3352680"/>
          <a:ext cx="939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352680"/>
                    <a:ext cx="939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"/>
          <p:cNvGraphicFramePr/>
          <p:nvPr/>
        </p:nvGraphicFramePr>
        <p:xfrm>
          <a:off x="6400800" y="4038480"/>
          <a:ext cx="15494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038480"/>
                    <a:ext cx="154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69F3C-549E-46CC-BC3E-66E8DCE3D2AC}" type="slidenum">
              <a:t>69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49CE3-DBE0-446C-907C-327474E6F756}" type="slidenum">
              <a:t>7</a:t>
            </a:fld>
          </a:p>
        </p:txBody>
      </p:sp>
    </p:spTree>
  </p:cSld>
  <p:transition>
    <p:zoom dir="ou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s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and eg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h to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’t know number of stages withou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stic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s input rise ti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required in designs wit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spee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inimum area/power for constrain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BD663-74F3-4E98-9880-192A9F923A77}" type="slidenum">
              <a:t>70</a:t>
            </a:fld>
          </a:p>
        </p:txBody>
      </p:sp>
    </p:spTree>
  </p:cSld>
  <p:transition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useful for thinking of delay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ogical effort characterize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re faster than NORs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are fastest when effort delays are ~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 is weakly sensitive to stages,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sing fewer stages doesn’t mean fast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of path is abou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FO4 invert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NAND2 best for driving large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nguage for discussing fa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quires practice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6B5C-4FFB-4633-B05D-ABE90363E36F}" type="slidenum">
              <a:t>71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6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FBBB-E6FB-48D5-AC8F-02029059F2D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5BD8-3605-443C-BBFE-4976AAD7661F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6:50:26Z</dcterms:modified>
  <cp:revision>795</cp:revision>
  <dc:subject/>
  <dc:title>PowerPoint Presentation</dc:title>
</cp:coreProperties>
</file>