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2.wmf" ContentType="image/x-wmf"/>
  <Override PartName="/ppt/media/image31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36.wmf" ContentType="image/x-wmf"/>
  <Override PartName="/ppt/media/image22.wmf" ContentType="image/x-wmf"/>
  <Override PartName="/ppt/media/image59.wmf" ContentType="image/x-wmf"/>
  <Override PartName="/ppt/media/image23.wmf" ContentType="image/x-wmf"/>
  <Override PartName="/ppt/media/image60.wmf" ContentType="image/x-wmf"/>
  <Override PartName="/ppt/media/image24.wmf" ContentType="image/x-wmf"/>
  <Override PartName="/ppt/media/image61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89.wmf" ContentType="image/x-wmf"/>
  <Override PartName="/ppt/media/image77.wmf" ContentType="image/x-wmf"/>
  <Override PartName="/ppt/media/image25.wmf" ContentType="image/x-wmf"/>
  <Override PartName="/ppt/media/image90.wmf" ContentType="image/x-wmf"/>
  <Override PartName="/ppt/media/image88.wmf" ContentType="image/x-wmf"/>
  <Override PartName="/ppt/media/image76.wmf" ContentType="image/x-wmf"/>
  <Override PartName="/ppt/media/image87.wmf" ContentType="image/x-wmf"/>
  <Override PartName="/ppt/media/image75.wmf" ContentType="image/x-wmf"/>
  <Override PartName="/ppt/media/image79.wmf" ContentType="image/x-wmf"/>
  <Override PartName="/ppt/media/image78.wmf" ContentType="image/x-wmf"/>
  <Override PartName="/ppt/media/image74.wmf" ContentType="image/x-wmf"/>
  <Override PartName="/ppt/media/image73.wmf" ContentType="image/x-wmf"/>
  <Override PartName="/ppt/media/image72.wmf" ContentType="image/x-wmf"/>
  <Override PartName="/ppt/media/image2.png" ContentType="image/png"/>
  <Override PartName="/ppt/media/image69.wmf" ContentType="image/x-wmf"/>
  <Override PartName="/ppt/media/image71.wmf" ContentType="image/x-wmf"/>
  <Override PartName="/ppt/media/image1.png" ContentType="image/png"/>
  <Override PartName="/ppt/media/image29.wmf" ContentType="image/x-wmf"/>
  <Override PartName="/ppt/media/image68.wmf" ContentType="image/x-wmf"/>
  <Override PartName="/ppt/media/image70.wmf" ContentType="image/x-wmf"/>
  <Override PartName="/ppt/media/image21.wmf" ContentType="image/x-wmf"/>
  <Override PartName="/ppt/media/image58.wmf" ContentType="image/x-wmf"/>
  <Override PartName="/ppt/media/image20.wmf" ContentType="image/x-wmf"/>
  <Override PartName="/ppt/media/image57.wmf" ContentType="image/x-wmf"/>
  <Override PartName="/ppt/media/image14.wmf" ContentType="image/x-wmf"/>
  <Override PartName="/ppt/media/image28.wmf" ContentType="image/x-wmf"/>
  <Override PartName="/ppt/media/image93.wmf" ContentType="image/x-wmf"/>
  <Override PartName="/ppt/media/image91.wmf" ContentType="image/x-wmf"/>
  <Override PartName="/ppt/media/image26.wmf" ContentType="image/x-wmf"/>
  <Override PartName="/ppt/media/image80.wmf" ContentType="image/x-wmf"/>
  <Override PartName="/ppt/media/image15.wmf" ContentType="image/x-wmf"/>
  <Override PartName="/ppt/media/image3.wmf" ContentType="image/x-wmf"/>
  <Override PartName="/ppt/media/image33.wmf" ContentType="image/x-wmf"/>
  <Override PartName="/ppt/media/image92.wmf" ContentType="image/x-wmf"/>
  <Override PartName="/ppt/media/image27.wmf" ContentType="image/x-wmf"/>
  <Override PartName="/ppt/media/image81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82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6.wmf" ContentType="image/x-wmf"/>
  <Override PartName="/ppt/media/image18.wmf" ContentType="image/x-wmf"/>
  <Override PartName="/ppt/media/image8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</p:sldIdLst>
  <p:sldSz cx="9144000" cy="6858000"/>
  <p:notesSz cx="6958013" cy="9244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8DCD7-C3DC-4E67-B1E0-8D8509C0D0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4AE70-DB52-4F42-B5AF-4F459DF24C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8599E-A371-4B7A-8504-591533DC44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23BA6-701C-4D72-8DF4-8C50D957B1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36A81-8A67-48EC-A796-4CFD21B478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71406-42BD-459D-9EA0-09A3F3521D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41806-4284-4015-B7EE-97E8FE798F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3D993-9D27-44F2-924C-B0978B70B3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136EE-9C19-4A7C-9139-6D8880893A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48A6E-5466-44D7-A3A7-ABBA00ABA6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22D66-088E-41FE-95B4-F38DEF291A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73F5A-8E65-4061-8C3D-17AA38E424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Slide </a:t>
            </a:r>
            <a:fld id="{B5BB9B99-3E6F-4143-8F94-771EBA1D9E0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4.wmf"/><Relationship Id="rId9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3.wmf"/><Relationship Id="rId7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9.wmf"/><Relationship Id="rId7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2.wmf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4.wmf"/><Relationship Id="rId7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wmf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wmf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7.wmf"/><Relationship Id="rId5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8.wmf"/><Relationship Id="rId5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wmf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wmf"/><Relationship Id="rId3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wmf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6.wmf"/><Relationship Id="rId1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5.wmf"/><Relationship Id="rId3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7.wmf"/><Relationship Id="rId3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0.wmf"/><Relationship Id="rId7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2.wmf"/><Relationship Id="rId7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8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8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83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84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85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86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87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88.wmf"/><Relationship Id="rId33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3.wmf"/><Relationship Id="rId1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roduction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MOS VLSI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</a:t>
            </a:r>
            <a:br>
              <a:rPr sz="3600"/>
            </a:br>
            <a:br>
              <a:rPr sz="2800"/>
            </a:b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Lecture 6: 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Logical Effor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29528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ar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vey Mudd Colle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ring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505320" y="4648320"/>
            <a:ext cx="2133360" cy="1284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BA969-FB50-4600-A0DB-0D68491F3CCA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3-input NAND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tch a 3-input NAND with transistor widths chosen to achieve effective rise and fall resistances equal to a unit inverter (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2971800" y="2819520"/>
          <a:ext cx="3352680" cy="297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2819520"/>
                    <a:ext cx="3352680" cy="29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3DE27-1D0B-47A3-9FD8-844419DEAA07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3-input NAND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tch a 3-input NAND with transistor widths chosen to achieve effective rise and fall resistances equal to a unit inverter (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2819520"/>
          <a:ext cx="3352680" cy="297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2819520"/>
                    <a:ext cx="3352680" cy="29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DB3F4-8804-4CDE-A8CC-B5776C2122D7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3-input NAND Cap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otate the 3-input NAND gate with gate and diffusion capacit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286000" y="2362320"/>
          <a:ext cx="4572000" cy="362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362320"/>
                    <a:ext cx="4572000" cy="36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46B13-C27F-4B43-95D9-40DE5945FF7E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3-input NAND Cap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otate the 3-input NAND gate with gate and diffusion capacit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86000" y="2362320"/>
          <a:ext cx="4572000" cy="362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362320"/>
                    <a:ext cx="4572000" cy="36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58E5C-BC42-4F77-AEFC-DCBDCF4281BF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3-input NAND Cap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otate the 3-input NAND gate with gate and diffusion capacit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295280" y="2438280"/>
          <a:ext cx="6324840" cy="338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438280"/>
                    <a:ext cx="6324840" cy="33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E602B-A563-4128-B243-5670BAFDA063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lmore Dela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ransistors look like re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lup or pulldown network modeled a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C l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more delay of RC l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752480" y="3984480"/>
          <a:ext cx="6019920" cy="211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3984480"/>
                    <a:ext cx="6019920" cy="21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416412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685800" y="2743200"/>
          <a:ext cx="7794720" cy="147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2743200"/>
                    <a:ext cx="7794720" cy="14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52809-084B-4F2A-92D9-279BF38D658B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2-input NAND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worst-case rising and falling delay of 2-input NAND drivin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dentical g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5105520" y="2362320"/>
          <a:ext cx="3047760" cy="14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2362320"/>
                    <a:ext cx="3047760" cy="14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685800" y="2590920"/>
          <a:ext cx="4267080" cy="206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2590920"/>
                    <a:ext cx="4267080" cy="20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4584C-B2AA-4A83-B87C-E0118E55C4EF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2-input NAND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rising and falling propagation delays of a 2-input NAND drivin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dentical g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5105520" y="2362320"/>
          <a:ext cx="3047760" cy="14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2362320"/>
                    <a:ext cx="3047760" cy="14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685800" y="2590920"/>
          <a:ext cx="4267080" cy="206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2590920"/>
                    <a:ext cx="4267080" cy="20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3207F-6D88-48A1-B3C5-6CE33BDE8B42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2-input NAND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is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falling propagation delays of a 2-input NAND drivin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dentical g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5105520" y="2362320"/>
          <a:ext cx="3047760" cy="14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2362320"/>
                    <a:ext cx="3047760" cy="14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685800" y="2590920"/>
          <a:ext cx="4267080" cy="206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2590920"/>
                    <a:ext cx="4267080" cy="20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219320" y="4648320"/>
          <a:ext cx="1600200" cy="1407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4648320"/>
                    <a:ext cx="1600200" cy="14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2971800" y="5105520"/>
          <a:ext cx="890640" cy="591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71800" y="5105520"/>
                    <a:ext cx="890640" cy="59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F8D96-1037-4F89-AE34-B845B4E443C8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2-input NAND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is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falling propagation delays of a 2-input NAND drivin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dentical g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5105520" y="2362320"/>
          <a:ext cx="3047760" cy="14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2362320"/>
                    <a:ext cx="3047760" cy="14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685800" y="2590920"/>
          <a:ext cx="4267080" cy="206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2590920"/>
                    <a:ext cx="4267080" cy="20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1219320" y="4648320"/>
          <a:ext cx="1600200" cy="1407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4648320"/>
                    <a:ext cx="1600200" cy="14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2971800" y="5057640"/>
          <a:ext cx="2743200" cy="630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71800" y="5057640"/>
                    <a:ext cx="2743200" cy="6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B84B5-DC63-4ACA-BF52-9170FC0EEF0A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C Delay Est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in a Logic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stage Logic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ing the Best Number of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A8146-FA12-472C-BE90-C12CEA38969B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2-input NAND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rising and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fall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pagation delays of a 2-input NAND drivin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dentical g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5105520" y="2362320"/>
          <a:ext cx="3047760" cy="14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2362320"/>
                    <a:ext cx="3047760" cy="14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685800" y="2590920"/>
          <a:ext cx="4267080" cy="206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2590920"/>
                    <a:ext cx="4267080" cy="20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E6E86-B6FE-428B-B5AA-FA86D3EE1A2B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2-input NAND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rising and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fall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pagation delays of a 2-input NAND drivin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dentical g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5105520" y="2362320"/>
          <a:ext cx="3047760" cy="14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2362320"/>
                    <a:ext cx="3047760" cy="14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685800" y="2590920"/>
          <a:ext cx="4267080" cy="206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2590920"/>
                    <a:ext cx="4267080" cy="20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3657600" y="5029200"/>
          <a:ext cx="925560" cy="592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57600" y="5029200"/>
                    <a:ext cx="92556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685800" y="4840200"/>
          <a:ext cx="2666880" cy="1144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5800" y="4840200"/>
                    <a:ext cx="2666880" cy="11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39CAF-958B-487D-BC9D-7A095A2AC03A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2-input NAND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rising and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fall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pagation delays of a 2-input NAND drivin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dentical gat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5105520" y="2362320"/>
          <a:ext cx="3047760" cy="14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2362320"/>
                    <a:ext cx="3047760" cy="14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685800" y="2590920"/>
          <a:ext cx="4267080" cy="206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2590920"/>
                    <a:ext cx="4267080" cy="20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3200400" y="4648320"/>
          <a:ext cx="5524560" cy="1298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00400" y="4648320"/>
                    <a:ext cx="5524560" cy="12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685800" y="4840200"/>
          <a:ext cx="2666880" cy="1144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5800" y="4840200"/>
                    <a:ext cx="2666880" cy="11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DEE3D-068B-48DE-A239-D805F9071E33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lay Componen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has two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rasitic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or 7 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of lo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ffort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h 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rtional to load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58006-C854-440C-A87E-1A0F0840811E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ntamination Dela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-case (contamination) delay can be substantially less than propagation del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If both inputs fall simultaneous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685800" y="2743200"/>
          <a:ext cx="4267080" cy="206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743200"/>
                    <a:ext cx="4267080" cy="20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1219320" y="4648320"/>
          <a:ext cx="1600200" cy="140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4648320"/>
                    <a:ext cx="1600200" cy="14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3008160" y="5057640"/>
          <a:ext cx="2668680" cy="63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08160" y="5057640"/>
                    <a:ext cx="2668680" cy="6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D8D4B-64BC-406E-8541-37ACC3FDC30E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"/>
          <p:cNvGraphicFramePr/>
          <p:nvPr/>
        </p:nvGraphicFramePr>
        <p:xfrm>
          <a:off x="1600200" y="3621240"/>
          <a:ext cx="5867280" cy="28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621240"/>
                    <a:ext cx="5867280" cy="28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iffusion Capacitan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assumed contacted diffusion on every s / 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layout minimizes diffusion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NAND3 layout shares one diffusion con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s output capacitance by 2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ged uncontacted diffusion might help t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9905E-12F4-4B58-A81A-EE640D84BD54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yout Comparis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layout is bet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838080" y="2209680"/>
          <a:ext cx="7315200" cy="363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315200" cy="363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93C9B-9606-4D06-A8B7-F56A1FC76A50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p designers face a bewildering array of cho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best circuit topology for a func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any stages of logic give least dela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wide should the transistors b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al effort is a method to make these deci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a simple model of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s back-of-the-envelope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s make rapid comparisons between altern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phasizes remarkable symme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7086600" y="1752480"/>
          <a:ext cx="1368360" cy="221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1752480"/>
                    <a:ext cx="1368360" cy="22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FC446-3C12-471D-8D10-BBCADF113931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1080" indent="-451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n Bitdiddle is the memory designer for the Motoroil 68W86, an embedded automotive processor.  Help Ben design the decoder for a register fil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oder specific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 word register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word is 32 bits w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bit presents load of 3 unit-sized transis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e and complementary address inputs A[3:0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input may drive 10 unit-sized transis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n needs to deci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any stages to us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large should each gate b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fast can decoder opera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5486400" y="2057400"/>
          <a:ext cx="3124080" cy="175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057400"/>
                    <a:ext cx="3124080" cy="17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D7AEA-4F53-4C87-9127-BD5470C88C0D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lay in a Logic Gat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ress delays in process-independent 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219320" y="1981080"/>
          <a:ext cx="1269720" cy="88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981080"/>
                    <a:ext cx="126972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5334120" y="1981080"/>
            <a:ext cx="3200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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3R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 ps in 180 nm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 ps in 0.6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6A818-68F6-4917-87B4-EA8343D83263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C Delay Model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equivalent circuits for MO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l switch + capacitance and ON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nMOS has resistance R, capacitance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pMOS has resistance 2R, capacitance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ance proportional to 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stance inversely proportional to 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762120" y="4038480"/>
          <a:ext cx="7543800" cy="220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4038480"/>
                    <a:ext cx="7543800" cy="22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E03C8-93F3-4AF9-AF1B-2589B4805D62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lay in a Logic Gat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ress delays in process-independent 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has two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1219320" y="1981080"/>
          <a:ext cx="1269720" cy="88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981080"/>
                    <a:ext cx="126972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1219320" y="3429000"/>
          <a:ext cx="151128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3429000"/>
                    <a:ext cx="151128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89784-3A14-42F5-BB18-B4718C7956A3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lay in a Logic Gat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ress delays in process-independent 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has two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ffort del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= g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.k.a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ge effo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ain has two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1219320" y="1981080"/>
          <a:ext cx="1269720" cy="88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981080"/>
                    <a:ext cx="126972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1219320" y="3429000"/>
          <a:ext cx="151128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3429000"/>
                    <a:ext cx="151128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00741-54CA-4978-AC12-A3468B92901E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lay in a Logic Gat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ress delays in process-independent 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has two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ort dela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 =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.k.a. stage effor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ain has two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gic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s relative ability of gate to deliver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 for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1219320" y="1981080"/>
          <a:ext cx="1269720" cy="88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981080"/>
                    <a:ext cx="126972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1219320" y="3429000"/>
          <a:ext cx="151128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3429000"/>
                    <a:ext cx="151128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52B60-B527-457A-A49F-4EE3B71AAF3F}" type="slidenum">
              <a:t>32</a:t>
            </a:fld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lay in a Logic Gat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ress delays in process-independent 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has two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ort dela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 = g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.k.a. stage effor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ain has two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ectrical effo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output to input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imes called fan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1219320" y="1981080"/>
          <a:ext cx="1269720" cy="88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981080"/>
                    <a:ext cx="126972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1219320" y="3429000"/>
          <a:ext cx="151128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3429000"/>
                    <a:ext cx="151128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CBABB-6315-4585-80B3-A6F7C531AC85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lay in a Logic Gat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ress delays in process-independent 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has two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sitic delay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s delay of gate driving no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by internal parasitic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1219320" y="1981080"/>
          <a:ext cx="1269720" cy="88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981080"/>
                    <a:ext cx="126972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1219320" y="3429000"/>
          <a:ext cx="151128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3429000"/>
                    <a:ext cx="151128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7DD97-93A1-443F-A3BA-05EA90E95C76}" type="slidenum">
              <a:t>34</a:t>
            </a:fld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lay Plo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3276720" y="1600200"/>
          <a:ext cx="5029200" cy="441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600200"/>
                    <a:ext cx="5029200" cy="44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83D04-490C-46DE-8570-926E7542C46D}" type="slidenum">
              <a:t>35</a:t>
            </a:fld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lay Plo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bou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2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3276720" y="1600200"/>
          <a:ext cx="5029200" cy="441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600200"/>
                    <a:ext cx="5029200" cy="44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CFA60-900F-436E-9E93-8EE48090CAF5}" type="slidenum">
              <a:t>36</a:t>
            </a:fld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mputing Logical Effor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: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Logical effort is the ratio of the input capacitance of a gate to the input capacitance of an inverter delivering the same output curr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 from delay vs. fanout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estimate by counting transistor wid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1219320" y="3657600"/>
          <a:ext cx="6172200" cy="231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657600"/>
                    <a:ext cx="6172200" cy="23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F220F-0512-4E4F-AD77-516FDD04F3C5}" type="slidenum">
              <a:t>37</a:t>
            </a:fld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talog of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838080" y="2438280"/>
          <a:ext cx="7391520" cy="3378240"/>
        </p:xfrm>
        <a:graphic>
          <a:graphicData uri="http://schemas.openxmlformats.org/drawingml/2006/table">
            <a:tbl>
              <a:tblPr/>
              <a:tblGrid>
                <a:gridCol w="1922760"/>
                <a:gridCol w="663480"/>
                <a:gridCol w="812880"/>
                <a:gridCol w="1109520"/>
                <a:gridCol w="1479600"/>
                <a:gridCol w="1403280"/>
              </a:tblGrid>
              <a:tr h="427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te 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inpu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2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+2)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n+1)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state / mu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OR, XN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 12, 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 16, 16, 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 of common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D3E4E-AC65-4ECC-ACA0-29289E4854ED}" type="slidenum">
              <a:t>38</a:t>
            </a:fld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talog of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838080" y="2438280"/>
          <a:ext cx="7391520" cy="3378240"/>
        </p:xfrm>
        <a:graphic>
          <a:graphicData uri="http://schemas.openxmlformats.org/drawingml/2006/table">
            <a:tbl>
              <a:tblPr/>
              <a:tblGrid>
                <a:gridCol w="1922760"/>
                <a:gridCol w="663480"/>
                <a:gridCol w="812880"/>
                <a:gridCol w="1109520"/>
                <a:gridCol w="1479600"/>
                <a:gridCol w="1403280"/>
              </a:tblGrid>
              <a:tr h="427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te 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inpu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2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state / mu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OR, XN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sitic delay of common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multiples of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B74BF-2D9E-4F3B-8263-CCC422B4863D}" type="slidenum">
              <a:t>39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C Valu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 fF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of gate 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s similar across many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6 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in 0.6um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with shorter channel leng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refer to minimum contacted device (4/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maybe 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wide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n’t matter as long as you are consis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5DEFA-E032-44F4-BED6-B7A02DEC3E1C}" type="slidenum">
              <a:t>4</a:t>
            </a:fld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Ring Oscillato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the frequency of an N-stage ring oscil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al Effort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sitic Delay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ge Dela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quenc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s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1752480" y="2209680"/>
          <a:ext cx="5257800" cy="81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209680"/>
                    <a:ext cx="5257800" cy="8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A977B-6BF4-4B50-BAF7-2742B4D428B3}" type="slidenum">
              <a:t>40</a:t>
            </a:fld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Ring Oscillato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the frequency of an N-stage ring oscil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al Effort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sitic Delay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ge Dela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quenc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s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/(2*N*d) = 1/4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1752480" y="2209680"/>
          <a:ext cx="5257800" cy="81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209680"/>
                    <a:ext cx="5257800" cy="8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"/>
          <p:cNvSpPr/>
          <p:nvPr/>
        </p:nvSpPr>
        <p:spPr>
          <a:xfrm>
            <a:off x="5638680" y="373392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 stage ring oscillator in 0.6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 process has frequency of ~ 200 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E62A7-657D-4D80-B6B7-FDE44225E0D1}" type="slidenum">
              <a:t>41</a:t>
            </a:fld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FO4 Invert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the delay of a fanout-of-4 (FO4)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al Effort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sitic Delay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ge Dela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2590920" y="1905120"/>
          <a:ext cx="3429000" cy="185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905120"/>
                    <a:ext cx="3429000" cy="185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2E467-6B0F-4E0F-A83B-7D1DF992493E}" type="slidenum">
              <a:t>42</a:t>
            </a:fld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FO4 Invert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the delay of a fanout-of-4 (FO4)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al Effort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sitic Delay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ge Dela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=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2590920" y="1905120"/>
          <a:ext cx="3429000" cy="185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905120"/>
                    <a:ext cx="3429000" cy="185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4952880" y="4191120"/>
            <a:ext cx="30481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4 delay is ab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 ps in 0.6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 ps in a 180 nm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/3 ns in a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89708-B971-4035-BD73-272A8BCDC977}" type="slidenum">
              <a:t>43</a:t>
            </a:fld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ultistage Logic Network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 generalizes to multistage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th Logic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th Electric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th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4267080" y="1981080"/>
          <a:ext cx="1536840" cy="54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1981080"/>
                    <a:ext cx="153684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4324320" y="2666880"/>
          <a:ext cx="1828800" cy="107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24320" y="2666880"/>
                    <a:ext cx="182880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"/>
          <p:cNvGraphicFramePr/>
          <p:nvPr/>
        </p:nvGraphicFramePr>
        <p:xfrm>
          <a:off x="4267080" y="3809880"/>
          <a:ext cx="2984760" cy="546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67080" y="3809880"/>
                    <a:ext cx="298476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"/>
          <p:cNvGraphicFramePr/>
          <p:nvPr/>
        </p:nvGraphicFramePr>
        <p:xfrm>
          <a:off x="1371600" y="4572000"/>
          <a:ext cx="6400800" cy="1332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71600" y="4572000"/>
                    <a:ext cx="6400800" cy="13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3135A-27A0-42D1-8DD5-EE63C145D258}" type="slidenum">
              <a:t>44</a:t>
            </a:fld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ultistage Logic Network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 generalizes to multistage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th Logic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th Electric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th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we write F = G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4267080" y="1981080"/>
          <a:ext cx="1536840" cy="54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1981080"/>
                    <a:ext cx="153684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"/>
          <p:cNvGraphicFramePr/>
          <p:nvPr/>
        </p:nvGraphicFramePr>
        <p:xfrm>
          <a:off x="4267080" y="2666880"/>
          <a:ext cx="1943280" cy="107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7080" y="2666880"/>
                    <a:ext cx="194328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"/>
          <p:cNvGraphicFramePr/>
          <p:nvPr/>
        </p:nvGraphicFramePr>
        <p:xfrm>
          <a:off x="4267080" y="3809880"/>
          <a:ext cx="2984760" cy="546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67080" y="3809880"/>
                    <a:ext cx="298476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0D4E1-845D-4709-B1FD-B070307B71FC}" type="slidenum">
              <a:t>45</a:t>
            </a:fld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ths that Branch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08576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!  Consider paths that bran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108576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108576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108576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108576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108576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108576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108576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GH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4724280" y="1981080"/>
          <a:ext cx="365760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981080"/>
                    <a:ext cx="36576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7B173-D843-426A-B765-9AEAB0B90E9E}" type="slidenum">
              <a:t>46</a:t>
            </a:fld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ths that Branch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08576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!  Consider paths that bran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108576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108576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108576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90 / 5 =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108576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108576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(15 +15) / 5 =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108576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90 / 15 =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108576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36 = 2G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4724280" y="1981080"/>
          <a:ext cx="365760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981080"/>
                    <a:ext cx="36576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99CD1-243F-4F44-B275-6285AA388E35}" type="slidenum">
              <a:t>47</a:t>
            </a:fld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ranching Effor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ranching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unts for branching between stages in 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we compute the path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 GB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1562040" y="2514600"/>
          <a:ext cx="2933640" cy="10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2040" y="2514600"/>
                    <a:ext cx="293364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"/>
          <p:cNvGraphicFramePr/>
          <p:nvPr/>
        </p:nvGraphicFramePr>
        <p:xfrm>
          <a:off x="1523880" y="3733920"/>
          <a:ext cx="1447920" cy="54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3733920"/>
                    <a:ext cx="144792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6324480" y="3962520"/>
          <a:ext cx="1778040" cy="546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24480" y="3962520"/>
                    <a:ext cx="177804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"/>
          <p:cNvSpPr/>
          <p:nvPr/>
        </p:nvSpPr>
        <p:spPr>
          <a:xfrm>
            <a:off x="6250320" y="358128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5B388-BE8A-4EF3-9C45-844647B3AAC0}" type="slidenum">
              <a:t>48</a:t>
            </a:fld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ultistage Delay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Effort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Parasitic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4419720" y="1523880"/>
          <a:ext cx="1638360" cy="54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1523880"/>
                    <a:ext cx="163836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"/>
          <p:cNvGraphicFramePr/>
          <p:nvPr/>
        </p:nvGraphicFramePr>
        <p:xfrm>
          <a:off x="4419720" y="2362320"/>
          <a:ext cx="1447560" cy="54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2362320"/>
                    <a:ext cx="144756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4" name=""/>
          <p:cNvGraphicFramePr/>
          <p:nvPr/>
        </p:nvGraphicFramePr>
        <p:xfrm>
          <a:off x="4419720" y="3200400"/>
          <a:ext cx="2933640" cy="546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19720" y="3200400"/>
                    <a:ext cx="293364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26B79-774C-4758-B45F-94E0857BE57F}" type="slidenum">
              <a:t>49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verter Delay Estimat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the delay of a fanout-of-1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762120" y="2057400"/>
          <a:ext cx="7696080" cy="337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57400"/>
                    <a:ext cx="7696080" cy="337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E5421-243A-4DF4-9229-35297569287E}" type="slidenum">
              <a:t>5</a:t>
            </a:fld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signing Fast Circui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is smallest when each stage bears same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 minimum delay of N stage path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ke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sult of logic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fastest possible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n’t require calculating gate s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1219320" y="1600200"/>
          <a:ext cx="2933640" cy="54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600200"/>
                    <a:ext cx="293364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0" name=""/>
          <p:cNvGraphicFramePr/>
          <p:nvPr/>
        </p:nvGraphicFramePr>
        <p:xfrm>
          <a:off x="1295280" y="2895480"/>
          <a:ext cx="2121120" cy="55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2895480"/>
                    <a:ext cx="2121120" cy="5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2" name=""/>
          <p:cNvGraphicFramePr/>
          <p:nvPr/>
        </p:nvGraphicFramePr>
        <p:xfrm>
          <a:off x="1219320" y="4038480"/>
          <a:ext cx="2082600" cy="470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4038480"/>
                    <a:ext cx="208260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1143000" y="4038480"/>
            <a:ext cx="2286000" cy="6098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F5A3C-0DA7-4294-B324-D81F29AF539A}" type="slidenum">
              <a:t>50</a:t>
            </a:fld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ate Siz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wide should the gates be for least del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ing backward, apply capacitance transformation to find input capacitance of each gate given load it dri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work by verifying input cap spec is m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1143000" y="2209680"/>
          <a:ext cx="2641680" cy="179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209680"/>
                    <a:ext cx="2641680" cy="17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34906-7E08-4B0B-B83F-3CD17655AB3E}" type="slidenum">
              <a:t>51</a:t>
            </a:fld>
          </a:p>
        </p:txBody>
      </p:sp>
    </p:spTree>
  </p:cSld>
  <p:transition>
    <p:zoom dir="ou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3-stage path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gate sizes x and y for least delay from A to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838080" y="2057400"/>
          <a:ext cx="7391520" cy="36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057400"/>
                    <a:ext cx="7391520" cy="36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D8353-2053-4ABF-9E44-EE323EC31CBF}" type="slidenum">
              <a:t>52</a:t>
            </a:fld>
          </a:p>
        </p:txBody>
      </p:sp>
    </p:spTree>
  </p:cSld>
  <p:transition>
    <p:zoom dir="ou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3-stage path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al Effo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nching Effo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Effo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 Stage Effo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sitic Del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914400" y="1371600"/>
          <a:ext cx="3429000" cy="169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371600"/>
                    <a:ext cx="3429000" cy="16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7" name=""/>
          <p:cNvGraphicFramePr/>
          <p:nvPr/>
        </p:nvGraphicFramePr>
        <p:xfrm>
          <a:off x="4114800" y="4572000"/>
          <a:ext cx="609480" cy="52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14800" y="4572000"/>
                    <a:ext cx="60948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11D39-AB46-41FC-A150-265697D6F002}" type="slidenum">
              <a:t>53</a:t>
            </a:fld>
          </a:p>
        </p:txBody>
      </p:sp>
    </p:spTree>
  </p:cSld>
  <p:transition>
    <p:zoom dir="ou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3-stage path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20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= (4/3)*(5/3)*(5/3) = 100/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al Effo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= 45/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nching Effo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= 3 * 2 =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Effo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 GBH = 1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 Stage Effo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sitic Del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2 + 3 + 2 =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= 3*5 + 7 = 22 = 4.4 FO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914400" y="1371600"/>
          <a:ext cx="3429000" cy="169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371600"/>
                    <a:ext cx="3429000" cy="16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3" name=""/>
          <p:cNvGraphicFramePr/>
          <p:nvPr/>
        </p:nvGraphicFramePr>
        <p:xfrm>
          <a:off x="4114800" y="4572000"/>
          <a:ext cx="1803240" cy="52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14800" y="4572000"/>
                    <a:ext cx="180324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04D39-5249-4598-B473-62A9D903F0BD}" type="slidenum">
              <a:t>54</a:t>
            </a:fld>
          </a:p>
        </p:txBody>
      </p:sp>
    </p:spTree>
  </p:cSld>
  <p:transition>
    <p:zoom dir="ou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3-stage path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backward for s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1295280" y="2973240"/>
          <a:ext cx="556272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973240"/>
                    <a:ext cx="556272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085C8-C685-4293-8F90-DD2A17B28CA5}" type="slidenum">
              <a:t>55</a:t>
            </a:fld>
          </a:p>
        </p:txBody>
      </p:sp>
    </p:spTree>
  </p:cSld>
  <p:transition>
    <p:zoom dir="out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3-stage path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backward for s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= 45 * (5/3) / 5 =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= (15*2) * (5/3) / 5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1219320" y="3124080"/>
          <a:ext cx="6095880" cy="28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124080"/>
                    <a:ext cx="6095880" cy="28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36D39-CAB0-4013-BC99-382394E5E8D0}" type="slidenum">
              <a:t>56</a:t>
            </a:fld>
          </a:p>
        </p:txBody>
      </p:sp>
    </p:spTree>
  </p:cSld>
  <p:transition>
    <p:zoom dir="ou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est Number of Stag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stages should a path u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izing number of stages is not always fas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drive 64-bit datapath with unit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4572000" y="2895480"/>
          <a:ext cx="3886200" cy="328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895480"/>
                    <a:ext cx="3886200" cy="32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3E983-0CCB-4A15-B74F-394C2780D62D}" type="slidenum">
              <a:t>57</a:t>
            </a:fld>
          </a:p>
        </p:txBody>
      </p:sp>
    </p:spTree>
  </p:cSld>
  <p:transition>
    <p:zoom dir="out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est Number of Stag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stages should a path u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izing number of stages is not always fas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drive 64-bit datapath with unit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N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/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N(64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/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4572000" y="2895480"/>
          <a:ext cx="3886200" cy="328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895480"/>
                    <a:ext cx="3886200" cy="32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49093-264E-41F5-B1A7-3EFA485E6B96}" type="slidenum">
              <a:t>58</a:t>
            </a:fld>
          </a:p>
        </p:txBody>
      </p:sp>
    </p:spTree>
  </p:cSld>
  <p:transition>
    <p:zoom dir="out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riv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adding inverters to end of 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give least del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best stage eff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5334120" y="2057400"/>
          <a:ext cx="3276360" cy="10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2057400"/>
                    <a:ext cx="3276360" cy="10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5" name=""/>
          <p:cNvGraphicFramePr/>
          <p:nvPr/>
        </p:nvGraphicFramePr>
        <p:xfrm>
          <a:off x="685800" y="2438280"/>
          <a:ext cx="4813200" cy="100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2438280"/>
                    <a:ext cx="481320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685800" y="3429000"/>
          <a:ext cx="4889520" cy="888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3429000"/>
                    <a:ext cx="488952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1676520" y="5334120"/>
          <a:ext cx="3149640" cy="520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5334120"/>
                    <a:ext cx="314964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572000" y="4495680"/>
          <a:ext cx="1143000" cy="546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0" y="4495680"/>
                    <a:ext cx="114300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6EA09-3F1C-4884-8ED2-7E296F91C59B}" type="slidenum">
              <a:t>59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verter Delay Estimat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the delay of a fanout-of-1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762120" y="2057400"/>
          <a:ext cx="7696080" cy="337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57400"/>
                    <a:ext cx="7696080" cy="337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95F58-F7C8-40F9-A5AE-67A9EC584625}" type="slidenum">
              <a:t>6</a:t>
            </a:fld>
          </a:p>
        </p:txBody>
      </p:sp>
    </p:spTree>
  </p:cSld>
  <p:transition>
    <p:zoom dir="ou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est Stage Effor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no closed-form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lecting parasitics 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), we fi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.718 (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, solve numerically fo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3.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1219320" y="1523880"/>
          <a:ext cx="3149640" cy="52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523880"/>
                    <a:ext cx="314964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DF8CA-5FD9-4960-9B12-7CC16FE668F0}" type="slidenum">
              <a:t>60</a:t>
            </a:fld>
          </a:p>
        </p:txBody>
      </p:sp>
    </p:spTree>
  </p:cSld>
  <p:transition>
    <p:zoom dir="out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nsitivity Analysi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ensitive is delay to using exactly the best number of stag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4 &l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6 gives delay within 15% of opti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be slopp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lik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4038480" y="1981080"/>
          <a:ext cx="4038840" cy="277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981080"/>
                    <a:ext cx="4038840" cy="27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03A4B-7F94-4066-85C2-DC5F90D392ED}" type="slidenum">
              <a:t>61</a:t>
            </a:fld>
          </a:p>
        </p:txBody>
      </p:sp>
    </p:spTree>
  </p:cSld>
  <p:transition>
    <p:zoom dir="out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, Revisited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1080" indent="-451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n Bitdiddle is the memory designer for the Motoroil 68W86, an embedded automotive processor.  Help Ben design the decoder for a register fil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oder specific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 word register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word is 32 bits w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bit presents load of 3 unit-sized transis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e and complementary address inputs A[3:0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input may drive 10 unit-sized transis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n needs to deci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any stages to us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large should each gate b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fast can decoder opera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5486400" y="2057400"/>
          <a:ext cx="3124080" cy="175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057400"/>
                    <a:ext cx="3124080" cy="17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F8BB3-11DF-40D4-A60B-ECA6E77F7BB3}" type="slidenum">
              <a:t>62</a:t>
            </a:fld>
          </a:p>
        </p:txBody>
      </p:sp>
    </p:spTree>
  </p:cSld>
  <p:transition>
    <p:zoom dir="out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umber of Stag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oder effort is mainly electrical and bran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al Effor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nching Effor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e neglect logical effort (assume G =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Effor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Stag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877D3-D13C-4427-92BC-7B237AADBB23}" type="slidenum">
              <a:t>63</a:t>
            </a:fld>
          </a:p>
        </p:txBody>
      </p:sp>
    </p:spTree>
  </p:cSld>
  <p:transition>
    <p:zoom dir="out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umber of Stag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oder effort is mainly electrical and bran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al Effor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= (32*3) / 10 = 9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nching Effor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=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e neglect logical effort (assume G =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Effor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 GBH = 76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Stag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=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 3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a 3-stag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7A037-848F-4DBC-A0F6-7B295673C5AC}" type="slidenum">
              <a:t>64</a:t>
            </a:fld>
          </a:p>
        </p:txBody>
      </p:sp>
    </p:spTree>
  </p:cSld>
  <p:transition>
    <p:zoom dir="out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ate Sizes &amp; Dela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Effor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ge Effor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Dela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siz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y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1219320" y="3719520"/>
          <a:ext cx="5867280" cy="231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719520"/>
                    <a:ext cx="5867280" cy="23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3" name=""/>
          <p:cNvGraphicFramePr/>
          <p:nvPr/>
        </p:nvGraphicFramePr>
        <p:xfrm>
          <a:off x="3505320" y="2362320"/>
          <a:ext cx="609480" cy="52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2362320"/>
                    <a:ext cx="60948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5" name=""/>
          <p:cNvGraphicFramePr/>
          <p:nvPr/>
        </p:nvGraphicFramePr>
        <p:xfrm>
          <a:off x="3479760" y="2971800"/>
          <a:ext cx="635040" cy="304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79760" y="2971800"/>
                    <a:ext cx="63504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177FC-F289-46C9-A2F4-0FA07A39B654}" type="slidenum">
              <a:t>65</a:t>
            </a:fld>
          </a:p>
        </p:txBody>
      </p:sp>
    </p:spTree>
  </p:cSld>
  <p:transition>
    <p:zoom dir="out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ate Sizes &amp; Dela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= 1 * 6/3 * 1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Effor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 GBH = 1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ge Effor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Dela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siz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6*1/5.3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8    y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*2/5.3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6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1219320" y="3719520"/>
          <a:ext cx="5867280" cy="231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719520"/>
                    <a:ext cx="5867280" cy="23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1" name=""/>
          <p:cNvGraphicFramePr/>
          <p:nvPr/>
        </p:nvGraphicFramePr>
        <p:xfrm>
          <a:off x="3505320" y="2362320"/>
          <a:ext cx="2336760" cy="52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2362320"/>
                    <a:ext cx="233676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3" name=""/>
          <p:cNvGraphicFramePr/>
          <p:nvPr/>
        </p:nvGraphicFramePr>
        <p:xfrm>
          <a:off x="3505320" y="2819520"/>
          <a:ext cx="3670200" cy="520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2819520"/>
                    <a:ext cx="367020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4CCC3-83DC-43E9-907A-018AF16821E1}" type="slidenum">
              <a:t>66</a:t>
            </a:fld>
          </a:p>
        </p:txBody>
      </p:sp>
    </p:spTree>
  </p:cSld>
  <p:transition>
    <p:zoom dir="out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mparis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 many alternatives with a spread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7" name=""/>
          <p:cNvGraphicFramePr/>
          <p:nvPr/>
        </p:nvGraphicFramePr>
        <p:xfrm>
          <a:off x="1219320" y="2209680"/>
          <a:ext cx="6476760" cy="3557880"/>
        </p:xfrm>
        <a:graphic>
          <a:graphicData uri="http://schemas.openxmlformats.org/drawingml/2006/table">
            <a:tbl>
              <a:tblPr/>
              <a:tblGrid>
                <a:gridCol w="4038480"/>
                <a:gridCol w="457200"/>
                <a:gridCol w="762120"/>
                <a:gridCol w="457200"/>
                <a:gridCol w="7617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ND4-IN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ND2-NOR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/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INV-NAND4-IN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2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ND4-INV-INV-IN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ND2-NOR2-INV-IN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/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AND2-INV-NAND2-IN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6/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9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-NAND2-INV-NAND2-IN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/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ND2-INV-NAND2-INV-INV-IN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/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9EF45-4A48-492E-92E4-B4D4B945F3B7}" type="slidenum">
              <a:t>67</a:t>
            </a:fld>
          </a:p>
        </p:txBody>
      </p:sp>
    </p:spTree>
  </p:cSld>
  <p:transition>
    <p:zoom dir="out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view of Definit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685800" y="1676520"/>
          <a:ext cx="7696080" cy="4008240"/>
        </p:xfrm>
        <a:graphic>
          <a:graphicData uri="http://schemas.openxmlformats.org/drawingml/2006/table">
            <a:tbl>
              <a:tblPr/>
              <a:tblGrid>
                <a:gridCol w="2678040"/>
                <a:gridCol w="2509920"/>
                <a:gridCol w="2508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stag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ical eff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ical eff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nching eff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ort del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sitic del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0" name=""/>
          <p:cNvGraphicFramePr/>
          <p:nvPr/>
        </p:nvGraphicFramePr>
        <p:xfrm>
          <a:off x="5943600" y="2590920"/>
          <a:ext cx="952560" cy="34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2590920"/>
                    <a:ext cx="95256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2" name=""/>
          <p:cNvGraphicFramePr/>
          <p:nvPr/>
        </p:nvGraphicFramePr>
        <p:xfrm>
          <a:off x="5950080" y="3009960"/>
          <a:ext cx="939600" cy="41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50080" y="3009960"/>
                    <a:ext cx="93960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4" name=""/>
          <p:cNvGraphicFramePr/>
          <p:nvPr/>
        </p:nvGraphicFramePr>
        <p:xfrm>
          <a:off x="5943600" y="2209680"/>
          <a:ext cx="228600" cy="216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43600" y="2209680"/>
                    <a:ext cx="22860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6" name=""/>
          <p:cNvGraphicFramePr/>
          <p:nvPr/>
        </p:nvGraphicFramePr>
        <p:xfrm>
          <a:off x="5969160" y="3505320"/>
          <a:ext cx="901440" cy="342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69160" y="3505320"/>
                    <a:ext cx="90144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8" name=""/>
          <p:cNvGraphicFramePr/>
          <p:nvPr/>
        </p:nvGraphicFramePr>
        <p:xfrm>
          <a:off x="5950080" y="3943440"/>
          <a:ext cx="939600" cy="228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0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950080" y="3943440"/>
                    <a:ext cx="93960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0" name=""/>
          <p:cNvGraphicFramePr/>
          <p:nvPr/>
        </p:nvGraphicFramePr>
        <p:xfrm>
          <a:off x="5911920" y="4343400"/>
          <a:ext cx="1015920" cy="343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911920" y="4343400"/>
                    <a:ext cx="101592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5943600" y="4876920"/>
          <a:ext cx="901800" cy="342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943600" y="4876920"/>
                    <a:ext cx="90180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5943600" y="5257800"/>
          <a:ext cx="1866960" cy="3430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943600" y="5257800"/>
                    <a:ext cx="186696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6" name=""/>
          <p:cNvGraphicFramePr/>
          <p:nvPr/>
        </p:nvGraphicFramePr>
        <p:xfrm>
          <a:off x="3429000" y="3048120"/>
          <a:ext cx="660240" cy="3682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1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429000" y="3048120"/>
                    <a:ext cx="66024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8" name=""/>
          <p:cNvGraphicFramePr/>
          <p:nvPr/>
        </p:nvGraphicFramePr>
        <p:xfrm>
          <a:off x="3429000" y="3429000"/>
          <a:ext cx="1308240" cy="419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1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429000" y="3429000"/>
                    <a:ext cx="130824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0" name=""/>
          <p:cNvGraphicFramePr/>
          <p:nvPr/>
        </p:nvGraphicFramePr>
        <p:xfrm>
          <a:off x="3429000" y="3962520"/>
          <a:ext cx="685800" cy="2667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21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429000" y="3962520"/>
                    <a:ext cx="68580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2" name=""/>
          <p:cNvGraphicFramePr/>
          <p:nvPr/>
        </p:nvGraphicFramePr>
        <p:xfrm>
          <a:off x="3429000" y="4419720"/>
          <a:ext cx="203040" cy="2667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423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429000" y="4419720"/>
                    <a:ext cx="20304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4" name=""/>
          <p:cNvGraphicFramePr/>
          <p:nvPr/>
        </p:nvGraphicFramePr>
        <p:xfrm>
          <a:off x="3429000" y="4952880"/>
          <a:ext cx="190440" cy="2160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425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429000" y="4952880"/>
                    <a:ext cx="19044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6" name=""/>
          <p:cNvGraphicFramePr/>
          <p:nvPr/>
        </p:nvGraphicFramePr>
        <p:xfrm>
          <a:off x="3429000" y="5334120"/>
          <a:ext cx="927000" cy="2667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427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3429000" y="5334120"/>
                    <a:ext cx="92700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8" name=""/>
          <p:cNvGraphicFramePr/>
          <p:nvPr/>
        </p:nvGraphicFramePr>
        <p:xfrm>
          <a:off x="3429000" y="2666880"/>
          <a:ext cx="177840" cy="2160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429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3429000" y="2666880"/>
                    <a:ext cx="17784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0" name=""/>
          <p:cNvGraphicFramePr/>
          <p:nvPr/>
        </p:nvGraphicFramePr>
        <p:xfrm>
          <a:off x="3429000" y="2209680"/>
          <a:ext cx="114480" cy="21600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431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3429000" y="220968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07B69-CB19-4FF4-B6FA-AA605951AA55}" type="slidenum">
              <a:t>68</a:t>
            </a:fld>
          </a:p>
        </p:txBody>
      </p:sp>
    </p:spTree>
  </p:cSld>
  <p:transition>
    <p:zoom dir="out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ethod of Logical Effor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path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best number of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tch path with N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least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best stage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gate s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4" name=""/>
          <p:cNvGraphicFramePr/>
          <p:nvPr/>
        </p:nvGraphicFramePr>
        <p:xfrm>
          <a:off x="6400800" y="1600200"/>
          <a:ext cx="1231920" cy="27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1600200"/>
                    <a:ext cx="123192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6" name=""/>
          <p:cNvGraphicFramePr/>
          <p:nvPr/>
        </p:nvGraphicFramePr>
        <p:xfrm>
          <a:off x="6400800" y="2057400"/>
          <a:ext cx="1371600" cy="38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00800" y="2057400"/>
                    <a:ext cx="13716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8" name=""/>
          <p:cNvGraphicFramePr/>
          <p:nvPr/>
        </p:nvGraphicFramePr>
        <p:xfrm>
          <a:off x="6400800" y="2819520"/>
          <a:ext cx="1676520" cy="393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00800" y="2819520"/>
                    <a:ext cx="167652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0" name=""/>
          <p:cNvGraphicFramePr/>
          <p:nvPr/>
        </p:nvGraphicFramePr>
        <p:xfrm>
          <a:off x="6400800" y="3352680"/>
          <a:ext cx="939960" cy="457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4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00800" y="3352680"/>
                    <a:ext cx="9399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2" name=""/>
          <p:cNvGraphicFramePr/>
          <p:nvPr/>
        </p:nvGraphicFramePr>
        <p:xfrm>
          <a:off x="6400800" y="4038480"/>
          <a:ext cx="1549440" cy="863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4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00800" y="4038480"/>
                    <a:ext cx="154944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7A841-8CE8-4853-8D33-73129C475C8A}" type="slidenum">
              <a:t>69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verter Delay Estimat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the delay of a fanout-of-1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762120" y="2057400"/>
          <a:ext cx="7696080" cy="337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57400"/>
                    <a:ext cx="7696080" cy="337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E06E2-492A-4795-8789-1503C5401126}" type="slidenum">
              <a:t>7</a:t>
            </a:fld>
          </a:p>
        </p:txBody>
      </p:sp>
    </p:spTree>
  </p:cSld>
  <p:transition>
    <p:zoom dir="out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imits of Logical Effor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cken and egg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path to compute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n’t know number of stages without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stic delay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lects input rise time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conn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eration required in designs with w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speed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minimum area/power for constrained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862AA-AFD7-40FE-A677-944DDFA6BB2D}" type="slidenum">
              <a:t>70</a:t>
            </a:fld>
          </a:p>
        </p:txBody>
      </p:sp>
    </p:spTree>
  </p:cSld>
  <p:transition>
    <p:zoom dir="out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 is useful for thinking of delay in 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eric logical effort characterizes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NDs are faster than NORs in C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s are fastest when effort delays are ~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delay is weakly sensitive to stages, s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using fewer stages doesn’t mean faster pa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of path is abou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FO4 inverter del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rters and NAND2 best for driving large c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language for discussing fast 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requires practice to ma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4BEFB-892D-4642-86BE-19895C9B5ED7}" type="slidenum">
              <a:t>71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verter Delay Estimat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the delay of a fanout-of-1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762120" y="2057400"/>
          <a:ext cx="7696080" cy="337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57400"/>
                    <a:ext cx="7696080" cy="337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838080" y="54100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= 6R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DA2A3-757D-4657-8BBA-2DAD3719E819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3-input NAND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tch a 3-input NAND with transistor widths chosen to achieve effective rise and fall resistances equal to a unit inverter (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55EDE-3379-4416-B18F-F22F80A8DC49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07-01-15T06:50:26Z</dcterms:modified>
  <cp:revision>795</cp:revision>
  <dc:subject/>
  <dc:title>PowerPoint Presentation</dc:title>
</cp:coreProperties>
</file>