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9151938" cy="6865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BF3B-78E7-463B-9056-F6083ACC84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F498-EC0B-4130-8F8C-CD68CC812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DEBC-C298-4C14-B1EE-C9DB9BCA7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C954-B471-4761-9952-8CDAF73E39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E7559-8C00-4441-998B-012895F1B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87153-B0F8-4437-9935-25A0FBD132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A54A-14BD-4887-8FB9-1B3FA15BC5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28016-5901-4C8B-A43F-EC4E28D9A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2456-9DBC-48D9-BA3C-DC18F565D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8819C-2E61-4531-A40F-AFA240C47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8F14-6C85-41E1-96EB-551D6BB7E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2BE3-466D-4097-AD34-648309384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6791729A-7279-4A68-9D20-28250D9409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DC &amp; Transient Respon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09B54-3F46-4EDA-8708-9C93C683D0A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C876-9FA5-4AE4-96BC-ADD1BF9B198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A119-84D9-431E-8EFE-EDD0244624B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EAB4C-4D0B-43FA-BDB0-79823AFD6EEA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600200"/>
          <a:ext cx="7772400" cy="2081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0F70-4192-4739-AAEF-291079D71CE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D04C-5E7A-46FE-BD8B-1B5AAC7B8D5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D6AC-5B51-47CA-B381-158771199EB9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077A5-7040-4686-A378-E134B6A032F6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85800" y="1600200"/>
          <a:ext cx="7772400" cy="1936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CA9A3-80FE-4ACF-AC11-673FE427D14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B2A0F-6291-4C54-AB24-3BA29174E24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CE600-3CBB-4DFE-89C7-CEE6FD7F5B7B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F92D-5C44-4FD1-92DA-2791BC0FF2D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CA80C-07FC-4F68-B968-1F7A232EC285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EB5C-7614-4A23-BE73-A19AF5DB665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7B858-FEF0-4D86-83C5-EF46B1BE273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E9935-E687-4F73-A004-ACA4E011184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4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9705-D637-4001-A219-AB0A4AC310C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2225-2576-458D-A5FD-AC76D3D4696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8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10E2-9D33-4548-A699-198E23366EA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26660-670D-495B-9185-6205735C096F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76E5D-B495-45BA-94EB-E84776F56836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917A-BDF0-44F0-9362-178AB9717B9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the current will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the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maximum transistor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gate capacitance of each transistor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22890-AD4C-48CF-8D89-F7FC5020115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CC293-BCF7-4F48-AABB-227AA0B153D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6D01-D1D5-4CF3-BA54-DA308B2FD074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02CC8-75F0-4E4B-A0E9-E78174C3871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0AB0-3C36-4265-A98E-BDB23A047B0B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E6CF-CCFB-450F-A88C-9C978BA0480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87E2C-8933-48D5-BF95-E1E5C0072271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798C-3525-4526-9DF1-A18E444F0B71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838080" y="2057400"/>
          <a:ext cx="200844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200844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47B16-4477-42F9-A2ED-A416244DA29B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38080" y="2038320"/>
          <a:ext cx="309096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38320"/>
                    <a:ext cx="30909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D9C0-0267-479E-9B7D-0953E61EF29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838080" y="2038320"/>
          <a:ext cx="3090960" cy="22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38320"/>
                    <a:ext cx="309096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E78F-347D-4367-ADC6-C42FB2D7F07A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the current will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the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maximum transistor current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wid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length of a transistor increases, its gate capacitance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6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f the supply voltage of a chip increases, the gate capacitance of each transistor w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in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decreas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not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7360"/>
                <a:tab algn="l" pos="633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63F39-C915-4D92-BC62-E40881AD5D9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711360" y="4648320"/>
          <a:ext cx="5079960" cy="109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1360" y="4648320"/>
                    <a:ext cx="5079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C9FEF-543D-47B7-BFE1-8D2C514C65D4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67140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40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98D24-0B71-43F3-B293-F44FF599BFD6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B07E2-CFF6-482C-93A3-8544BDA6BDD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477BC-091F-4E23-BF7C-8CD8911CFA6E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9578B-D455-43C4-9883-09DD7687DDA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0F1B0-8F98-41CD-809B-45D5207891D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7952-1395-4E3C-84CF-D660C0B7F23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AD54-2F87-4995-AD98-5D458952DFB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6A09-06E7-494A-A9F1-C1A02FF5B1AC}" type="slidenum">
              <a:t>48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8230-967C-4BDC-ABB6-93786BF396D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F47B8-5B3C-4B99-AF38-33BFB7BC702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CEE91-4F55-4997-9002-1707ACCB178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0CFAF-5191-4877-AB2C-AFEE6421200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3BA3-0AEA-48F4-8657-E4CECD97A5F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47:18Z</dcterms:modified>
  <cp:revision>651</cp:revision>
  <dc:subject/>
  <dc:title>PowerPoint Presentation</dc:title>
</cp:coreProperties>
</file>