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9151938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E6E6-7D94-4369-A1F4-AE302D530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BE8D-04D1-4C04-BBCD-C356B2CDC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BC37-8EF6-40D5-B567-5C1688F33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E469-2C97-493B-BB21-5A5D7788B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9282-925A-448C-A3D6-539A8AABC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5ADD-312C-4EF8-A8A0-62C8F7429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E92B-A6A5-436A-848C-868B90AC3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285D-97E8-4904-B505-96DA02BEA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B870-16F6-40B3-B7EB-53FE14B37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82FC-4911-459C-887D-C47B36F93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F4A8-03AC-4F81-921B-A9C296105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F0E4-8A82-40FB-A83F-9744A2A9E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6AE61631-3389-4F9F-A8F6-68F2BC6B9B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5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C &amp; Transient Respon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2A9E-D5F7-463A-9514-C57892802EC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E612-6897-48E4-B290-6094E1EA0A9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600200"/>
          <a:ext cx="7772400" cy="208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F997-DF65-40A2-AEDF-42B32B9A139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772400" cy="208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D9F4-EBD8-42A5-8D00-EAB52904530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600200"/>
          <a:ext cx="7772400" cy="208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172E-D7F9-4D8C-9642-F340BCCAB20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8870-297E-4357-B6E6-BB33D8AEDE0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600200"/>
          <a:ext cx="7772400" cy="1936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213A-8A1C-4101-BDB0-922056C1BB8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600200"/>
          <a:ext cx="7772400" cy="1936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0ECE-63B9-4DF4-875E-F100F691DBE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600200"/>
          <a:ext cx="7772400" cy="1936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A19C-FA55-4F84-A7AC-74E35419E13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2454-BB0D-46E8-A263-9631EA5DBF2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3464-DD6F-4797-A94B-827F2C9C939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B5BB-19CA-49AE-8BBC-FDF4EB11362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D0FD-CEF5-4422-9129-6F622310E5E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FE4C-A0B8-4CFE-B22A-CEDC6846039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E097-EC04-4702-BD5D-02E8D6E313F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A15C-EEA0-41FD-9173-BDDC229D4B6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4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73A3-2055-4DD7-9585-7D54E75B682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5C58-6BAF-40B3-993C-CED3D6BC722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8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5B56-CA21-482C-9094-CC19AF37A5D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3ADD-C6F8-4F38-B809-326BD8F3396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5B90-11A7-4E87-8D5B-ECBBDA873E3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F768-5B3E-403A-9947-C2D5E728290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the current will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the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maximum transistor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gate capacitance of each transistor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9196-4A74-417D-8BEF-CA8823488BB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4F69-D85F-4FD5-BA3B-2CD4FA89AB1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80C7-F40F-40C7-9362-0D0CA25DAD5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F655-96D9-40CB-99A6-6EA11931A1F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4E05-2008-4738-B8A4-DA8005350B9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492D7-685B-4288-B631-4D24D77BF5DD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2106-F15E-427B-B272-CBC5E8A7957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8440-8D05-4DBC-896B-0F83C97BA0E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38080" y="2057400"/>
          <a:ext cx="200844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200844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D994-CDC6-445D-92C4-1341D8C929C5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2038320"/>
          <a:ext cx="309096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38320"/>
                    <a:ext cx="309096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B038-E24A-4BC8-AD83-7A7F7287F5EE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38080" y="2038320"/>
          <a:ext cx="309096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38320"/>
                    <a:ext cx="309096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6947-A5ED-446C-A338-A124CAF9D6E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the current will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the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maximum transistor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gate capacitance of each transistor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400A-B02D-4D9E-A996-436C24C1842D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11360" y="4648320"/>
          <a:ext cx="5079960" cy="109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" y="4648320"/>
                    <a:ext cx="5079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9075-0EAE-4303-803F-C617B16568D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7140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9F9E-4424-4A7B-8310-369AE2C974EA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9D43-BA6A-496F-B4A4-7C59814AFB42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3663-D1F7-4121-A096-F42C1DEB415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F155-1915-4F96-9196-B2D67DEC2E0E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EF55-E1A5-44A4-8B4F-4FEC3CB99B4E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7760-16C6-47F6-9F22-A2EBC7D0D292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8643-8472-4F6C-B085-6B3C98CEBD0C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75B0-D4E8-48CC-AF9F-D07C91635234}" type="slidenum">
              <a:t>48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EAC9-3839-4901-9716-1F0B455D00F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68F5-BDA3-4F1E-8514-B62DA63FE21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0674-7705-4A7D-8DF2-2FA5ACF3A6E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E71F-9D3E-433F-A759-14472909191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A5AC-10AC-4136-B8B5-EE04670C22E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47:18Z</dcterms:modified>
  <cp:revision>651</cp:revision>
  <dc:subject/>
  <dc:title>PowerPoint Presentation</dc:title>
</cp:coreProperties>
</file>