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3.png" ContentType="image/png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77350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F0D11-6028-41EC-84F6-EC1C57463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575CA-DC50-45C1-92F5-91B3DEB96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19169-3C62-4D00-A3BC-64CAC3F08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4728-A55C-474C-A480-4396DF71A4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56DA-87A7-489E-806E-6E4DB0B74D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56CE3-AE5C-4DB1-B9A0-137443619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774A-E47B-43C2-8120-6404C80BE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AC68-0775-4834-A4FD-E43D72E65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C7A3-ADB2-4E85-9716-413F44A3E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46599-3851-4380-BC64-53977EE83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E73E1-D376-4F26-B574-55AA98842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CAB5-C043-4C50-99F9-386227C78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F0AA572F-6569-44C9-ABD8-FE3A261925F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4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MOS Transistor The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62DE-6EE0-4981-BD4A-F356A5ED247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FA70-2E72-4915-9BE9-18AB82991EA6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8874-0A3F-4F38-88E6-AAC615DECBAB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248520" y="3200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6F984-2B5C-45E9-9360-2AC6C7F6C7F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248520" y="3200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59DD-9D6A-4060-8BCE-239BC67A3073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FB16-C88D-41F1-B91F-303874C53630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3D7AB-128E-4F6A-98C8-38BA6500644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carrier to cross chan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0CCF-CF7B-4439-A29E-317C414E0DA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carrier to cross chan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92F86-0F09-4C68-9FEB-8369A5EEAADA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3124080"/>
          <a:ext cx="75240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124080"/>
                    <a:ext cx="7524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24E39-561E-4643-99AD-A5737D927FF4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2971800"/>
          <a:ext cx="1796760" cy="12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179676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90CC-D683-42A6-B394-2A6C0178FD4D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Diffusion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50CCE-0C34-4DCE-9AA4-AEFA6CF5799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120" y="2895480"/>
          <a:ext cx="472428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47242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248520" y="4724280"/>
          <a:ext cx="175248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724280"/>
                    <a:ext cx="17524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8D9B-0574-4CFE-A9CA-3EB41C0E2855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3200400"/>
          <a:ext cx="769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200400"/>
                    <a:ext cx="769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DB0C-B597-47E9-9E54-C4D43009F69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9320" y="3013200"/>
          <a:ext cx="42670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13200"/>
                    <a:ext cx="4267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0BD1B-DE77-48EF-BC8B-5FEE1A2C286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19320" y="2971800"/>
          <a:ext cx="426708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426708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50DB-C2CD-42E5-B31A-AEA29FE3357E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I-V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830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259092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DF2B-45AF-4BC9-96EC-B20AFFC1ED0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be using a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 for you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MI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*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1, 2, 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/L = 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971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5800" y="5334120"/>
          <a:ext cx="50292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4120"/>
                    <a:ext cx="50292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572000" y="2514600"/>
          <a:ext cx="419112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41911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5256-1EA4-4CB3-85AC-0202760E3CD5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pings and voltages are inverted for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is the more positiv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termined by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2-3x lower than that of electr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MI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pMOS must be wid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am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assu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715000" y="3581280"/>
          <a:ext cx="27892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7892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629B-C1F4-49DC-9CF9-3CFCFE762C02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wo conductors separated by an insulator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to channel capacitor is ver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hannel charge necessary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have capacitance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reverse-biased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ffusion capacitance because it is associated with source/drain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CAF8-18D5-4D98-A4F5-5DCEEE2C19A9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channel as connected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3048120"/>
          <a:ext cx="75438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75438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A2401-D55C-4F69-9BF0-056B25D3BB96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886200" cy="26748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sirable,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depends on area and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diffusio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tacted 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cont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29080" y="20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1DC9-F892-4D48-B898-BF5763828909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 have treated transistors as ideal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N transistor passes a finite amount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erminal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current-voltage (I-V)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gate, source, drain all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and current determin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explore what a “degraded level” really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5105520"/>
          <a:ext cx="761976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05520"/>
                    <a:ext cx="7619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D71F-4FC2-40C3-BED9-2BF4F4150AA7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Capaci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body form 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809880" y="1981080"/>
          <a:ext cx="449604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981080"/>
                    <a:ext cx="449604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A515-ECF6-42A5-93A8-F0AAE3585805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rminal Vol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of operation depends 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rain are symmetric diffusion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source is terminal at lower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body is grounded.  First assume source is 0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gion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629400" y="1447920"/>
          <a:ext cx="213372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44792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C1B3-4732-468E-BC29-155FF30D5B78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Cutof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267080" y="2743200"/>
          <a:ext cx="41133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743200"/>
                    <a:ext cx="4113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7FA6-9130-4230-B887-430D7A6411E6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from d to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 t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linear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419720" y="2286000"/>
          <a:ext cx="411300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86000"/>
                    <a:ext cx="411300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AE3D7-5587-49AD-8E1D-3DE29BE0117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current satu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urren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343400" y="3657600"/>
          <a:ext cx="411336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7600"/>
                    <a:ext cx="41133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70D2D-493F-4403-8199-DAB27F4B8C5C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ar region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is in the chann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st is the charge m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22D2D-15ED-4834-8396-9C529F3CE68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06:33:27Z</dcterms:modified>
  <cp:revision>525</cp:revision>
  <dc:subject/>
  <dc:title>PowerPoint Presentation</dc:title>
</cp:coreProperties>
</file>