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3.png" ContentType="image/png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77350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A2D48-68E0-431B-8512-5FA61507C2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840FD-0079-48E2-AA81-98B16B4E19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9A153-8FF3-4E16-BACF-B31C5C732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72042-13C3-477E-B643-A21A87D3AC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0935-D9B7-41B6-AADB-4E850068AD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AF96-CC1C-41A8-B3E4-246CED12B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4418-A844-4EDD-B405-CD58A9CE3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067B-BC4B-430A-BDEE-7BF21FF42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29C5F-CA4F-40E5-A807-CAE61DB94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D3A0C-D637-4599-BB3A-B167D20C72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4BF7-9B90-4A13-A6E5-B05F73056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CE81-5F4E-49E3-A027-0DE78A0AEB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70123384-7C57-4D37-BCDD-BC2417322A7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4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MOS Transistor Theo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17DA-CAC7-413E-B76C-6CFC1EC19B9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75481-B529-4E71-B797-CF31A66C297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B109-90B3-4F1E-A7F1-16FCA937D7C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E53AE-B5B3-43E0-A709-4ED4241F536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D886-34AD-42A8-9F90-C6EA81ED102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AEEFA-2778-4F4B-991D-A3BD290BE674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B0883-1E34-4DBE-8540-9F81A6F165B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36FD5-CD2C-4060-937C-3C5F72B6397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37E4-D1DE-4040-8D53-972D809AAC6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3124080"/>
          <a:ext cx="75240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124080"/>
                    <a:ext cx="7524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B4DDB-E7C9-42F2-AE71-B988C3D1AE8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2971800"/>
          <a:ext cx="1796760" cy="12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1796760" cy="12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6961A-41E6-4A7F-B0AE-45495B49270E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D10E4-959E-49B5-AE5F-8241F7267C1D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0E417-7898-4C49-BFD0-F2FEB4BC474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3200400"/>
          <a:ext cx="7696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200400"/>
                    <a:ext cx="7696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124E-AD15-441B-9873-25277AEE847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3013200"/>
          <a:ext cx="42670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13200"/>
                    <a:ext cx="4267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A254D-3A8C-403F-9C31-B63B7ADFEDA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573A-C4E8-44D0-9718-401632717AD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7B6EE-4CDD-4DC0-809C-9337448F61B9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85800" y="5334120"/>
          <a:ext cx="50292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5334120"/>
                    <a:ext cx="50292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4BFBA-0461-4FD9-95CB-CFD65682CD3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57CF-4554-46F0-A0A0-7FF41CEB84B6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1A2C-D5D3-4E19-9B1D-D5C8450BFEF7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3048120"/>
          <a:ext cx="75438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75438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9100D-9205-4FCE-8CC3-F4CDF810835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886200" cy="26748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102F-B312-4BD3-8B97-7E68FB69FF9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explore what a “degraded level” really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FCFF4-8FEC-494B-98B9-FCCBE2E318AD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809880" y="1981080"/>
          <a:ext cx="449604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981080"/>
                    <a:ext cx="449604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25C7-A1EC-4C90-8AAE-B13C8249CFA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8B74-7036-48D0-B6D3-25A75778FE9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3C4C-BA8B-41DB-9B4D-E2E3A8FD516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419720" y="2286000"/>
          <a:ext cx="411300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86000"/>
                    <a:ext cx="41130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E1E2-9BB2-48C0-9FD2-DFD09A7C37A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571D-E24E-4E50-A92F-BF22C711374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3A094-833C-4578-85E4-56E9F35960A7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6:33:27Z</dcterms:modified>
  <cp:revision>525</cp:revision>
  <dc:subject/>
  <dc:title>PowerPoint Presentation</dc:title>
</cp:coreProperties>
</file>