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3EBA-2EEC-4D5F-A050-8525EC1F4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E4677-0EBF-4984-9917-2AA23C0D12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C895-3E21-443F-BF88-7FBBF91A4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B2C4-6949-4E9F-9956-7260A5F6AE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380CE-B72B-44D2-A84D-727DA26C2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37AB9-F309-4505-B2DB-39C5F949F3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38EAF-F052-4506-9F8B-93152A289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E0A23-59B3-4E07-8C65-9FDDB42E7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BBB9-893D-47A6-A082-427120D29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4595F-CAF5-446F-A732-06ECD8B5E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36CC-53E3-46A0-8109-0029A79DF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CDF76-B515-496A-838D-21E40B688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BA39219C-4DFF-4CB2-8674-1F354E921CA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1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5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Package, Power,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lock, and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1A24-9A37-444B-948D-20E14F64D14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AA73-8716-4AAA-A77E-0213B47032A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B6D5-B427-4D92-B42F-9E2AFB7AC13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E3BD-27C7-42B3-BE44-C05097CB70C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302D-624F-4249-B75D-44FA308A6B9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B4CE-5519-461C-AC20-47EEA0586B8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809B-5953-4DE5-8C8C-004436BF1C1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DF81-8727-4FAD-876D-F95BF31022D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7CED-4E4D-4624-B809-F073F016107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’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2A82E-0BF4-4E0D-A17F-2B5EA060B49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8EB9-2342-47A8-9EB2-6D79391C18A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A93B8-D402-4EE4-A17C-C71372CA7E9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90720" y="403848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03848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B4624-9D00-42C8-A592-0DD4D98F0F0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ycle Tim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of CPU performance comes from high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mproving faster than simple process shr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overhead is bigger part of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752480" y="2743200"/>
          <a:ext cx="5334120" cy="33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334120" cy="33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9404F-4F39-4C94-8B82-162EFA0141A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98BA5-6755-46B2-831B-37117C7C97F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49D9A-10C4-4500-B901-D260A06F7F4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A76E-FE52-4263-963C-29EB8E7810C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8C01-4690-4383-AEF4-70D1824E0F0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B83E-36AF-44A9-97AA-A03FE0D8999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5E6C-812A-4265-AC54-AC1D1D95D030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AB90-6D0A-403A-91C4-12ECD1A94AC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/ Outp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 Syste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between chip and extern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arge capacitance off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 at compatible voltag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dequat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slew rates to contro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chip against electrostatic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number of pins (low c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8F9A-DD4A-46A8-8091-9ED8E241DB0C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6CA96-E775-474F-A213-D1B527DF2D9C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/O Pa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D2D5-9F3C-4B32-A38D-2BBA359E13C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put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arge off-chip loads (2 – 50 p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uitable rise/f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hain of successively large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d rings to protect against latch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elow GND injects charg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MOS outpu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inner guard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outer guard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19920" y="3726000"/>
            <a:ext cx="2476440" cy="23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DBF5-6A2A-4599-B513-28C66CB94F0B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or lower off-chip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eed thick oxid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mitt 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steresis chang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against electrostatic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486400" y="1523880"/>
          <a:ext cx="30481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523880"/>
                    <a:ext cx="30481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257800" y="3048120"/>
          <a:ext cx="3276720" cy="14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276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6AAA-839E-48DF-AEE9-20C037666124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SD Prot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electricity builds up on your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 delivered to a chip can fry thi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dissipate this energy in protection circuits before it reaches th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D protectio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limiting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de cl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bod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human as charged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334120" y="2971800"/>
          <a:ext cx="190476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971800"/>
                    <a:ext cx="190476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553080" y="4838760"/>
          <a:ext cx="221004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838760"/>
                    <a:ext cx="22100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63B4-83BE-4AA5-9615-5927FB397FC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directional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input and output 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ristate driver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able signal to set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tristate avoids huge serie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90720" y="3352680"/>
          <a:ext cx="5943600" cy="14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2680"/>
                    <a:ext cx="594360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447920" y="4710240"/>
          <a:ext cx="259056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710240"/>
                    <a:ext cx="259056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8035-E33A-4679-88BC-3CF089903D7B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alog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analog voltages directly in or out of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circuits must not distort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601DF-E668-41BE-B144-6B1C2057DE8B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IS I/O P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wo-met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d 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oxide cl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576680" y="1905120"/>
            <a:ext cx="4019760" cy="416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609480" y="4572000"/>
          <a:ext cx="4029120" cy="1346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4572000"/>
                    <a:ext cx="40291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084A-3050-45E1-82D1-498C02BC728F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CD02E-879C-4585-B304-27B99E53536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hip Mod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057400" y="2895480"/>
          <a:ext cx="441972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95480"/>
                    <a:ext cx="441972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tium Pro M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connection of CPU to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, requires known good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93F0-55C4-407A-A5FC-AB5A44CEBF2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589A5-E0A2-4BF0-8919-268F6C13947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E2031-20BD-47A7-8F0C-23F1E501127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382D-E7EC-4FD5-94F4-CC43A08EE760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5: Package, Power, and I/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7546-B7AA-482A-A008-11841DEF7FB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42:07Z</dcterms:modified>
  <cp:revision>2077</cp:revision>
  <dc:subject/>
  <dc:title>PowerPoint Presentation</dc:title>
</cp:coreProperties>
</file>