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9051-0007-4D89-880A-C98E2E5DF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B1FD-50C6-4707-96BD-E25666889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F2A6-3CC7-499E-9486-CA34F54EE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EA29-737C-45CE-AC37-EB8A0C059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A335-394F-4199-913E-ABCCD058C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1FB7-A485-4A38-B6DB-201082AB3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3410-75FB-43B6-9B15-A0F259147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CAEC-3198-49D8-A469-971798FEF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3070-C118-4A05-AA45-307B9FD94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FFA2-3869-4A51-AEC6-B1A166A2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9DC0-6350-4B78-BF86-522C62FC6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9C90-4782-44D5-93BC-BC9EE777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CD1EBC52-72C1-4F50-B052-D6F90EF49A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1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Package, Power,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ock, an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0282-DD12-45BB-B5B9-112311012CC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907D-4200-43E3-8112-D64491E34E4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9A60-189F-4469-8A2D-0F96C60F80B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880C-2B5D-49E4-B644-296D290A1C4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30B7-2C00-4C12-B101-D314F1DCA60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9065-FE41-48F0-AB41-9099B359DD5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E24D-EA9C-4DB2-BAB1-E4A9A1D7984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874F-1697-4891-8D51-23F05ABF67E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FC55-DD9D-44C8-9A21-51A28E2F038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06CE-02A9-4817-871D-B044F133217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7940-6378-4BFB-972C-083F12018E2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1E27-6E90-478F-92FD-8035353C72F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59E7-4384-4FA2-81D9-E42218BC9F6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ycle Tim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CPU performance comes from hig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mproving faster than simple process sh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overhead is bigger part of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2743200"/>
          <a:ext cx="533412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3341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EC06-68FC-43D5-8847-4035761AB52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ACA2-772E-4A66-9CBD-3B07EFD19F6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D08D-583E-4422-A848-26B8FF82435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AB01-1B94-4C95-9D19-DA2C1D8243B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0C45-1100-49C0-A0D8-6A8DC673336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F12B-BAB2-4CBE-A465-B9FDFAD7208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7488-0C72-47CC-8C05-555C5388985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4E54-FEA4-4D17-A1A5-82D6B6324C3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/ Outp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 Syste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between chip and extern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capacitance of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at compatible voltag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slew rates to contro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hip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number of pins (low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AFCC-D6D9-41CD-A2CF-B020061F210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61B3-0903-4AA8-AFE0-B9B1E66F700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 Pa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CB74-6916-49C8-BFB8-0EEDED20CC6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off-chip loads (2 – 50 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itable rise/f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hain of successively larg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 to protect against latch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elow GND injects charg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MOS outpu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inn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out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9920" y="3726000"/>
            <a:ext cx="247644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C595-A197-465C-BDF3-67B3F09595F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r lower off-chi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hick oxid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mitt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steresis chang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486400" y="1523880"/>
          <a:ext cx="3048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048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257800" y="3048120"/>
          <a:ext cx="327672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27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0C90-0055-4FCC-B6B5-F85E2494E4C2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D Prot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 builds up on you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delivered to a chip can fry thi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issipate this energy in protection circuits before it reaches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protectio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bod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human as charge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4120" y="2971800"/>
          <a:ext cx="190476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19047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553080" y="4838760"/>
          <a:ext cx="221004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838760"/>
                    <a:ext cx="22100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4BFD-0DC7-4D81-80A8-4A6E75A2ECD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directional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input and output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istate driver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able signal to se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tristate avoids huge serie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3352680"/>
          <a:ext cx="594360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59436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47920" y="4710240"/>
          <a:ext cx="25905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710240"/>
                    <a:ext cx="25905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5E05-E933-4CC3-81ED-6AF38F1D2AA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alog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nalog voltages directly in or out o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circuits must not distort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9187-CB3D-41B6-A5EE-036FB40E63F3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IS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wo-met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xi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6680" y="1905120"/>
            <a:ext cx="4019760" cy="41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09480" y="4572000"/>
          <a:ext cx="402912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572000"/>
                    <a:ext cx="40291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B6E1-4A1B-4506-B0DB-0C8814277E56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D512-1483-4F2F-9267-23311A871A2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hip Mod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2895480"/>
          <a:ext cx="441972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95480"/>
                    <a:ext cx="44197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Pro M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connection of CPU to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, requires known good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7FF8-D5CF-40CC-AADD-F5E70A6F8C9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8EBA-F5C0-4FA4-A1CE-CDF735F2102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B2CA-B659-47E9-B04B-FF508DECE5F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B25D-DC8F-4396-B608-7AF7B27F8B4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E03C-A9EB-40D4-8FF2-EC05B0E9103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2:07Z</dcterms:modified>
  <cp:revision>2077</cp:revision>
  <dc:subject/>
  <dc:title>PowerPoint Presentation</dc:title>
</cp:coreProperties>
</file>