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66D5-ACB3-4F4F-B652-99AC430A1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C59D-0832-450A-B6FF-6FC1B6E2F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86AE-7D26-4E76-954D-416AD375A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B07C-9DC2-49AC-8780-046A1B9AF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1344-BAC5-404B-BEB2-5A2B90964B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23F2-B6DB-4FDA-999D-22666D19B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817C-E846-4337-AB4C-D5747B5A8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380A-4B9D-4EEA-A3B7-68E9D6A54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C53D-68A7-46FB-B0BF-777F93DBC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AA2B-5B66-455A-91E0-069B50E12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47B0F-37C3-4769-B42B-CC00A5D1E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5C15-3422-40A6-8839-A4679F7E3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D0B09A06-C716-4F64-8742-63F58D807F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4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Design for Test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686C-9370-483A-825A-86AE119E68A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IRSIM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1A09-6539-43B4-8A98-33E002679A1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0DF6-D713-40D2-8155-97976B08381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F1B4-8F26-42AD-9B39-CD3211458AE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E4BD-E686-4448-BA3C-33E60CA65B5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BD24-7DB3-4BCB-812A-095761EBD4B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11C4-968E-43C7-BB4F-2F91FD2FE01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151C-59CE-4D3E-BE80-F0A2599A0E8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BE3A-ACAB-4EB9-8313-30B9768FBC5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72B7-8B9D-4690-97DF-24323AA7ADF3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EFE2-782E-4B96-961A-FFFF5B2D752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1F87-73CE-4313-9430-09F9082A7DC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1AAB-54C8-4632-A3F0-68165ED4B617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3C23-7F41-4887-B1E1-B7900A2657C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D600-A449-4E62-BF48-8123E49CDB6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F63C-9C82-4F24-A9AD-EE79AB58074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077B-E9EB-44E9-814A-7A9FB6B877F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4747-78C3-4E54-8129-EA2AD77DE44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024B-569B-42B3-95FE-64C7A979735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3BF8-3A4E-4796-857A-2A016715D9E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16D7-717B-4462-9D9B-C8F059AD952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FE6C-1534-4B57-80CF-94691D320D0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7F34-9E57-4729-BF26-EB7C85871A5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E72B-7151-4B47-830F-E44EEC868CFD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E819-DE56-4862-A63F-03A8CCEB8C8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86F2-493D-4AF7-98CA-FFECA9E0E0F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BA6B-A4AC-4BBF-8713-AEAEBFD88B3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26EF-5047-4C70-897D-BAE851E3684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2FF3-3477-4872-A4D8-5D5D1E8A2F1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8537-68D1-4377-B085-4DA672B2D9E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FE3B-C343-4BFE-B592-4899C37AF8B7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DCA3-297B-4426-AD49-C02ABA7E0EF8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C7DA6-B529-436D-A8E8-A249C9F84C55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6686-2877-48D6-9422-F7925DFE25BC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7F80-4411-430B-A27B-DA0458965C6D}" type="slidenum">
              <a:t>40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07B8-A807-4A68-BD2A-E6508FE3F9B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15200" y="308304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506840"/>
            <a:ext cx="761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8360" y="4506840"/>
            <a:ext cx="1079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835600"/>
            <a:ext cx="7617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0360" y="5835600"/>
            <a:ext cx="76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9895-00D8-4A28-ABFD-F7D4D0D38C4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9B3B-7C6D-4731-8B7B-454C778BA8E5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BB3D-8602-4722-A290-3A47C6E9677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 Your Chi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have a multimillion dollar te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breadboard with LED’s an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k up a logic analyzer and pattern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a low-cost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3023-47D2-41DB-8B0E-E0166099483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35:00Z</dcterms:modified>
  <cp:revision>1853</cp:revision>
  <dc:subject/>
  <dc:title>PowerPoint Presentation</dc:title>
</cp:coreProperties>
</file>