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D07D-DBD3-4A33-BCB2-F94056D8A9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39A5D-30B9-45A5-BD9B-12850455C6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987E-033D-41C1-B156-579D614A6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DD4C1-BEBE-4C11-8519-29933618C9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E7D09-1BF4-4EDB-8A40-F782756892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AF57-6E44-4FEC-AF50-DEAB703E1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E8A26-443E-49FB-AF95-08D406E58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217E-2FCB-4FA3-B949-5433AAF5B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C0B1-1AE8-451E-9030-9A082621B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42988-7E5F-47E5-97DD-33DE98848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9E8D-D818-4B9D-86C3-AC326CEED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325B7-4DA0-44DD-9AEB-9A684F785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2A3C9740-AFF0-4DFC-8B90-0F119123DC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24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Design for Test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E6FB-8643-4179-A23D-59BD10C05A4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IRSIM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947C5-6ED0-4A6B-8799-447C45D0B46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70BA-3768-476E-A42B-AACE690AFBB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D15B1-250F-40E3-A6C3-A04D855AF38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BE0B1-FFBD-4963-A842-F0FE1CF738E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30A8-9712-4318-8043-6CBC9305550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D110C-A319-40F7-A504-F5DEB5ECF2D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3EFD-EE43-4531-B03A-C86CAB8B58F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3468-710C-4A1A-870F-7A9DE29AECE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410D-6936-4C5D-8B0C-728FEF45D512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E884-F05F-4CAD-9D4F-44DC92BB580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62BD8-BDA4-4FDB-B0D8-D3205CC634D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66D28-3860-4415-A0E8-E9D64A3CE58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A79B-76C9-4449-9198-EF733C23F7E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E32D-621E-40C4-A44A-3A263CF3EE0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EB3E7-3C2F-4169-AE30-D7E0C1FF58DA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BF00-5943-4772-AFD8-E559948F3F1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4E9B0-C0DB-411F-AF23-6885A4BAEDD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903C-068C-43CB-A39F-6D895B8DEC1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AF812-5C60-4D38-86FC-1818A069247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941B-7167-4FD9-89D0-6F7DC8DD500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5623-A3CA-4024-93FA-8578B73E674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D45A-4781-4C5E-92D2-9BA266724A5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B93C3-99FF-4D64-AFC2-1A72048194E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B1D9C-A394-4ABB-B047-173D5FA6A106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63A83-9D88-4D38-AC1F-284C1489D528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240A5-75AA-459A-9286-4CD32DEC96F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8CE62-9BD1-4640-BEFD-4DFD317D554B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38F1-364C-42C5-AB98-679AD92CE6FF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693E0-094B-438C-85E3-694EEC715FE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A233C-584F-4E46-8D8C-BA893D94B09D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BE46F-D207-4295-8118-BE0FA91754F5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1FAF0-8DAB-4878-B08B-0B55CF020831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777E-71E0-43E2-AFA1-4189D2D5F031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1F07-6030-40CA-BDE9-2DD5EC0F194A}" type="slidenum">
              <a:t>40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4732-FAC1-4097-81B8-803AC82C440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15200" y="308304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506840"/>
            <a:ext cx="761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78360" y="4506840"/>
            <a:ext cx="10796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5835600"/>
            <a:ext cx="7617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0360" y="5835600"/>
            <a:ext cx="76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99BA-042A-4899-B0D4-0E2F6F61A1B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195CC-D4A9-471A-AF9A-A5162E5F994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F58B9-33A1-46A0-8A47-C550A94F0E6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 Your Chi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have a multimillion dollar te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breadboard with LED’s an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ok up a logic analyzer and pattern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a low-cost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4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F6239-1B10-4F40-9188-C03D9E758F6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8:35:00Z</dcterms:modified>
  <cp:revision>1853</cp:revision>
  <dc:subject/>
  <dc:title>PowerPoint Presentation</dc:title>
</cp:coreProperties>
</file>