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20.wmf" ContentType="image/x-wmf"/>
  <Override PartName="/ppt/media/image4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11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CB15-CDFB-4335-A4BE-E55E3468D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BE3BD-2856-41F6-93A3-113542DF4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B848D-B183-4D90-BFF3-73D1A35B9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30B0-47DF-46A3-983F-95AD57416B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EFCC6-E63C-43F1-9DF7-66BE93E730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2389-2E9C-46ED-921E-D0BC582CBC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A990-3D28-4EE1-843F-2437E535E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3BD0-4735-46FD-B4E4-A2616DD40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799D-A9F6-483F-8D6E-1D3BF2C4F8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A3D04-5C0F-4DBC-8DBA-F01B6B715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3C689-51F5-4FC9-B21B-EB81C9F47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1986-AF89-40F7-89C8-2EA42AA09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A3537EE0-A685-4A47-AD53-C3981A575A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23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Scaling and Econom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AB2F5-1C1B-4F34-A592-96B654C4388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Assump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hanges between technology nod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 Fiel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mensions (x, y, z =&gt; W, L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ate length 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done as a quick gate shrink (S = 1.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7178-E42D-4F47-BD28-784D0FA897E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496728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455760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06560" y="4135320"/>
            <a:ext cx="21337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1600" y="371952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08360" y="330516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8520" y="2187720"/>
            <a:ext cx="64944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05240" y="2171880"/>
            <a:ext cx="649440" cy="95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9FC4-ACC1-4EEF-8103-BF946D1512A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496728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455760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06560" y="4135320"/>
            <a:ext cx="21337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1600" y="371952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08360" y="330516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BE78-FC7D-487F-B811-68329AC36CE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496728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55760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06560" y="4135320"/>
            <a:ext cx="21337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1600" y="371952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EBAC3-10CE-4E10-92F5-F81A31035F61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96728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19520" y="455760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06560" y="4135320"/>
            <a:ext cx="213372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91E8A-E35C-4F62-A92D-FCC94995944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496728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19520" y="4557600"/>
            <a:ext cx="213336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89326-BC4F-454E-922B-C345EBAAF75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496728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2D94-FAA0-4C3C-BD15-64D26CEA1E0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5130720"/>
            <a:ext cx="21333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A51E1-F9CB-4E83-9C12-E6ACE377A03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24200" y="5294160"/>
            <a:ext cx="213372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806E-BB43-461F-8F7E-57DCA072E42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08360" y="5459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4639-5A61-4DE6-B2E7-AF9D2FEB6C2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SI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2B927-5A0F-4070-90B1-ED4447F8482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08360" y="561492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950A-FF58-4A47-BF01-AFB1E369BDD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819520" y="5783400"/>
            <a:ext cx="213336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4F47-5053-4051-BDA8-08C3BA4417E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4232160" cy="443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9BAE4-B664-4584-BE13-5B570FE14B3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per micron is nearly independent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 resistance * micron improv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et faster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goes down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nsity goes up with scaling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saturation makes lateral scaling unsustain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096BC-3948-46BB-B6DF-368F7C0D20D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4 inverter delay in the TT corner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5EAB-8485-4D71-A155-0FC52BB3853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4 inverter delay in the TT corner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4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= (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30) ps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 = 8.33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resistance is roughly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5E597-24FD-4B7B-A2B2-2C4798B8319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Assump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constant vs. reduce in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/ scal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ize scaled b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50CF-624F-4E2C-A77B-46E6A692E73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75040" y="401148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68560" y="354024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960640" y="307512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76480" y="446076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67120" y="477504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99000" y="2220840"/>
            <a:ext cx="1368360" cy="64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B5AD-70A2-4F4E-852A-EC3BA0285D6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5040" y="401148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68560" y="354024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60640" y="307512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76480" y="446076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67120" y="477504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1355-EA75-48B9-A94C-8CC5D1FB93D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5040" y="401148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68560" y="354024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76480" y="446076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67120" y="477504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22F3-CDA8-4325-972D-3DC47DB57CE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65, Gordon Moore predicted the exponential growth of the number of transistors on an 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dou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year since i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&gt; 6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y 1975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limited by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559320" cy="3421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33520" y="4648320"/>
            <a:ext cx="4647960" cy="1441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3172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6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0F4C4-0189-47D7-BA81-FE76A837F3D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75040" y="401148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6480" y="446076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67120" y="477504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CCD2-6345-4F00-8EF3-0796FEA90DE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76480" y="446076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67120" y="477504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1CFE0-E025-4616-AF7C-34EAAF9CC348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67120" y="4775040"/>
            <a:ext cx="20574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75E6-BCCF-4CE3-9693-021F97E8CFAF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68560" y="5111640"/>
            <a:ext cx="2057400" cy="4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5D29-3CC6-44EF-A274-92DDBBF9D435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986200" y="5572080"/>
            <a:ext cx="205740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265F-7A57-4663-8AEC-3E944F3424B6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443376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49B2A-1CF3-4630-BDF3-585FF3514C80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327560" y="3405240"/>
            <a:ext cx="167796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24320" y="4572000"/>
            <a:ext cx="167796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5320" y="3613320"/>
            <a:ext cx="25146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3920" y="3983040"/>
            <a:ext cx="25146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76520" y="477036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73280" y="516240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911B9-8330-443D-A366-9C5BE68724DE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324320" y="4572000"/>
            <a:ext cx="167796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505320" y="3613320"/>
            <a:ext cx="25146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63920" y="3983040"/>
            <a:ext cx="25146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76520" y="477036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73280" y="516240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501A-D3CF-4F4A-BEAA-44CDA41D9484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324320" y="4572000"/>
            <a:ext cx="167796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63920" y="3983040"/>
            <a:ext cx="2514600" cy="33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76520" y="477036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73280" y="516240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AB693-B77E-465A-BBCB-6C51A4C4FF45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324320" y="4572000"/>
            <a:ext cx="167796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76520" y="477036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73280" y="516240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80197-04D7-4BD5-BC83-4ACCE8FA7E94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re Moo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 for the past three dec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66680" y="2514600"/>
          <a:ext cx="6477120" cy="34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514600"/>
                    <a:ext cx="6477120" cy="34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17E8B-4050-47BD-A217-A5A3FF106780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476520" y="477036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73280" y="516240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5B21-9C7A-4E1D-BEE8-7C2651E192F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473280" y="5162400"/>
            <a:ext cx="251460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2D2AF-C68E-4169-BD85-EF0EFF1AEC9F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5388120" cy="16686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693720" y="3192480"/>
            <a:ext cx="538020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DC88B-520E-43D0-8C67-5098B3A1CB7B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er micron is remain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1/10 of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ires are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acking transist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a maj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 are getting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possible to cross chip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90A5A-BC3F-4935-B57F-FD49C0D26E2F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Industry Associ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l. Technology Roadmap for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162560" cy="36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94C24-9F41-45A3-B826-264FF3DFF784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F3FBD-B605-4C78-879E-5FC407801F8F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, $0.01 bought you 100,000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’s Law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838080" y="3335400"/>
            <a:ext cx="7543800" cy="26874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4982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19EA-B3A1-4762-8145-9F9C7C86E03E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388620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/>
          <p:cNvSpPr/>
          <p:nvPr/>
        </p:nvSpPr>
        <p:spPr>
          <a:xfrm>
            <a:off x="5031000" y="579132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SIA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8B90D-4836-44CE-A736-F96AA2498FA3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leadin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gate block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396252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E3DB-62E2-41A8-9BA0-CB9523510ECA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chable Radiu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send a signal across a large fast chip in one cycle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microarchitect can plan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off-chip memory latencies were tol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828800" y="3429000"/>
          <a:ext cx="426708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426708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B9B9-0C37-459D-AE64-8197999150FB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eed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frequencies have also increased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rollary of Moore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600200" y="2438280"/>
          <a:ext cx="5410080" cy="36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54970-628D-458A-8DBC-491D126C0411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VP Patrick Gelsinger (ISSCC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aling continues at present pace, by 2005, high speed processors would have power density of nuclear reactor, by 2010, a rocket nozzle, and by 2015, surface of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s usual will not work in the fut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tock dropped 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nex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ttention to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249720" cy="21067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8698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9C06-7A54-4034-B82A-1CEFD2B29334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in gate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 in high value because of velocity s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crea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e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causes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OF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tur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426120" cy="2565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7010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3080" y="396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270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E1E78-656D-4387-8E93-1A229602A793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is increasing faster than designer productivity (gates /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desig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500 for a high-en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 desig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to rai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hesis, IP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good engineering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89127-7DFC-465F-8AC1-E8860DFB92F7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Lim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ore’s Law run out of st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build transistors smaller than an ato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sons have been predicted for end of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,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demise have been 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CEC9-CF1D-42BC-8E85-9BFC341C2078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LSI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1-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profi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curring engineering cost (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8B7D9-B828-406C-B416-5D29BBBE274B}" type="slidenum">
              <a:t>54</a:t>
            </a:fld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ize of desig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enefits, training,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front end: $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front end: $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back end: $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costs: $500k – 1M in 13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and package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50690-5078-4137-91CA-2FD9BA3A9BF0}" type="slidenum">
              <a:t>55</a:t>
            </a:fld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urring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 / (Dice per wafer *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: $500 - $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e per waf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: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cost proportional to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, cost increases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6872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3886200" y="2819520"/>
          <a:ext cx="190512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19051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5049-4991-47F5-AADE-4DF0ADFA87DB}" type="slidenum">
              <a:t>56</a:t>
            </a:fld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xed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eets and applica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E1EFA-5E2E-42EF-92AB-FA46496FE6A7}" type="slidenum">
              <a:t>57</a:t>
            </a:fld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tart a company to build a wireless communications chip.  How much venture capital must you ra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are smarter than everyone else, you can get away with a small team in just two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digital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nalog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upport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6558-8533-4BF5-8572-01D2F5479A9E}" type="slidenum">
              <a:t>58</a:t>
            </a:fld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F0F3-CD9A-4822-928B-2D9A37132105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383A-250E-4E71-ADBB-EC800AD35351}" type="slidenum">
              <a:t>6</a:t>
            </a:fld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120k * 7 = $8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40k * 3 = $7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5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70k * 5 = $3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@ $3.91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8M design &amp;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5891-1CCF-4FCD-AC69-6276D4086341}" type="slidenum">
              <a:t>60</a:t>
            </a:fld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Breakdow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hip design is fairly capital-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you can do it for l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95280" y="2590920"/>
          <a:ext cx="6782040" cy="32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6782040" cy="32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E5689-A251-4850-BC7D-DCB849BA9B7C}" type="slidenum">
              <a:t>61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D719-FD58-463A-8A3B-FD20C389D582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croarchitecture (mo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gate delay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B21A-9292-4CB8-805B-DAD29203273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constant in VLSI is constan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shrinks by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do not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may get w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facto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419720" y="3200400"/>
          <a:ext cx="4064040" cy="28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200400"/>
                    <a:ext cx="406404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895480" y="4572000"/>
          <a:ext cx="99072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4572000"/>
                    <a:ext cx="990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3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6AB20-F4FF-453D-A89E-3CA9341ABE7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47:20Z</dcterms:modified>
  <cp:revision>2176</cp:revision>
  <dc:subject/>
  <dc:title>PowerPoint Presentation</dc:title>
</cp:coreProperties>
</file>