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7627-1A65-4096-B67D-4611E5D2F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F693-DE92-44CA-A2C8-A61C51FD1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3602-EF72-4FF4-9CF9-1746306C9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78CA1-B63F-41CE-B788-E13B0EFA9D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9B0E-C066-491F-A493-AA20904746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59D0B-917F-4A44-83FC-1B94B73B4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F663-4B1E-410F-8AC9-7FF69C4B5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45F4-946E-40E4-9C0F-E6433DA16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BB794-4CEB-493B-9B46-494CEA7D6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A6E3-8B3E-4867-831B-9B6AACF14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7FC8-CB1F-4C91-9E8C-B0A3716F9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79DA-9657-43C6-8E72-5237ED5E8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8743C7CC-7743-4A59-A16D-5F02FB8E2F1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23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Scaling and Econom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862C-853C-4BBB-8521-83B0B479E31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Assump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hanges between technology no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Fiel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mensions (x, y, z =&gt; W, L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ate length 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done as a quick gate shrink (S = 1.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C93C-5521-4B25-8189-7D473058F216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496728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455760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06560" y="4135320"/>
            <a:ext cx="21337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1600" y="371952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08360" y="330516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8520" y="2187720"/>
            <a:ext cx="64944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05240" y="2171880"/>
            <a:ext cx="64944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F132-67F8-414C-8EF9-C54A0D98427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496728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455760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06560" y="4135320"/>
            <a:ext cx="21337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1600" y="371952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08360" y="330516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E420-DD93-4D5D-B4D1-F9AA760F274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496728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55760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06560" y="4135320"/>
            <a:ext cx="21337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1600" y="371952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9767-13FA-4528-B9D0-73B6557D36F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96728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455760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06560" y="4135320"/>
            <a:ext cx="21337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65E2-B435-4811-80DF-BFB6EFB1EF9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96728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55760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BD13-ED5C-4266-B1E9-CFB9A8C9599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496728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55D1-0BFA-428B-B7E1-660F1463B3D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42EEC-9E9E-4720-B119-1B8AE024AA4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02A5-28CA-44FD-A872-10F6F20F059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583E-9BD3-4CB3-9983-C5EF78CC7F25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SI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56BE-4670-4C00-AAE0-4582E49EE00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0391-5D5F-4857-AA15-C6E540186F9B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75972-3E5D-4ACF-83C7-C29D284A47F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8B66-32F1-4211-BD6E-2ACA737658E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per micron is nearly independent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 resistance * micron improv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et faster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goes down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nsity goes up with scaling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saturation makes lateral scaling unsus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D213-7B7E-4BBA-AE7D-C47945FFF9C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4 inverter delay in the TT corner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E52F-DD02-4B05-9763-C4D655FACF3B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4 inverter delay in the TT corner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4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= (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15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30) ps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 = 8.33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resistance is roughly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F0EB-9656-4AD4-B8F6-BA9D45B483F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Assump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constant vs. reduce in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/ scaled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ize scaled b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B6A7-EAD2-4BC1-9496-0D5D6BF9CEB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5040" y="401148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68560" y="354024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60640" y="307512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6480" y="446076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67120" y="477504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99000" y="2220840"/>
            <a:ext cx="136836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4348-03B1-4DC4-B798-1E8528268A1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5040" y="401148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68560" y="354024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0640" y="307512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6480" y="446076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67120" y="477504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7F5D-25A6-459C-8135-017CA3B200B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5040" y="401148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68560" y="354024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6480" y="446076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67120" y="477504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BCE3-0AFE-4DE9-A3A3-FE4D64B3AF5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65, Gordon Moore predicted the exponential growth of the number of transistors on an 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dou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year since i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&gt; 6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y 197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limited by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559320" cy="342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4647960" cy="1441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3172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6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17EE-55FA-49AE-915C-B90A3FF81CE0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5040" y="401148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6480" y="446076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67120" y="477504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6261-54C4-4F73-A096-2A30A41FC92A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6480" y="446076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67120" y="477504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DC5C-5BE0-46F6-98D6-1F0CA7C62307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67120" y="477504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4362-43B8-4B9F-813C-B590E3D2E61F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D44D-93CD-4B20-A7D5-AB01F2FE7B3F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7C1F0-60A2-4954-967F-E0C024CFBD55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F181C-E6A6-499E-B16E-CCF92C279652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327560" y="3405240"/>
            <a:ext cx="167796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24320" y="4572000"/>
            <a:ext cx="167796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3613320"/>
            <a:ext cx="25146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3920" y="3983040"/>
            <a:ext cx="25146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76520" y="477036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73280" y="516240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051C-E67F-47F1-A320-208761017464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324320" y="4572000"/>
            <a:ext cx="167796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613320"/>
            <a:ext cx="25146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63920" y="3983040"/>
            <a:ext cx="25146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76520" y="477036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73280" y="516240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ADF5-F0CE-47B1-B5F3-0510D1C9D30B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324320" y="4572000"/>
            <a:ext cx="167796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63920" y="3983040"/>
            <a:ext cx="25146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76520" y="477036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73280" y="516240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7B971-C225-4B2D-9275-77053C4D2560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324320" y="4572000"/>
            <a:ext cx="167796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76520" y="477036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73280" y="516240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C64E-DBAA-4631-A22F-B1F90F440A04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re Moo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 for the past three dec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66680" y="2514600"/>
          <a:ext cx="647712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647712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F6E1-E3BF-4E6E-B404-D8F89424EBE6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476520" y="477036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73280" y="516240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7AB2-D904-40A5-9119-7733BFD8155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473280" y="516240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01D8A-516B-45A5-AAD8-A7A1987ECD4E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BD6B-055A-42D2-B114-02B09F78DD0F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er micron is remaining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1/10 of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ires are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acking transist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a majo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 are getting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possible to cross chip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AE5D-0143-4335-841E-829567FF0E43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Industry Associ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l. Technology Roadmap for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162560" cy="36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E16B-9209-406D-BF61-06F940D831A1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it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454C-8A6A-43F2-A6D0-52F1B8B00D58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3, $0.01 bought you 100,000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’s Law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38080" y="3335400"/>
            <a:ext cx="7543800" cy="26874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4982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7480-2141-4B68-8B6F-BA2404827A6E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88620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5031000" y="5791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SIA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142D-B049-4497-BA89-88D6C42D88D0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leadin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gate block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96252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AF316-DA91-425E-9DA6-906B4E4C5FBE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chable Radiu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send a signal across a large fast chip in one cycle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microarchitect can plan around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off-chip memory latencies were tol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828800" y="3429000"/>
          <a:ext cx="426708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426708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E744C-69D1-4926-82B6-21FBA1F7DBFD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eed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frequencies have also increased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rollary of Moor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600200" y="2438280"/>
          <a:ext cx="541008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39B2-B3A9-415F-954D-5E0629E14689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VP Patrick Gelsinger (ISSCC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aling continues at present pace, by 2005, high speed processors would have power density of nuclear reactor, by 2010, a rocket nozzle, and by 2015, surface of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s usual will not work in the fut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tock dropped 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nex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ttention to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249720" cy="2106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8698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BF55-2697-4069-B308-B61CF74C9136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in gate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 in high value because of velocity s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decrea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evi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causes expon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OF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tur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426120" cy="2565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7010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53080" y="396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270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B135-3A53-4B05-B3FE-7D7F6FF64C40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is increasing faster than designer productivity (gates /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desig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500 for a high-en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ensive desig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to rais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y on synthesis, IP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good engineering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2576-E728-4AFA-89DF-D115E8DD86ED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Lim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oore’s Law run out of st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build transistors smaller than an ato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sons have been predicted for end of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,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demise have been 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B055F-BCBD-4000-8AD5-4C59CEF4251F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LSI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pri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1-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profi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curring engineering cost (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0A2D1-90F8-41FB-BB17-5BB68ECB4978}" type="slidenum">
              <a:t>54</a:t>
            </a:fld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size of desig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enefits, training,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front end: $1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front end: $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back end: $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costs: $500k – 1M in 13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 and package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D5C9-D751-4ECB-94CF-A08F81E02BDB}" type="slidenum">
              <a:t>55</a:t>
            </a:fld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urring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 / (Dice per wafer * Y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: $500 - $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e per waf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: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cost proportional to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, cost increases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06872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886200" y="2819520"/>
          <a:ext cx="190512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19051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0197-6A20-4666-B4EA-3BA87C7A3C70}" type="slidenum">
              <a:t>56</a:t>
            </a:fld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xed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eets and applica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99513-E49D-4AA2-88BD-6021227FEC6E}" type="slidenum">
              <a:t>57</a:t>
            </a:fld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tart a company to build a wireless communications chip.  How much venture capital must you ra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you are smarter than everyone else, you can get away with a small team in just two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digital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nalog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support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689B-1629-4234-BAAC-6954F2B1B84F}" type="slidenum">
              <a:t>58</a:t>
            </a:fld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9EEFB-6791-43BE-B982-ACEC6A9727A4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E250-A077-49E2-B88F-CA3D5CA23A01}" type="slidenum">
              <a:t>6</a:t>
            </a:fld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120k * 7 = $8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40k * 3 = $72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5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70k * 5 = $3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@ $3.91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8M design &amp;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A2DB-11A1-4C41-B257-8BAB8803AA59}" type="slidenum">
              <a:t>60</a:t>
            </a:fld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Breakdow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hip design is fairly capital-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you can do it for l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95280" y="2590920"/>
          <a:ext cx="6782040" cy="32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90920"/>
                    <a:ext cx="6782040" cy="32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67FFC-672E-4083-BC9B-129A9F5347FB}" type="slidenum">
              <a:t>61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4C50-5333-4D1D-84B8-B2F789C431A3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croarchitecture (mo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gate delay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21AE-48AA-4829-8104-F25D64A4F33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constant in VLSI is constan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shrinks by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do not im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may get w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facto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419720" y="3200400"/>
          <a:ext cx="4064040" cy="28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200400"/>
                    <a:ext cx="406404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95480" y="4572000"/>
          <a:ext cx="9907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4572000"/>
                    <a:ext cx="990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DFD7-EE9D-4180-8E4E-EA8B2DCDEAD7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47:20Z</dcterms:modified>
  <cp:revision>2176</cp:revision>
  <dc:subject/>
  <dc:title>PowerPoint Presentation</dc:title>
</cp:coreProperties>
</file>