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3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24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802F3-E2EB-4101-8A5E-4E928F1FB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13C66-FDA9-40AA-AE4D-A6AA5AA94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E0497-0D7F-47E3-8498-4263F7AC9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095A7-FA0C-48A0-B539-10131B8075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572B7-5D8A-4391-B62A-D4093256F5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F3338-8919-4CA4-8DA5-069CB7ADD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21731-F14D-4A35-A4FA-2A0BF58705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845BD-5C09-493F-94FD-949953A8CE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75AA2-B053-405C-8C25-55B8931BDC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E3015-901E-472B-8110-056F84D50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09067-2D4A-4427-A04D-F9EE6D8D85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59AF6-A9B3-4522-A9A1-C7FCED62E4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E0CEFACB-E6B5-40DC-8B2A-E038726B5FD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22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ircuit Pitfal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70BBD-22A3-4500-9ED9-C1CDD3B5A94C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o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(Y=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Y spontaneously flips to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is a dynamic node holding value as charge on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subthreshold leakage may disturb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666880" y="2209680"/>
          <a:ext cx="205740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09680"/>
                    <a:ext cx="205740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4BF32-1201-42F8-9107-5936C950A057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o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(Y=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Y spontaneously flips to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is a dynamic node holding value as charge on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subthreshold leakage may disturb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Kee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666880" y="2209680"/>
          <a:ext cx="205740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09680"/>
                    <a:ext cx="205740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429000" y="4800600"/>
          <a:ext cx="190512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800600"/>
                    <a:ext cx="190512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015E8-3BE8-40C5-90B5-7B37779EEB82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eudo-nMOS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nly one input is true, Y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ps only happens in SF cor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95280" y="2438280"/>
          <a:ext cx="297180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38280"/>
                    <a:ext cx="297180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788F3-59AF-4B0A-AA27-EB04DAE7EFDF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eudo-nMOS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nly one input is true, Y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ps only happens in SF cor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Ratio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OS and pMOS fight each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MOS is too strong, nMOS cannot pull X low enoug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2971800" cy="1150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A87EF-0205-43A6-AA47-D70BD2263282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eudo-nMOS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nly one input is true, Y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ps only happens in SF cor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Ratio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OS and pMOS fight each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MOS is too strong, nMOS cannot pull X low enoug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Check that ratio is satisfied in all cor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2971800" cy="1150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1168D-A0C2-4C61-913B-8CBC6D5D6869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stuck at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only happen for certain latches where input is driven by a small gate located far a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1828800" cy="1498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B2793-D4B8-499B-84B2-C24913B32259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stuck at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only happen for certain latches where input is driven by a small gate located far a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Ratio Failure (aga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es resistance of D driver, w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, and tgate must be mu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weak feedback inver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1828800" cy="1498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867280" y="3886200"/>
            <a:ext cx="2286000" cy="1420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C43B1-3582-4CBA-8D7D-CB7E18992543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stuck at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only happen for certain latches where input is driven by a small gate located far a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Ratio Failure (aga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es resistance of D driver, w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, and tgate must be mu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weak feedback inver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: Check relative str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unbuffered diffusion inputs where driver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95280" y="2286000"/>
          <a:ext cx="182880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0"/>
                    <a:ext cx="182880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867280" y="3886200"/>
          <a:ext cx="2286000" cy="142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3886200"/>
                    <a:ext cx="228600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914E4-E0BD-4EFF-BF18-6DD0BF94EE7B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6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o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wh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B = 0, so Z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is observed to sometimes 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2286000" cy="1397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BA211-2D61-42AB-9154-B3A13FB674DF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6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o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wh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B = 0, so Z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is observed to sometimes 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X was low, it shares charge with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2286000" cy="1397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715000" y="4191120"/>
            <a:ext cx="2286000" cy="1396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2B9E3-64F3-47A1-8E30-321B3FD41DE6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ve puzz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circuit and symptom, diagnose cause and recommend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se pitfalls have caused failures in real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CA631-90B9-4FF5-9A75-A302A7BB0975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6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o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wh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B = 0, so Z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is observed to sometimes 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X was low, it shares charge with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: Limit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 if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&gt;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precharge node X t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2286000" cy="1397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15000" y="4191120"/>
            <a:ext cx="2286000" cy="1396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600200" y="4800600"/>
          <a:ext cx="175248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480060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141F9-C6E0-4EAF-932C-5FC95F52B7D4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7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gate +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while transmission gate latch is 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latch becomes transparent, X 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057400" cy="1170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12946-F85C-49DA-9BCA-EB487BA1ADFB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7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gate +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while transmission gate latch is 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latch becomes transparent, X 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 was low, it shares charge with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057400" cy="1170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53C9F-7CE6-4781-A7D7-23711FCAA6C0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7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gate +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while transmission gate latch is 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latch becomes transparent, X 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 was low, it shares charge with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Buffer dynamic nodes befo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ing transmission 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057400" cy="1170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937FF-14E9-40DE-9D9F-0E0F974F5429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8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changes while latch is 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if D comes from a far-away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286000" cy="1145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9FF3E-8595-4218-9441-37A938266196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8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changes while latch is 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if D comes from a far-away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Diffusion Input Noise Sensi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 &lt; 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ansmission gate turns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kely because of power supply noise or coupling o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286000" cy="1145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B4272-2D6C-42F3-8F5B-78E3EF68B2D3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8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changes while latch is 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if D comes from a far-away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Diffusion Input Noise Sensi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 &lt; 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ansmission gate turns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kely because of power supply noise or coupling o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Buffer D lo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286000" cy="11458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029200" y="4876920"/>
            <a:ext cx="2590920" cy="1193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B4D93-81DC-44B4-A190-244CA51C3E55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9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gates are slower than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33480" y="107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153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B8F71-6897-4C45-98CE-1FBCFEB78A43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9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gates are slower than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Hot Spots and Power Supply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33480" y="107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temp" descr=""/>
          <p:cNvPicPr/>
          <p:nvPr/>
        </p:nvPicPr>
        <p:blipFill>
          <a:blip r:embed="rId1"/>
          <a:stretch/>
        </p:blipFill>
        <p:spPr>
          <a:xfrm>
            <a:off x="1295280" y="4114800"/>
            <a:ext cx="2286000" cy="19652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28800" y="153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vdd" descr=""/>
          <p:cNvPicPr/>
          <p:nvPr/>
        </p:nvPicPr>
        <p:blipFill>
          <a:blip r:embed="rId2"/>
          <a:stretch/>
        </p:blipFill>
        <p:spPr>
          <a:xfrm>
            <a:off x="3886200" y="4114800"/>
            <a:ext cx="2819520" cy="1946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1D3D2-006E-42FA-A494-9F52B522EDE8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noise / ground bo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ive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feed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delay (for noise to settle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ncorrect comp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9C246-F70A-4BBE-AD59-9A2AE6C924A2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:1 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x works when selected D is 0 but not 1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ails at low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ails in SFSF cor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219320" y="2301840"/>
          <a:ext cx="2971800" cy="14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01840"/>
                    <a:ext cx="297180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C1A0E-2ACC-42E9-B6E9-A92C2E1E247F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5715000" cy="312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3433F-2F4A-47F0-9AD8-508C220BAE04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lectromig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wind” causes movement of metal atoms alo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ssive electromigration leads to ope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ignificant for unidirectional (DC)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current density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urrent / ar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dependence on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’s Equ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limits: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1 – 2 mA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v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2596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114800" y="3886200"/>
          <a:ext cx="1676520" cy="10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886200"/>
                    <a:ext cx="167652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09D6F-2CA7-40C5-A501-EA4D480B79B3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lf-Hea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through wire resistance generates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 surrounding wires is a thermal ins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tends to build up in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ter wires are more resistive,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heating limits AC current densities for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limits: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m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15 mA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30560" y="30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371600" y="3809880"/>
          <a:ext cx="108252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9880"/>
                    <a:ext cx="10825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9EB62-E507-4F37-B411-82488F58C474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ot Carri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s across channel impart high energies to some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“hot” carriers may be blasted into the gate oxide where they become tra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ion of charge in oxide causes shift i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s too far for devices to operate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chieve reasonable product life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problems for inverters and NORs with slow input risetime and long propagation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F7F2D-137E-43FC-9F3B-92B0DFDC8E71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u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6172200" cy="2436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7162920" y="4419720"/>
            <a:ext cx="1676160" cy="125568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chup: positive feedback leading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GND 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problem for 1970’s CMOS processes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well underst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by minimizing resistance of body to GND /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lenty of substrate and well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517FA-2D59-44FC-A1BE-7D16E11C7B7A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uard Ring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chup risk greatest when diffusion-to-substrate diodes could become forward-bi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round sensitive region with guard ring to collect injected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6933960" cy="297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0C277-3C9E-459D-9F9C-1F370036EFA1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vervolt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oltages can damage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static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 a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ch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-dependent dielectric breakdown (TD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ed wear from tunneling cur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w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in oxides and short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SD protection structures where chip meets real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B610A-8A0D-4CF1-A853-0F76355E94B2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ft Err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70’s, DRAMs were observed to occasionally flip bits for no apparent re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 linked to alpha particles and cosmic 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s with particles create electron-hole pairs in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arriers are collected on dynamic nodes, disturbing th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soft errors by having plenty of charge on dynamic no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lerate errors through ECC, redund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00B7F-63EF-4206-AE89-09F15A7F291A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 gates are very rob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settle to correct value if you wait long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ircuits suffer from a variety of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off between performance &amp; robus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important to check circuits for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chips, you need an automatic che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rules aren’t worth the paper they are printed on unless you back them up with a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6734D-AB25-40E4-B18B-64948FF01635}" type="slidenum">
              <a:t>38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:1 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x works when selected D is 0 but not 1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ails at low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ails in SFSF cor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19320" y="2301840"/>
          <a:ext cx="2971800" cy="14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01840"/>
                    <a:ext cx="297180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Threshold 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never rises abov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raised by the body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reshold drop is most serious a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omes a greater fraction of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CDD27-2871-4284-B2B7-65518A525E46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:1 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x works when selected D is 0 but not 1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ails at low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ails in SFSF cor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219320" y="2301840"/>
          <a:ext cx="2971800" cy="14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01840"/>
                    <a:ext cx="297180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Threshold 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never rises abov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raised by the body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reshold drop is most serious a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omes a greater fraction of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Use transmission gates, not pass tran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2483C-86A2-4A23-97D4-0E3C1F3C902F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a 0 into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Q spontaneously flips to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371600" y="2286000"/>
          <a:ext cx="2362320" cy="12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0"/>
                    <a:ext cx="236232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E0507-D0CB-4880-98F6-2BF62276AF8D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a 0 into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Q spontaneously flips to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is a dynamic node holding value as charge on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subthreshold leakage may disturb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371600" y="2286000"/>
          <a:ext cx="2362320" cy="12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0"/>
                    <a:ext cx="236232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58517-1B97-41DD-B5F8-7B1089865B20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a 0 into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Q spontaneously flips to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is a dynamic node holding value as charge on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subthreshold leakage may disturb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Staticize node with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periodically refresh node (requires fast clock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actical processes with big leak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371600" y="2286000"/>
          <a:ext cx="2362320" cy="12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0"/>
                    <a:ext cx="236232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6858000" y="4800600"/>
          <a:ext cx="1717560" cy="12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4800600"/>
                    <a:ext cx="1717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3340A-A465-4FF2-AD91-ACBC9E312088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o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(Y=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Y spontaneously flips to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2209680"/>
          <a:ext cx="205740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09680"/>
                    <a:ext cx="205740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C434F-179B-4BCB-A8D4-564DC8387684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18:32:21Z</dcterms:modified>
  <cp:revision>1748</cp:revision>
  <dc:subject/>
  <dc:title>PowerPoint Presentation</dc:title>
</cp:coreProperties>
</file>