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DD2B-8AD6-44D8-9DCF-1F2091D42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E3141-D674-4D7D-A533-E122F60EC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E83F-F0A1-44D9-9413-B085B666E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A2700-38E5-4ABA-AB9A-549A56B241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B50B2-EDFD-4652-852A-A04F744966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0C5E2-6092-4D81-9041-45E1BC7DE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A4BE-3A3E-4F35-B819-20C4CDFF4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35BE-5E9D-4853-B24A-6F4E2E8E95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2A859-A656-4E93-954F-25EBD133A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AE9A8-C41F-4BA3-823C-BEF2D22E2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F112F-A169-4724-A1B3-AA0352245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2081A-0742-4CB3-A3CD-088A9CCD4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5873911C-5512-4602-9A06-0E533C8E32C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22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ircuit Pitf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730A0-900E-42A2-A171-2F487248EA6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8AB62-B9F7-4C97-B0FC-457B6B5E812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Kee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429000" y="4800600"/>
          <a:ext cx="19051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80060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BB65-0E69-48F7-AC57-3B449AC3799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2438280"/>
          <a:ext cx="2971800" cy="11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297180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6AA9-D7DC-44CA-A3B5-14705C7AEDB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A39D-C236-4805-82E6-FADA3383C95E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heck that ratio is satisfied in all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6CB0-FB72-4C17-A99C-5B00EFB3B664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1828800" cy="1498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0F25C-68D1-458C-97B2-414F27F08F09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95280" y="2286000"/>
            <a:ext cx="1828800" cy="1498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867280" y="3886200"/>
            <a:ext cx="2286000" cy="1420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1CD2-0CD4-4E1D-9564-63D5ADE2D75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Check relative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nbuffered diffusion inputs where driver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295280" y="228600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867280" y="3886200"/>
          <a:ext cx="2286000" cy="142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886200"/>
                    <a:ext cx="2286000" cy="14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FFB57-8C8D-46D6-BDBB-7B92A5A3426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607A9-7783-4FA6-B5BE-D81437857CD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2286000" cy="1396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926C-881D-4D82-B2CF-16D901BF65A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ve 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ircuit and symptom, diagnose cause and 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pitfalls have caused failures in re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C26EF-0EF7-476E-9873-F70F3E8D8AB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Limit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&gt;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recharge node X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2286000" cy="1396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00200" y="4800600"/>
          <a:ext cx="17524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D549-0C16-4162-B9A6-6CE1D5FFEF6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EDB7-E892-4843-BDA4-DDD1F3E8670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C578-6AA5-4D98-969C-634FC2787A7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ynamic nodes b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transmission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56D27-1462-43A0-9B8A-E7FA461075F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4832-FBF6-4364-9817-1768C53A0DF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AF21-78CC-4452-8F42-03B214FD4085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029200" y="4876920"/>
            <a:ext cx="2590920" cy="1193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8397F-B134-4132-AB7A-A3430D03A3A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9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gates are slower than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3348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7473-82C0-4D26-83CE-2FC6AA2FC795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9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gates are slower than ex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Hot Spots and Power Supply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33480" y="107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temp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2286000" cy="19652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2880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vdd" descr=""/>
          <p:cNvPicPr/>
          <p:nvPr/>
        </p:nvPicPr>
        <p:blipFill>
          <a:blip r:embed="rId2"/>
          <a:stretch/>
        </p:blipFill>
        <p:spPr>
          <a:xfrm>
            <a:off x="3886200" y="4114800"/>
            <a:ext cx="2819520" cy="1946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8EED-2193-4F55-B04D-2AD36F729FE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 / 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eed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(for noise to settl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correct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D6005-F0E3-4F54-BB21-2529B1ACA7A6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BE7A-AE05-411F-A2F5-5E1B21F89C8D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5715000" cy="312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E96C2-8205-4E2C-8592-9C5FA3F9A7E5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ectromig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wind” causes movement of metal atoms a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electromigration leads to ope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gnificant for unidirectional (DC)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urrent density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urrent /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dependence o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’s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 – 2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vide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2596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114800" y="3886200"/>
          <a:ext cx="167652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886200"/>
                    <a:ext cx="167652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C2A5-4D9E-4176-AD7E-16844DBCAF19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Hea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ough wire resistance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surrounding wires is a thermal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ends to build up in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ter wires are more resistive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heating limits AC current densities for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5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3056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371600" y="3809880"/>
          <a:ext cx="1082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1082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763D-7951-431D-85A2-F73F67F5232B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t Carr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across channel impart high energies to som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“hot” carriers may be blasted into the gate oxide where they become t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charge in oxide causes shift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s too far for devices to operat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hieve reasonable product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problems for inverters and NORs with slow input risetime and long propagation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765B6-42DD-4678-B6CE-D24D53BE949D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u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617220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7162920" y="4419720"/>
            <a:ext cx="1676160" cy="12556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: positive feedback leading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ND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roblem for 1970’s CMOS processe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well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y minimizing resistance of body to GND /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enty of substrate and well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A7E7-6F6D-435E-BAB6-1B2B0472FAC1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uard Ring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 risk greatest when diffusion-to-substrate diodes could become forward-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 sensitive region with guard ring to collect inj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93396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B4F1-8229-46EA-8B1E-CF8AA1AAFA3C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ver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tages can dama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static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a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ch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dependent dielectric breakdown (TD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ed wear from tunneling cur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in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SD protection structures where chip meets re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D30DC-7109-4631-806F-696347B3E561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ft Err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0’s, DRAMs were observed to occasionally flip bits for no apparent r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linked to alpha particles and cosmic 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particles create electron-hole pairs i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riers are collected on dynamic nodes, disturbing th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soft errors by having plenty of charge on dynamic n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errors through ECC, redunda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3D709-FB79-460F-82E4-7BDFA1C2DD5D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gates are very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ttle to correct value if you wait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ircuits suffer from a variety of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performance &amp;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important to check circuits for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chips, you need an automatic che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ules aren’t worth the paper they are printed on unless you back them up with a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73DC8-635D-4EA7-AE58-CF927896E3EF}" type="slidenum">
              <a:t>38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AA16-6D29-4031-95F7-4F3CE718635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Use transmission gates, not pass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82AD4-E0E3-43D9-92DF-F7EB4FB2C3BD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7CCB-D7FA-4AD1-9BE3-738EB12C98D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F8E8-A01C-4A35-B16F-59C9556C677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Staticize node with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iodically refresh node (requires fast cloc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actical processes with big leak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858000" y="4800600"/>
          <a:ext cx="171756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4800600"/>
                    <a:ext cx="1717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F25D-F947-4890-AE3A-8524428B4ED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2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EA210-8294-4FB9-925B-D89B7558362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32:21Z</dcterms:modified>
  <cp:revision>1748</cp:revision>
  <dc:subject/>
  <dc:title>PowerPoint Presentation</dc:title>
</cp:coreProperties>
</file>