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223375" cy="6980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10B9-7227-4566-B6E9-2146003C1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3D86-C153-4071-9D25-55FC2D646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ACE4-6A3D-46AA-A635-AD2FFAD7F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DCE8-7F54-49F3-9C87-045FCE14F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2CF6-A863-4F19-9239-DBC9AEECF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BDDC-F8EA-4BEE-AC0F-95497B06E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D925-B0E8-4C11-9B37-8012E9729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46F79-3EE0-4923-B099-568A6C5B0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39A3-9E20-4EA6-B57F-FAB892073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97DC-A1DE-4C3F-BC02-CC8A40E9B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4957-B7C8-4014-8879-0050C3291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E2A6-D926-4F3D-9307-E75EDA2D5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C92CC415-8DFA-4741-9D23-E102E5EAB1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1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Design for Low 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79CB-0A6F-40CE-B5A9-B3C9AC201D0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gates: 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: activity factor = 0.05 (many bank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per M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76B8-11A1-4259-BE05-1F09DAB4F35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gates: 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: activity factor = 0.05 (many bank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per MHz.  Neglect wire capac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06360" y="4038480"/>
          <a:ext cx="6807240" cy="17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360" y="4038480"/>
                    <a:ext cx="680724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5B37-45B4-4B36-A7FA-2C7ED20845C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5120" y="3962520"/>
          <a:ext cx="3352680" cy="117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335268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05120" y="5334120"/>
          <a:ext cx="434340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5334120"/>
                    <a:ext cx="43434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E303-D172-42A8-B488-042CBC1E68B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0.4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A953-3FEE-4926-88E4-03C7A4525CD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0.4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859120" y="4191120"/>
          <a:ext cx="3348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9120" y="4191120"/>
                    <a:ext cx="334800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7C86-2D50-4916-B1E4-076DE271124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has two threshold voltages and two oxide thicknes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2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thi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2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thick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use low-leakage transistors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use low-leakage transistors on 80%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DBE7-1E8E-48A1-AC61-B2738D3E05C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Example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E099-6321-4DE8-ADC3-97CF1018AD7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Example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657600" y="1981080"/>
          <a:ext cx="4724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4724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33920" y="2438280"/>
          <a:ext cx="4325760" cy="9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438280"/>
                    <a:ext cx="43257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23880" y="3429000"/>
          <a:ext cx="5583240" cy="163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429000"/>
                    <a:ext cx="558324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8813-56A2-4A21-880C-2571DA86EF0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Example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ow leakage device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49 mW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657600" y="1981080"/>
          <a:ext cx="4724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4724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733920" y="2438280"/>
          <a:ext cx="4325760" cy="9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438280"/>
                    <a:ext cx="43257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523880" y="3429000"/>
          <a:ext cx="5583240" cy="163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429000"/>
                    <a:ext cx="558324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2887-279B-47CD-9284-5FB716B23012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1C03-B2B0-4A45-A3A9-FE5FD8BBC69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1D9B-3917-4542-A490-3E497B359F4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5DD5-7A4D-4361-8028-225D17144157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small transistors (esp. on clock), short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97C4-FA7A-480C-B54E-A9B8119FF06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small transistors (esp. on clock), short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west suitabl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E3BF-3853-4786-BBB7-8E161C72C7B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small transistors (esp. on clock), short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west suitabl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 lowest suitabl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E8C9-C8C0-4D38-8A2D-C1DD5CD20A5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small transistors (esp. on clock), short w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west suitabl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 lowest suitabl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ly use ratio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ly 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redu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ed devices, body bias, low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2225-EB17-4B90-930C-FC6B763DE730}" type="slidenum">
              <a:t>24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343400" y="2819520"/>
          <a:ext cx="205740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819520"/>
                    <a:ext cx="2057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343400" y="3475080"/>
          <a:ext cx="350532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75080"/>
                    <a:ext cx="35053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43400" y="4419720"/>
          <a:ext cx="3429000" cy="101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419720"/>
                    <a:ext cx="3429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7668-F89D-4CFF-8D42-31A29016C883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is required to charge and discharge load capacitances when transistors swi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ycle involves a rising and falling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ising output, charge Q = C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falling output, charge is dumped to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peats T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an interval of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BD7F-E90E-4EA1-BF42-E7DD50E399E5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1905120"/>
          <a:ext cx="123984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12398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8522-C624-4BF3-9E64-B74251277A7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1676520"/>
          <a:ext cx="33811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33811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890B-C1BD-46E0-B2FD-317A2C2BD0A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either 0 or 2 times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9880" y="5410080"/>
          <a:ext cx="25923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541008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6354-0D0B-4286-A418-019C8CC7F235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1619-A253-438F-A6D3-E8E94C9918B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M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V 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11A9-3D01-4BA9-956C-B1FEF13A475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6T01:54:47Z</dcterms:modified>
  <cp:revision>1904</cp:revision>
  <dc:subject/>
  <dc:title>PowerPoint Presentation</dc:title>
</cp:coreProperties>
</file>