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9223375" cy="6980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E5A97-4381-46D7-97A8-94540515C8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F3AD4-9F53-415F-A2B3-D0E73617F5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A656D-4A54-4C9A-931D-8EB6AE8AC1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53136-FF98-46BB-8834-0DB040BED4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8118B-F8B8-4CA4-B7D4-64F130FD62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3C84A-AF16-45C3-803A-0E843C87E8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E68F0-E310-42BB-B146-73CF4B14AC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C5030-03AE-4677-AE4C-3E340AA7D3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D0699-FF7D-4120-B42F-A687DB51E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A32B4-07C5-45E7-BB58-145656DBDA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50C60-D17A-43F4-B154-2B62CF5EEA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FA551-2B08-48FC-91CD-1FCED8577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17711CFB-672C-45E0-BF7F-3C076D2DEA8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MOS VL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</a:t>
            </a:r>
            <a:br>
              <a:rPr sz="3600"/>
            </a:br>
            <a:br>
              <a:rPr sz="2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ecture 21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Design for Low Pow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714F0-DA23-446C-A5B7-FD4E5B636DE1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CMOS logic gates: activity factor = 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arrays: activity factor = 0.05 (many bank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dynamic power consumption per MHz.  Neglect wire capacitance and short-circuit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2071F-703F-441F-91ED-A1D70F9A9365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CMOS logic gates: activity factor = 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arrays: activity factor = 0.05 (many bank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dynamic power consumption per MHz.  Neglect wire capaci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06360" y="4038480"/>
          <a:ext cx="6807240" cy="17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6360" y="4038480"/>
                    <a:ext cx="6807240" cy="17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F7913-A7AC-4C36-9AC8-4C9EEEF7EC46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ic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power is consumed even when chip is quies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ed circuits burn power in fight between O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draws power from nominally OFF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905120" y="3962520"/>
          <a:ext cx="3352680" cy="117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962520"/>
                    <a:ext cx="3352680" cy="117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349740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905120" y="5334120"/>
          <a:ext cx="4343400" cy="61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5334120"/>
                    <a:ext cx="43434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58353-A688-44B2-9AB3-1E5934E7E3E1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atio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ip contains a 32 word x 48 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pseudo-nMOS decoder and bitline pull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verage, one wordline and 24 bitlines are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static power drawn by the 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7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/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0.4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2788A-2767-4D67-9346-F632A83D33AD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atio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ip contains a 32 word x 48 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pseudo-nMOS decoder and bitline pull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verage, one wordline and 24 bitlines are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static power drawn by the 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7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/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0.4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859120" y="4191120"/>
          <a:ext cx="3348000" cy="16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9120" y="4191120"/>
                    <a:ext cx="3348000" cy="16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1DAD7-B69A-47C7-803B-618456C05BCF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kage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 has two threshold voltages and two oxide thickness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leakag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n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for low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2 n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for 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ea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n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for thin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02 n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for thick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ies use low-leakage transistors every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use low-leakage transistors on 80% of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6AA43-DDD9-49BA-9C5A-6CBEC7C61136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kage Example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static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807A1-C1AB-46F2-A480-CC421CAC2CDB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kage Example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static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lea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lea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657600" y="1981080"/>
          <a:ext cx="472428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981080"/>
                    <a:ext cx="47242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733920" y="2438280"/>
          <a:ext cx="4325760" cy="91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438280"/>
                    <a:ext cx="432576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523880" y="3429000"/>
          <a:ext cx="5583240" cy="1633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3429000"/>
                    <a:ext cx="558324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BABA4-5560-460D-B20D-62D90E95DF61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kage Example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static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lea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lea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low leakage devices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749 mW (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657600" y="1981080"/>
          <a:ext cx="472428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981080"/>
                    <a:ext cx="47242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733920" y="2438280"/>
          <a:ext cx="4325760" cy="91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438280"/>
                    <a:ext cx="432576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523880" y="3429000"/>
          <a:ext cx="5583240" cy="1633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3429000"/>
                    <a:ext cx="5583240" cy="16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4D85C-B2B7-4AF6-BB30-9B35C05F0785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w Power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tat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79EFB-F441-46E5-B76D-F9D9CE4107BB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an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Power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5C45E-1A12-41FE-AE4D-E36A6000ECDF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w Power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lock gating, sleep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tat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F5EFA-2464-4F79-A656-B4CA622BBAD4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w Power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lock gating, sleep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: small transistors (esp. on clock), short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tat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4888F-A1F8-4F65-A2E4-900C57BCD51F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w Power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lock gating, sleep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: small transistors (esp. on clock), short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owest suitable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tat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17B6E-94D1-4C93-A4ED-968A45C923B1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w Power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lock gating, sleep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: small transistors (esp. on clock), short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owest suitable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: lowest suitabl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tat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3971D-1A02-458B-9615-0EEC0CFE9495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w Power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lock gating, sleep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: small transistors (esp. on clock), short wi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owest suitable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: lowest suitabl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tat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ly use ratioed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ly use low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reduc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cked devices, body bias, low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039AB-8C9F-40CC-B600-71B9F7430E97}" type="slidenum">
              <a:t>24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and Energ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is drawn from a voltage source attached to th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in(s) of a c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taneous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343400" y="2819520"/>
          <a:ext cx="2057400" cy="4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819520"/>
                    <a:ext cx="205740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03056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343400" y="3475080"/>
          <a:ext cx="3505320" cy="97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3475080"/>
                    <a:ext cx="350532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76092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343400" y="4419720"/>
          <a:ext cx="3429000" cy="1012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4419720"/>
                    <a:ext cx="342900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C48CD-7B90-4F84-8C21-D7D0587BB20D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 is required to charge and discharge load capacitances when transistors swi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cycle involves a rising and falling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rising output, charge Q = C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falling output, charge is dumped to G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peats T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an interval of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48320" y="4114800"/>
          <a:ext cx="3809880" cy="19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4114800"/>
                    <a:ext cx="38098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84F8A-DCD0-439B-990C-DAA0A3763D16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Power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62120" y="1905120"/>
          <a:ext cx="1239840" cy="5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05120"/>
                    <a:ext cx="123984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648320" y="4114800"/>
          <a:ext cx="3809880" cy="196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114800"/>
                    <a:ext cx="38098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A52A4-0FD1-482E-89A6-C219DD41A166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Power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762120" y="1676520"/>
          <a:ext cx="338112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33811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4648320" y="4114800"/>
          <a:ext cx="3809880" cy="196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114800"/>
                    <a:ext cx="38098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80EAA-1B67-45AB-842F-21FE3136A21C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ctivity Fac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the system clock frequency =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, 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ctivity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ignal is a clock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ignal switches once per cycl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gat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either 0 or 2 times per cycl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g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design, but typicall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336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592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809880" y="5410080"/>
          <a:ext cx="25923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5410080"/>
                    <a:ext cx="25923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1ED76-6A10-407F-8D4F-7EB3136CB617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ort Circuit Curr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ransistors switch, both nMOS and pMOS networks may be momentarily ON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a blip of “short circuit”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10% of dynamic power if rise/fall times are comparable for input an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95E77-F594-4061-B8F5-0292F4086473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 Mtransistor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M logic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width: 1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0M memor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width: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 V 100 n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Design for Low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6BCC2-6554-4C33-9313-0E5CB090248D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07-01-16T01:54:47Z</dcterms:modified>
  <cp:revision>1904</cp:revision>
  <dc:subject/>
  <dc:title>PowerPoint Presentation</dc:title>
</cp:coreProperties>
</file>