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25.png" ContentType="image/png"/>
  <Override PartName="/ppt/media/image10.wmf" ContentType="image/x-wmf"/>
  <Override PartName="/ppt/media/image2.png" ContentType="image/png"/>
  <Override PartName="/ppt/media/image30.jpeg" ContentType="image/jpeg"/>
  <Override PartName="/ppt/media/image11.wmf" ContentType="image/x-wmf"/>
  <Override PartName="/ppt/media/image26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2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14426-3F2A-4923-B439-803EEEF05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2E46B-F474-406A-B96C-775FBA40A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0A3E-146F-4EA2-8C1A-0EF2E0C6C9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5B3F-A89B-417F-B58B-86C56922B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7CF81-192F-4E6E-B0C9-981A2BD309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BEB67-FB30-4233-B1CC-DF95DD72F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B6BF-468A-4B85-806F-F240FF39E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1659-CF10-4110-89A9-F30C50542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59D6-6CA2-4BC1-AA0C-86905ADE5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41ED-35BA-419D-AD87-7B72F116E0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4D0F-E673-4187-8484-248965D1A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2BEF8-7CC8-48A5-8EFE-1E966C8290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1440AE47-B357-409F-9DF2-3AEEC4E5B7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MIPS Processor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94E68-F59B-40D4-9979-9DE64D74485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4774-18E5-4C0B-B88A-4061DB2DED5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27910-312A-425F-8A02-A1776E65556B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95BC0-EAB1-4210-BAB1-CDAF7BC3782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EBBA-6FC0-451E-B478-45B205DDFAF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34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1538-8E13-4818-8671-C93F517B56B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68F3-FB1F-4AC8-8412-671AC55BC61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BF7A4-1BEF-4D36-8318-CC6CF8B3481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90720" y="2057400"/>
          <a:ext cx="723888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72388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B23CB-AC85-48DE-B8AC-06AD9AEB452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930BA-9668-4261-9644-300BE3A8461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C672-1D1B-422F-A12D-5CC9C611D93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EFF0-A38D-4887-9192-4235BDCD602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762120" y="1892160"/>
          <a:ext cx="6476760" cy="41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92160"/>
                    <a:ext cx="6476760" cy="41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858000" y="1523880"/>
          <a:ext cx="1600200" cy="8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523880"/>
                    <a:ext cx="1600200" cy="8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9187-9F0A-4C42-8ECA-E88FC34AB40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43012-E9E2-4344-8C49-2C4BA5385A3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A623-2FCF-42CD-816B-8A0E4167E55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90479-30D3-4052-ADA2-FD17D7D875E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CF367-B18F-454E-9950-9A79E6E5D30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307B-B8B0-4892-95DC-E7102FE3164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09680" y="2133720"/>
          <a:ext cx="426744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26744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E6BEE-E01D-4C72-9BB6-B8D1D7C1CEF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2286000"/>
          <a:ext cx="6934320" cy="302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86000"/>
                    <a:ext cx="6934320" cy="30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8D6B8-BE13-4B9A-A2C9-6D88454970C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02B40-5073-4546-BDFD-D32038B4BE7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E0A9-257D-47B6-9748-B047BF8DACF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47121-AA1C-4A4D-8916-4BCC865DE76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8B563-A4AD-49D9-8B9A-BE9FFDF4106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56854-3AE4-40FB-A557-A16BA4DCC13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286000" y="152388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2E20-E8E6-4920-B22F-5948E6F4D951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572000" cy="450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914C8-C93D-41C9-B64F-66A639F5086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084920" cy="44960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A90D-0C72-4A97-8497-081164E0826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FCFD3-0ECA-4BDE-B33E-6A2F3BD46266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DB9F-E0DC-4A36-BA46-F98FFE9D656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769608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49AC-A956-4B97-A249-C185CA73FD3F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848720" cy="3351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8358F-C5FC-49E7-A258-DFF66B47B6DE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LU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/ Logic Unit is part of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7848720" cy="21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F30A7-0613-4DB3-A5BF-1D3386E48872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898F8-B80C-4971-AFDA-D22993647B51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803E-5B12-43AD-BC36-8F15B6C5C141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art: $1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3440-A027-42DD-B2DF-AF45EF0850CF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for throughput, not latency (10 wee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133720" y="457200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A5706-15BB-4DFE-88B0-392C15C8C63B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C76E-1B65-43C3-84D1-7700710B5D22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362736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3962520" cy="39038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820B1-EE1B-4A9D-BECA-74B64FED4388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3962520" cy="34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2FB2-2B31-43C3-AD04-F771628BABC3}" type="slidenum">
              <a:t>45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294C-1B67-4CA4-BF47-4F73ABAEE7A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4931B-DA22-421B-8CA6-E4657FBBBF4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4AB6F-1327-4E85-8B46-5F497D54FBA5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2F6EF-D6D0-408E-990B-9FE7AFDB7C6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: MIPS Processor Exampl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21F2-1281-4821-897D-7FE2A7BBAC4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9:58:29Z</dcterms:modified>
  <cp:revision>452</cp:revision>
  <dc:subject/>
  <dc:title>PowerPoint Presentation</dc:title>
</cp:coreProperties>
</file>