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0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0EDF-C78B-4DC6-8D63-B1E88709B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93A4-9A0E-4F0D-86D8-1B5D2F3C4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4827-1B51-40BA-AFF3-73374C35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AE2F-1531-4942-87A5-0695B13F6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DBFA-98A5-4A2D-BDB3-6AD4B8C5B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53BB-CA55-4708-BD44-BD5A88D63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BE4B-CDC3-4373-B485-A18C2ED70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5651-E1AE-4BEA-8784-DF400794A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10E9-E449-4044-ACD2-1F182802A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9294-2D14-498B-8AFE-D498FA7AC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32BF-02BD-44EE-BADA-9D4DBE06B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6B4D-8609-403F-952A-FEC031139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5F5AAC84-41F0-4770-BCF7-E0BDD73AD20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MIPS Processo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8766-9B95-48FC-BE7A-80AE88987CA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4993-AF9A-45B2-B6F7-2F063D5C079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D7A4-F50C-4D03-B03B-164778F45E0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7C34-AE4D-45AB-9F39-92C0EC80798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79F9-DBAB-40FA-B83F-A953E1CF5E2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FE04-C143-4A20-B2C1-C7D8D8EB445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F53E-8081-44DE-93AF-E710510C197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5D97-0C09-4221-B230-C06409BC5A0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0720" y="2057400"/>
          <a:ext cx="723888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2388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2F6A-63E9-47EA-91B9-FC25086EF2C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55AC-61FA-42F9-83E9-E4B130EF9FA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3876-E975-40A5-B4A0-ABA13004ED3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D329-3A80-4971-A1A9-DD77260C8B3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92160"/>
          <a:ext cx="647676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92160"/>
                    <a:ext cx="647676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858000" y="1523880"/>
          <a:ext cx="1600200" cy="8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523880"/>
                    <a:ext cx="1600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3F7D-F8A4-4216-8C3F-3BEC1FF5003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20B9-69BB-4C3A-A3BA-3049EFC3D51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35BC-6321-4109-A70D-A68A5D128DF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526F-A609-4E19-B44A-7966B59DADD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872B-9FDA-4C32-B643-8765D561198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E36F-5194-4A61-88C2-513D5116E90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2133720"/>
          <a:ext cx="426744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26744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B7CD-3F4A-410E-B17C-C83886B42CA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2286000"/>
          <a:ext cx="6934320" cy="30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93432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C685-808B-418F-9C20-4A79D8A6558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D71C-8FFD-40F1-8F59-E63A8DF0873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6074-9581-4831-A44C-04D1500C7ED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AF6A-0019-4F9D-8C91-72C1D8AD71A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B9CC-F64A-420B-AD40-A153778D5B6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D362-C654-4553-9F74-B16D7E5133F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0" y="152388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CE13-EA36-4FDF-BB75-6ED1CC0B3F9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3F16-4A14-4782-AD30-F87A3F5DDEE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08492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364B-50BB-429C-BEF9-50926FC1C75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1B04-2022-4FC9-9517-84D7289C620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85A0-8ABB-449B-9CCE-34634252F96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9608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1EAE-67F0-4547-82F0-2547943B843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84872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4A7E-F728-4EE2-8213-4B2B8CB2375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LU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/ Logic Unit is part of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848720" cy="21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5DE6-D86D-4CB0-9824-37DF6F0B0642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D8B0-9DEF-4009-994F-96FA34B0F77E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E5FE-4CCD-490B-8E33-4093D28237D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art: $1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F2D6-9C99-40E2-BE57-9F4C446260F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throughput, not latency (10 wee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848D-3531-4F30-99E4-F1611FD432E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77F7-E8F9-4A6E-A9A6-0F987CA78E58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62736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3903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A6CA-F87A-4DE6-BEE8-A3466E73BAE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396252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5A52-4C5B-4490-85AD-B54B57BA090B}" type="slidenum">
              <a:t>45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72F2-63D6-446C-A3B0-0B171E17DFF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3594-120E-41F1-96DB-043A69FD9EC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B7F8-193A-4E7C-BB6C-6A47EE56E9F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8316-9202-4ECC-BD11-C7D9E50783B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B834-F62D-4EF7-8597-DB49C8BF537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9:58:29Z</dcterms:modified>
  <cp:revision>452</cp:revision>
  <dc:subject/>
  <dc:title>PowerPoint Presentation</dc:title>
</cp:coreProperties>
</file>