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554E7-88EC-4E11-81E2-0701475C9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6D9E8-7B12-4B86-95E7-AB23A179A3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699BB-7345-4A10-B875-0DF4CAA9A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73D1-F8A4-4C36-9C7B-C3607F3474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ED2A5-E565-4705-96A9-212DFD469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48EB-8A5A-4945-B184-ED6846C0EA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37F5-385A-4716-9B43-28F614ED7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049E-F87F-4A1C-82C9-558E96B50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E1DCA-9899-4954-974F-6938FBFB1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C242-B053-4870-868A-67678F0BE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B2A2-760E-4561-9147-B81923B38E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2466-1DF4-4F99-B27E-30815A774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B17A21AB-ACA0-4BBE-9323-890F3C30CF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9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Nonideal Transis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D9222-70F1-4E12-8077-034A1D9178B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2057400"/>
          <a:ext cx="373392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3733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419720" y="1752480"/>
          <a:ext cx="419076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752480"/>
                    <a:ext cx="41907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4EAA6-1E30-4B6D-8BF8-6F26E2FF7B3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ate voltage necessary to inver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if source voltage increases because source is connected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0925-F59C-4DC8-B67D-9330A95403D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878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1676520"/>
          <a:ext cx="3657600" cy="63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3657600" cy="63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411480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19320" y="2819520"/>
          <a:ext cx="152388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819520"/>
                    <a:ext cx="1523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630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95280" y="4800600"/>
          <a:ext cx="3200400" cy="814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800600"/>
                    <a:ext cx="32004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DE08-BCB0-47B6-8263-E027F3221C8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FF Transistor Behavi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 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114800" y="2057400"/>
          <a:ext cx="4572000" cy="34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057400"/>
                    <a:ext cx="4572000" cy="34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FFACD-5E37-44BC-BDF9-9640B4A24C7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 is the biggest source in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64C93-948F-4536-B2A0-D7DD74590E7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s process dependent, typically 1.4-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19320" y="2057400"/>
          <a:ext cx="3047760" cy="105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047760" cy="105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34120" y="2362320"/>
          <a:ext cx="1523880" cy="45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2362320"/>
                    <a:ext cx="15238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B4CE-E57A-49C3-BB75-557B67FB483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subthreshold leakage to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00200" y="2514600"/>
          <a:ext cx="1981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1981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896F-83D7-4252-997F-D7F993254DB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subthreshold leakage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514600"/>
          <a:ext cx="1981080" cy="66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514600"/>
                    <a:ext cx="19810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60BE-2773-438A-B1D6-A6F7447E6F3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5ED6D-6178-4540-BF5A-BCE0159E8CC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may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tunneling current (from [Song0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soon be criticall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876920" y="2438280"/>
          <a:ext cx="3581280" cy="30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438280"/>
                    <a:ext cx="35812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F3C3C-D31A-480C-A72D-348BECA4A04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I-V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22D4A-B481-4843-8E68-C5339E3E53E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___________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___________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298BF-1460-4793-927E-A0A26F3EAFC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01BF-8471-4DAB-B379-85DCA8E1A65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008D-387D-4C98-827C-965BE1ACE58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115F-26BF-4ABA-AED9-0F7B054988D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0CFFE-C363-41D7-A987-98D2E6650CE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58D3-A2FA-4F09-B78F-8CDEB0E3C06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24F0-EE39-485F-BEC5-C73FEF7DA16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B4351-51FF-4DF0-84FF-810FCEC4ECC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838080" y="2895480"/>
          <a:ext cx="6782040" cy="28130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-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6F99-28F1-45BC-9811-2AEEACEDFEF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2895480"/>
          <a:ext cx="6782040" cy="28130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eudo-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9460-C827-4E30-9D9E-2E41B3907E3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9718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1D4CF-05D8-4921-ADEB-3386C59EF66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 nm TSMC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55(W/L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8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3429000"/>
          <a:ext cx="4038480" cy="25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429000"/>
                    <a:ext cx="403848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800600" y="4098960"/>
          <a:ext cx="3048120" cy="20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4098960"/>
                    <a:ext cx="304812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876920" y="2286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IM 3v3 SPICE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B739-62C4-4C56-A0A7-5781F6EC642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nMOS I-V Pl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nm TSM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IM 3v3 SPICE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quare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343400" y="2362320"/>
          <a:ext cx="4114800" cy="34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362320"/>
                    <a:ext cx="4114800" cy="34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06BF-08ED-4E4A-A3FD-FDCA269288F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arrier velocity is proportional to E-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fields, this ceases to be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6-10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4-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486400" y="3124080"/>
          <a:ext cx="3276720" cy="26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3124080"/>
                    <a:ext cx="3276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3880" y="4952880"/>
          <a:ext cx="2908440" cy="115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4952880"/>
                    <a:ext cx="2908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6EE2-AB21-4410-8787-E7FAB53A88F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26B3-A66D-4F40-BCF1-FFB7DE7CC73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743200" y="3276720"/>
          <a:ext cx="4267080" cy="281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276720"/>
                    <a:ext cx="4267080" cy="28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0098-91BF-48DF-8AC1-0288ABA5531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mor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Nonideal Transis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6CDD-7FDC-440B-B238-5F20982A780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20:50:30Z</dcterms:modified>
  <cp:revision>1655</cp:revision>
  <dc:subject/>
  <dc:title>PowerPoint Presentation</dc:title>
</cp:coreProperties>
</file>