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92487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F82A2-2EA9-44D7-B225-8515419C5E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9997D-ACF0-4FA8-9FCD-4640F9A4EB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89209-68F3-4C18-8C80-741A589379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73336-39B5-43A4-9D06-559E161838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1180C-B25E-4099-911E-C80CF36341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7FE66-2AEF-4FEF-B6D1-BFA847036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C415D-1419-4C27-8BA2-1F76425063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8FF96-DE32-4B70-81B0-EF67C53F7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59FA4-C86B-4915-AA39-FD323C4DD9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12E59-099F-4B87-BDD1-376751EECD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73BD8-A2D2-4132-864A-D175A04532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A9D27-8E7B-4BC4-B983-A52718BFE7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lide </a:t>
            </a:r>
            <a:fld id="{DAD019D1-41F5-41FD-AFAD-20AC27F3D49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MOS VL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</a:t>
            </a:r>
            <a:br>
              <a:rPr sz="3600"/>
            </a:br>
            <a:br>
              <a:rPr sz="28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ecture 19: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Nonideal Transisto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y Mud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213336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90323-696A-4E1F-9F0D-CB1785D48B59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n Length Mod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nnel length modulation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featur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irically fit to I-V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1160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14400" y="2057400"/>
          <a:ext cx="3733920" cy="85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373392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419720" y="1752480"/>
          <a:ext cx="4190760" cy="279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1752480"/>
                    <a:ext cx="419076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A63AC-CB09-4972-9309-1CD0CA0F6EEF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dy Effec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gate voltage necessary to invert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if source voltage increases because source is connected to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i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dy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5EB0F-6F96-402C-9F52-0994E399F0B3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dy Effect Mod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rface potent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doping level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ntrinsic carrier concentration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dy effect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8784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19320" y="1676520"/>
          <a:ext cx="3657600" cy="63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76520"/>
                    <a:ext cx="3657600" cy="63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411480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219320" y="2819520"/>
          <a:ext cx="152388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2819520"/>
                    <a:ext cx="152388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36306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295280" y="4800600"/>
          <a:ext cx="3200400" cy="81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4800600"/>
                    <a:ext cx="320040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50F60-F701-42A9-BE3E-EC77F33F0F12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FF Transistor Behavi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bout current in cutof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ff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doesn’t 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 in cut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114800" y="2057400"/>
          <a:ext cx="4572000" cy="34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057400"/>
                    <a:ext cx="4572000" cy="34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4CB15-013E-4DDD-BD2D-2AF7686A85ED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kage Sourc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co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can’t abruptly turn ON or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ction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N junction diod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neling through ultrathin gate dielec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leakage is the biggest source in moder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48C43-FFFB-4361-B0E3-AF61AB499CD8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bthreshold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leakage exponential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s process dependent, typically 1.4-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19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19320" y="2057400"/>
          <a:ext cx="3047760" cy="105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304776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416088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334120" y="2362320"/>
          <a:ext cx="1523880" cy="45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2362320"/>
                    <a:ext cx="152388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38683-1674-4678-97B8-EF75F03B0C51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B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-Induced Barrier Low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 voltage also affec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drain voltage causes subthreshold leakage to 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152960" y="3287880"/>
          <a:ext cx="838080" cy="28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2960" y="3287880"/>
                    <a:ext cx="838080" cy="28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415296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600200" y="2514600"/>
          <a:ext cx="198108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514600"/>
                    <a:ext cx="19810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9D8DC-E781-48A8-9E2F-A8D674CAED87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B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-Induced Barrier Low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 voltage also affec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drain voltage causes subthreshold leakage to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152960" y="3287880"/>
          <a:ext cx="838080" cy="28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2960" y="3287880"/>
                    <a:ext cx="838080" cy="28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415296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600200" y="2514600"/>
          <a:ext cx="198108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514600"/>
                    <a:ext cx="19810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6DDF6-B152-4B1F-AABD-07581E7B1324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Junction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-n junctions have som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 doping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rea and perimeter of diffusion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&lt; 1 f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295280" y="1981080"/>
          <a:ext cx="1752840" cy="8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81080"/>
                    <a:ext cx="175284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685800" y="4624560"/>
          <a:ext cx="7772400" cy="13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624560"/>
                    <a:ext cx="777240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3DE5A-DF5A-48A6-A26D-BBD806792319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s may tunnel thorough very thin gate ox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ed tunneling current (from [Song01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igible for older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soon be critically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5600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876920" y="2438280"/>
          <a:ext cx="3581280" cy="30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35812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AC2D5-9B8C-4FC4-A4E4-C0885DBB3CD8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I-V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ideal Transisto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Length Mod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and Environmental Var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or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C0AF7-D663-43B0-9ED9-556E9D162810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mperature Sensitiv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___________ wit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___________ wit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21120" y="23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21120" y="23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5650E-1CB4-4002-BFC1-73F609C02D38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mperature Sensitiv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cr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21120" y="23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438280" y="3809880"/>
          <a:ext cx="3102120" cy="21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809880"/>
                    <a:ext cx="3102120" cy="21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3021120" y="23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DF4B8-D7DB-458C-BD9F-03BBAC8F2FF7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 What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hat if transistors are not ide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still behave like swit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se effects matter fo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y voltage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escent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of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0BE62-0C3D-48CE-8F42-8033BA3A5164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rameter Vari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have uncertainty in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: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nMOS and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 around typical (T)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(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(S): oppo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parameters are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MOS and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5867280" y="2666880"/>
          <a:ext cx="256392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666880"/>
                    <a:ext cx="25639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DB1C4-D5D8-47A4-905D-6C7F94CCC8C7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rameter Vari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have uncertainty in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: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nMOS and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 around typical (T)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(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h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(S): oppo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parameters are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MOS and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867280" y="2666880"/>
          <a:ext cx="256392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666880"/>
                    <a:ext cx="25639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219EF-D728-452B-A2E5-13827BA8E6B3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nvironmental Vari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 also vary in time and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  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066680" y="3886200"/>
          <a:ext cx="6096240" cy="15811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7428F-C566-492A-8911-E0A7132CE47D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nvironmental Vari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 also vary in time and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066680" y="3886200"/>
          <a:ext cx="6096240" cy="15811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25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77B4D-3867-4F07-B200-0F1499A834E8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cess Corn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orners describe worst case var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esign works in all corners, it will probably work for any var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corner with four letters (T, F, 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AC9AF-DC5B-47A7-93A0-2CD6A8ACA98E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mportant Corn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ritical simulation corners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8080" y="2895480"/>
          <a:ext cx="6782040" cy="2813040"/>
        </p:xfrm>
        <a:graphic>
          <a:graphicData uri="http://schemas.openxmlformats.org/drawingml/2006/table">
            <a:tbl>
              <a:tblPr/>
              <a:tblGrid>
                <a:gridCol w="1905120"/>
                <a:gridCol w="1219320"/>
                <a:gridCol w="1218960"/>
                <a:gridCol w="1219320"/>
                <a:gridCol w="1219320"/>
              </a:tblGrid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cle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hreh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k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eudo-n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460F4-83F3-4290-B234-8F68A2CF06FE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mportant Corn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ritical simulation corners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838080" y="2895480"/>
          <a:ext cx="6782040" cy="2813040"/>
        </p:xfrm>
        <a:graphic>
          <a:graphicData uri="http://schemas.openxmlformats.org/drawingml/2006/table">
            <a:tbl>
              <a:tblPr/>
              <a:tblGrid>
                <a:gridCol w="1905120"/>
                <a:gridCol w="1219320"/>
                <a:gridCol w="1218960"/>
                <a:gridCol w="1219320"/>
                <a:gridCol w="1219320"/>
              </a:tblGrid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cle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hreh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k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eudo-n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8688C-8CED-4095-9018-EB8CCAFCFEF8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deal Transistor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ckl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 transistor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5800" y="2971800"/>
          <a:ext cx="7772400" cy="29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971800"/>
                    <a:ext cx="77724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800CE-7ADD-4F9E-ABC2-C3CD55EA3CC7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deal vs. Simulated nMOS I-V Plo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0 nm TSMC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55(W/L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/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4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.8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85800" y="3429000"/>
          <a:ext cx="4038480" cy="25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429000"/>
                    <a:ext cx="4038480" cy="25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800600" y="4098960"/>
          <a:ext cx="3048120" cy="205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4098960"/>
                    <a:ext cx="3048120" cy="20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4876920" y="22860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IM 3v3 SPICE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FBF3C-DBA6-44F1-BF77-34FB5B29BEEE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ulated nMOS I-V Plo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0 nm TSMC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IM 3v3 SPIC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ff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ON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quare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343400" y="2362320"/>
          <a:ext cx="4114800" cy="34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362320"/>
                    <a:ext cx="411480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0B687-89C1-4208-A7CB-2E71E3CA083C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elocity Satu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ssumed carrier velocity is proportional to E-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high fields, this ceases to be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s scatter off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 reach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s: 6-1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es: 4-8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486400" y="3124080"/>
          <a:ext cx="3276720" cy="26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3124080"/>
                    <a:ext cx="3276720" cy="26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420228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23880" y="4952880"/>
          <a:ext cx="2908440" cy="115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4952880"/>
                    <a:ext cx="2908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0F46C-82B8-4F97-98FB-EBA1785B6839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el Sat I-V Effec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transistor ON current increases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-saturated ON current increases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transistors are partially velocity satu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ower law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2 determined empir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21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219320" y="2057400"/>
          <a:ext cx="366048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36604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82104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219320" y="3505320"/>
          <a:ext cx="2666880" cy="50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505320"/>
                    <a:ext cx="266688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53E2E-56C4-42B2-866A-8459D138A75E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-Power Mod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301464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743200" y="3276720"/>
          <a:ext cx="4267080" cy="28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276720"/>
                    <a:ext cx="4267080" cy="28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3363840" y="29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62120" y="1600200"/>
          <a:ext cx="3962160" cy="153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600200"/>
                    <a:ext cx="396216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389736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5880" y="1752480"/>
          <a:ext cx="2438640" cy="127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1752480"/>
                    <a:ext cx="2438640" cy="12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FFD4B-712A-43EC-9EEF-733976E70425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Black"/>
              </a:rPr>
              <a:t>Channel Length Modulation</a:t>
            </a:r>
            <a:endParaRPr b="0" lang="en-US" sz="4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-n junctions form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pletio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 between n and p with no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th of depletion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gion grows with reverse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 –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er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s mor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s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in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181480" y="2743200"/>
          <a:ext cx="3429000" cy="20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743200"/>
                    <a:ext cx="342900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37148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4CF2F-24C6-47CE-876B-B2A9A0F436D3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07-01-15T20:50:30Z</dcterms:modified>
  <cp:revision>1655</cp:revision>
  <dc:subject/>
  <dc:title>PowerPoint Presentation</dc:title>
</cp:coreProperties>
</file>