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wmf" ContentType="image/x-wmf"/>
  <Override PartName="/ppt/media/image24.png" ContentType="image/png"/>
  <Override PartName="/ppt/media/image9.wmf" ContentType="image/x-wmf"/>
  <Override PartName="/ppt/media/image39.wmf" ContentType="image/x-wmf"/>
  <Override PartName="/ppt/media/image31.wmf" ContentType="image/x-wmf"/>
  <Override PartName="/ppt/media/image11.png" ContentType="image/png"/>
  <Override PartName="/ppt/media/image1.png" ContentType="image/png"/>
  <Override PartName="/ppt/media/image29.wmf" ContentType="image/x-wmf"/>
  <Override PartName="/ppt/media/image32.wmf" ContentType="image/x-wmf"/>
  <Override PartName="/ppt/media/image7.wmf" ContentType="image/x-wmf"/>
  <Override PartName="/ppt/media/image12.wmf" ContentType="image/x-wmf"/>
  <Override PartName="/ppt/media/image37.png" ContentType="image/png"/>
  <Override PartName="/ppt/media/image40.wmf" ContentType="image/x-wmf"/>
  <Override PartName="/ppt/media/image8.wmf" ContentType="image/x-wmf"/>
  <Override PartName="/ppt/media/image13.wmf" ContentType="image/x-wmf"/>
  <Override PartName="/ppt/media/image41.wmf" ContentType="image/x-wmf"/>
  <Override PartName="/ppt/media/image38.png" ContentType="image/png"/>
  <Override PartName="/ppt/media/image27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42.wmf" ContentType="image/x-wmf"/>
  <Override PartName="/ppt/media/image6.wmf" ContentType="image/x-wmf"/>
  <Override PartName="/ppt/media/image36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33.wmf" ContentType="image/x-wmf"/>
  <Override PartName="/ppt/media/image3.wmf" ContentType="image/x-wmf"/>
  <Override PartName="/ppt/media/image2.png" ContentType="image/png"/>
  <Override PartName="/ppt/media/image2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9223375" cy="6980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B6670D-BC42-4BA2-92BF-4966DA8930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372257-5964-484E-9A25-613EAB824B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D88857-7189-47A5-B441-88CED67277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A28333-CBDE-40E5-88FA-BD89659B8FD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A5B634-E0B5-46BC-A260-91215A562CE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E02C4C-BB79-4BE7-BC1E-FB06D8C79F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B5F256-9C83-46CD-B945-B673737F0D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5F7558-E9B1-44FC-9EBF-8C21CD2548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EF9E27-62A4-4149-A1F1-CCCEA1D6BB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938FAD-5714-4D36-95BD-64A20ADD76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F2A692-D7DB-4659-B889-7850DF63B9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4F857-4E72-40E4-BFB1-22E5AEFA94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Slide </a:t>
            </a:r>
            <a:fld id="{E0E28F61-7A14-4755-8D81-31193DDBDED6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095880"/>
            <a:ext cx="7772400" cy="15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85800" y="1295280"/>
            <a:ext cx="7772400" cy="152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3733920" y="624852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1.wmf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1.wmf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roduction to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MOS VLSI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</a:t>
            </a:r>
            <a:br>
              <a:rPr sz="3600"/>
            </a:br>
            <a:br>
              <a:rPr sz="2800"/>
            </a:br>
            <a:r>
              <a:rPr b="0" lang="en-US" sz="4000" spc="-1" strike="noStrike">
                <a:solidFill>
                  <a:srgbClr val="0000ff"/>
                </a:solidFill>
                <a:latin typeface="Arial Black"/>
              </a:rPr>
              <a:t>Lecture 18: </a:t>
            </a:r>
            <a:br>
              <a:rPr sz="4000"/>
            </a:br>
            <a:r>
              <a:rPr b="0" lang="en-US" sz="4000" spc="-1" strike="noStrike">
                <a:solidFill>
                  <a:srgbClr val="0000ff"/>
                </a:solidFill>
                <a:latin typeface="Arial Black"/>
              </a:rPr>
              <a:t>CAMs, ROMs, and PLA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29528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ar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rvey Mudd Colle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ring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505320" y="4648320"/>
            <a:ext cx="2133360" cy="1284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CAMs, ROMs, and PL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BF5A3A-3E5E-48D6-81A0-CD6A58811A98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omplete ROM Layou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"/>
          <p:cNvSpPr/>
          <p:nvPr/>
        </p:nvSpPr>
        <p:spPr>
          <a:xfrm>
            <a:off x="1833480" y="1047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676520" y="1447920"/>
            <a:ext cx="5333760" cy="4636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CAMs, ROMs, and PL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761C5B-4F70-492D-8D84-7796516FB82E}" type="slidenum">
              <a:t>10</a:t>
            </a:fld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ROMs and EPROM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mable RO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rray with transistors at every 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rn out fuses to disable unwanted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ically Programmable RO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loating gate to turn off unwanted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PROM, EEPROM, Fla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2514600" y="4114800"/>
          <a:ext cx="4038480" cy="173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4114800"/>
                    <a:ext cx="4038480" cy="173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CAMs, ROMs, and PL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2EA7E4-CE31-4EF9-93D3-AF1FF3BC2CF3}" type="slidenum">
              <a:t>11</a:t>
            </a:fld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uilding Logic with ROM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OM as lookup table containing truth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inputs, k outputs requires __ words x __ 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ing function is easy – reprogram R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ite State Mach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inputs, k outputs, s bits of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with ________ bit ROM and ____ bit r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914400" y="4038480"/>
          <a:ext cx="2225520" cy="204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4038480"/>
                    <a:ext cx="2225520" cy="204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4343400" y="4495680"/>
          <a:ext cx="2971800" cy="1359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43400" y="4495680"/>
                    <a:ext cx="2971800" cy="13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CAMs, ROMs, and PL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E05955-F2E0-4D20-AB7B-F645FA4EC39B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uilding Logic with ROM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OM as lookup table containing truth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inputs, k outputs requires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ff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ords x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ing function is easy – reprogram R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ite State Mach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inputs, k outputs, s bits of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with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ff"/>
                </a:solidFill>
                <a:latin typeface="Arial"/>
              </a:rPr>
              <a:t>n+s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x (k+s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it ROM and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(k+s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it r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914400" y="4038480"/>
          <a:ext cx="2225520" cy="204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4038480"/>
                    <a:ext cx="2225520" cy="204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4343400" y="4495680"/>
          <a:ext cx="2971800" cy="1359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43400" y="4495680"/>
                    <a:ext cx="2971800" cy="13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CAMs, ROMs, and PL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64DF23-AA81-46D3-BA7B-DB866CDE791D}" type="slidenum">
              <a:t>13</a:t>
            </a:fld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: RoboAn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1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’s build an 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nsor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tenna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L,R) – 1 when in cont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Actuator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Le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ward step 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n degree turns TL, T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Goal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our ant smart enough 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 out of a ma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trategy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keep right antenna on w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RoboAnt adapted from MIT 6.004 2002 OpenCourseWare by Ward and Terma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419720" y="2514600"/>
            <a:ext cx="990360" cy="11271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638680" y="3581280"/>
            <a:ext cx="2065320" cy="20415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4345200" y="220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183640" y="22096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CAMs, ROMs, and PL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AE8FB6-3E11-46E1-B662-A91C6C8EA179}" type="slidenum">
              <a:t>14</a:t>
            </a:fld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ost in spac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on: go forward until we hit some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581280" y="1752480"/>
            <a:ext cx="1393920" cy="12574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609480" y="4343400"/>
            <a:ext cx="1997280" cy="1447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CAMs, ROMs, and PL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2E4519-1CEA-421F-A0AD-7B7662DA13DF}" type="slidenum">
              <a:t>15</a:t>
            </a:fld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onk!!!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on: turn left (rotate counterclockwi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til we don’t touch anym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828800" y="1676520"/>
            <a:ext cx="5334120" cy="13492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838080" y="4114800"/>
            <a:ext cx="3063960" cy="1913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CAMs, ROMs, and PL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ABEE20-6829-468B-99BA-65FAC172BD2D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A little to the righ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on: step forward and turn right a lit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ing for w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743200" y="1447920"/>
            <a:ext cx="1152360" cy="14634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685800" y="3733920"/>
            <a:ext cx="3048120" cy="2224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CAMs, ROMs, and PL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3B2C00-B6D9-436B-A922-CB1A319BCD2C}" type="slidenum">
              <a:t>17</a:t>
            </a:fld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hen a little to the lef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on: step and turn left a little, until not touc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124080" y="1600200"/>
            <a:ext cx="1006560" cy="15159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685800" y="3733920"/>
            <a:ext cx="4114800" cy="2307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CAMs, ROMs, and PL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64753A-82B0-461F-8ECC-C5DE3411F54B}" type="slidenum">
              <a:t>18</a:t>
            </a:fld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Whoops – a corner!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on: step and turn right until hitting next w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905120" y="1600200"/>
            <a:ext cx="4457520" cy="16542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120" y="3657600"/>
            <a:ext cx="4038480" cy="2398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CAMs, ROMs, and PL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E31231-6707-45B7-9041-84B4997CDBF9}" type="slidenum">
              <a:t>19</a:t>
            </a:fld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-Addressable Mem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-Only Mem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mable Logic Arr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CAMs, ROMs, and PL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564438-4112-426F-B3F5-0347E9C9103A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implific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rge equivalent states where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09480" y="2590920"/>
            <a:ext cx="3429000" cy="20365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4952880" y="2514600"/>
            <a:ext cx="3429000" cy="24177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4114800" y="3505320"/>
            <a:ext cx="609480" cy="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CAMs, ROMs, and PL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2CDD1B-1D56-429F-9518-B271F40BF7D2}" type="slidenum">
              <a:t>20</a:t>
            </a:fld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tate Transition Tabl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1981080" y="1752480"/>
          <a:ext cx="5029200" cy="4095720"/>
        </p:xfrm>
        <a:graphic>
          <a:graphicData uri="http://schemas.openxmlformats.org/drawingml/2006/table">
            <a:tbl>
              <a:tblPr/>
              <a:tblGrid>
                <a:gridCol w="719280"/>
                <a:gridCol w="717480"/>
                <a:gridCol w="719280"/>
                <a:gridCol w="717480"/>
                <a:gridCol w="719280"/>
                <a:gridCol w="717480"/>
                <a:gridCol w="718920"/>
              </a:tblGrid>
              <a:tr h="38376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: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:0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0" name=""/>
          <p:cNvSpPr/>
          <p:nvPr/>
        </p:nvSpPr>
        <p:spPr>
          <a:xfrm flipH="1">
            <a:off x="1676160" y="2133720"/>
            <a:ext cx="228600" cy="4572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676520" y="2590920"/>
            <a:ext cx="228600" cy="4572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1676160" y="3200400"/>
            <a:ext cx="228600" cy="4572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676520" y="3657600"/>
            <a:ext cx="228600" cy="4572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1676160" y="4876920"/>
            <a:ext cx="228600" cy="4572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676520" y="5334120"/>
            <a:ext cx="228600" cy="4572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1676160" y="4191120"/>
            <a:ext cx="228600" cy="2286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676520" y="4419720"/>
            <a:ext cx="228600" cy="3045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39880" y="236232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6400" y="3429000"/>
            <a:ext cx="112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CC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89040" y="4191120"/>
            <a:ext cx="9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ll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9040" y="5105520"/>
            <a:ext cx="9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ll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CAMs, ROMs, and PL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729346-6875-4E82-8762-2D79CC010EB1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OM Implement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6-word x 5 bit R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4495680" y="1600200"/>
          <a:ext cx="4114800" cy="131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1600200"/>
                    <a:ext cx="41148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" name=""/>
          <p:cNvGraphicFramePr/>
          <p:nvPr/>
        </p:nvGraphicFramePr>
        <p:xfrm>
          <a:off x="1295280" y="1905120"/>
          <a:ext cx="2408400" cy="4190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5280" y="1905120"/>
                    <a:ext cx="2408400" cy="41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CAMs, ROMs, and PL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712507-6C18-4A30-9E76-C965565FC38F}" type="slidenum">
              <a:t>22</a:t>
            </a:fld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OM Implement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6-word x 5 bit R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4495680" y="1600200"/>
          <a:ext cx="4114800" cy="131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1600200"/>
                    <a:ext cx="41148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2" name=""/>
          <p:cNvGraphicFramePr/>
          <p:nvPr/>
        </p:nvGraphicFramePr>
        <p:xfrm>
          <a:off x="1295280" y="1905120"/>
          <a:ext cx="2408400" cy="4190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5280" y="1905120"/>
                    <a:ext cx="2408400" cy="41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CAMs, ROMs, and PL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F84112-CC5D-4BF3-A9FF-02597024BE6B}" type="slidenum">
              <a:t>23</a:t>
            </a:fld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LA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ogrammable Logic Arra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erforms any function in sum-of-products 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itera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inputs &amp; comp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oducts / Minterm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AND of liter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utpu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OR of Minte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Full Ad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76380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990720" y="4648320"/>
          <a:ext cx="3962160" cy="112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4648320"/>
                    <a:ext cx="3962160" cy="112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"/>
          <p:cNvGraphicFramePr/>
          <p:nvPr/>
        </p:nvGraphicFramePr>
        <p:xfrm>
          <a:off x="5257800" y="3048120"/>
          <a:ext cx="3137040" cy="3095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3048120"/>
                    <a:ext cx="3137040" cy="30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CAMs, ROMs, and PL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C6AF78-DA55-4497-83B9-AB4137AA0B18}" type="slidenum">
              <a:t>24</a:t>
            </a:fld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OR-NOR PLA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s and ORs are not very efficient in C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 or Pseudo-nMOS NORs are very effic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DeMorgan’s Law to convert to all N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1066680" y="2895480"/>
          <a:ext cx="2955960" cy="308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895480"/>
                    <a:ext cx="2955960" cy="30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648320" y="2895480"/>
          <a:ext cx="3070080" cy="308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2895480"/>
                    <a:ext cx="3070080" cy="30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CAMs, ROMs, and PL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F5E602-1E1A-40DE-ABCA-62E1891AC261}" type="slidenum">
              <a:t>25</a:t>
            </a:fld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LA Schematic &amp; Layou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685800" y="1676520"/>
          <a:ext cx="4135320" cy="426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413532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"/>
          <p:cNvSpPr/>
          <p:nvPr/>
        </p:nvSpPr>
        <p:spPr>
          <a:xfrm>
            <a:off x="3559320" y="203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5105520" y="1600200"/>
          <a:ext cx="3268440" cy="4495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05520" y="1600200"/>
                    <a:ext cx="326844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CAMs, ROMs, and PL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59F536-A383-4675-B0BA-2B7FF2761FC6}" type="slidenum">
              <a:t>26</a:t>
            </a:fld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LAs vs. ROM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R plane of the PLA is like the ROM arr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D plane of the PLA is like the ROM deco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s are more flexible than RO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ed to have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ws for n in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generate the minterms that are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e advantage of logic simpl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CAMs, ROMs, and PL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3F42B5-38B3-4DC5-A337-8F47CB20DDF2}" type="slidenum">
              <a:t>27</a:t>
            </a:fld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: RoboAnt PLA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t state transition table to logic equ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762120" y="1905120"/>
          <a:ext cx="4572000" cy="4095720"/>
        </p:xfrm>
        <a:graphic>
          <a:graphicData uri="http://schemas.openxmlformats.org/drawingml/2006/table">
            <a:tbl>
              <a:tblPr/>
              <a:tblGrid>
                <a:gridCol w="653760"/>
                <a:gridCol w="652680"/>
                <a:gridCol w="654120"/>
                <a:gridCol w="650880"/>
                <a:gridCol w="653760"/>
                <a:gridCol w="652680"/>
                <a:gridCol w="654120"/>
              </a:tblGrid>
              <a:tr h="38376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: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:0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5943600" y="2057400"/>
            <a:ext cx="1828800" cy="146844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5943600" y="3733920"/>
            <a:ext cx="1752480" cy="1433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0" name=""/>
          <p:cNvGraphicFramePr/>
          <p:nvPr/>
        </p:nvGraphicFramePr>
        <p:xfrm>
          <a:off x="5943600" y="5181480"/>
          <a:ext cx="898560" cy="914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43600" y="5181480"/>
                    <a:ext cx="89856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CAMs, ROMs, and PL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CAEE1C-C95B-4972-A361-C99DE3E5894E}" type="slidenum">
              <a:t>28</a:t>
            </a:fld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oboAnt Dot Diagram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3048120" y="1676520"/>
          <a:ext cx="5257800" cy="427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1676520"/>
                    <a:ext cx="5257800" cy="42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5" name=""/>
          <p:cNvGraphicFramePr/>
          <p:nvPr/>
        </p:nvGraphicFramePr>
        <p:xfrm>
          <a:off x="762120" y="2286000"/>
          <a:ext cx="1844640" cy="1560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2286000"/>
                    <a:ext cx="1844640" cy="15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CAMs, ROMs, and PL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73809A-AA32-415C-B0E5-B1FD8F65A66D}" type="slidenum">
              <a:t>29</a:t>
            </a:fld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AM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sion of ordinary memory (e.g. SRA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and write memory as us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atc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see which words contain 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1828800" y="3048120"/>
          <a:ext cx="5105520" cy="266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3048120"/>
                    <a:ext cx="5105520" cy="266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CAMs, ROMs, and PL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0DE1CD-C5D4-4BF5-88F9-4E59231C755D}" type="slidenum">
              <a:t>3</a:t>
            </a:fld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oboAnt Dot Diagram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3048120" y="1676520"/>
          <a:ext cx="5257800" cy="427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1676520"/>
                    <a:ext cx="5257800" cy="42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0" name=""/>
          <p:cNvGraphicFramePr/>
          <p:nvPr/>
        </p:nvGraphicFramePr>
        <p:xfrm>
          <a:off x="762120" y="2286000"/>
          <a:ext cx="1844640" cy="1560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2286000"/>
                    <a:ext cx="1844640" cy="15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CAMs, ROMs, and PL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5B245E-FCA9-4FE8-B4CE-A370282CA01F}" type="slidenum">
              <a:t>30</a:t>
            </a:fld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10T CAM Cell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four match transistors to 6T S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6 x 43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nit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990720" y="2743200"/>
          <a:ext cx="2867040" cy="289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743200"/>
                    <a:ext cx="2867040" cy="28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4191120" y="2819520"/>
          <a:ext cx="3733560" cy="2855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91120" y="2819520"/>
                    <a:ext cx="3733560" cy="285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CAMs, ROMs, and PL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9C4E55-491B-4435-8B21-031C217E707A}" type="slidenum">
              <a:t>4</a:t>
            </a:fld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AM Cell Oper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and write like ordinary S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match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ve wordline 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charge match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ce key on bit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chlines evalu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ss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seudo-nMOS NOR of match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es high if no words ma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648320" y="1905120"/>
          <a:ext cx="3886200" cy="268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905120"/>
                    <a:ext cx="3886200" cy="268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CAMs, ROMs, and PL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302E86-5C98-4DE1-A838-F7F39CBA46A4}" type="slidenum">
              <a:t>5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ead-Only Memori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-Only Memories are nonvolat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ain their contents when power is remo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k-programmed ROMs use one transistor per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ce or absence determines 1 or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CAMs, ROMs, and PL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981565-2EA5-451A-94E8-544655294B2A}" type="slidenum">
              <a:t>6</a:t>
            </a:fld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OM Exampl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-word x 6-bit R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resented with dot dia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ts indicate 1’s in R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95880" y="1600200"/>
            <a:ext cx="2286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ord 0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101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ord 1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110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ord 2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001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ord 3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010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990720" y="2819520"/>
          <a:ext cx="4343400" cy="300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4343400" cy="300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5486400" y="3657600"/>
          <a:ext cx="2743200" cy="1976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86400" y="3657600"/>
                    <a:ext cx="2743200" cy="19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"/>
          <p:cNvSpPr/>
          <p:nvPr/>
        </p:nvSpPr>
        <p:spPr>
          <a:xfrm>
            <a:off x="1071360" y="5715000"/>
            <a:ext cx="436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oks like 6 4-input pseudo-nMOS N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CAMs, ROMs, and PL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9D34F8-6223-4009-A824-952D9913A37B}" type="slidenum">
              <a:t>7</a:t>
            </a:fld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OM Array Layou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 cell is 12 x 8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bout 1/10 size of SRA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1447920" y="2286000"/>
          <a:ext cx="5790960" cy="369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2286000"/>
                    <a:ext cx="5790960" cy="369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CAMs, ROMs, and PL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C21885-156E-4433-BF27-E446293C77CA}" type="slidenum">
              <a:t>8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ow Decoder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M row decoders must pitch-match with R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a single track per wor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367000" y="225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990720" y="2362320"/>
            <a:ext cx="6933960" cy="3687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CAMs, ROMs, and PL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4B9AAA-E766-4149-A845-77E3882EECA9}" type="slidenum">
              <a:t>9</a:t>
            </a:fld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03:13:39Z</dcterms:created>
  <dc:creator>David Harris</dc:creator>
  <dc:description/>
  <dc:language>en-US</dc:language>
  <cp:lastModifiedBy>harris</cp:lastModifiedBy>
  <dcterms:modified xsi:type="dcterms:W3CDTF">2007-01-15T18:30:35Z</dcterms:modified>
  <cp:revision>1553</cp:revision>
  <dc:subject/>
  <dc:title>PowerPoint Presentation</dc:title>
</cp:coreProperties>
</file>