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24.png" ContentType="image/png"/>
  <Override PartName="/ppt/media/image9.wmf" ContentType="image/x-wmf"/>
  <Override PartName="/ppt/media/image39.wmf" ContentType="image/x-wmf"/>
  <Override PartName="/ppt/media/image31.wmf" ContentType="image/x-wmf"/>
  <Override PartName="/ppt/media/image11.png" ContentType="image/png"/>
  <Override PartName="/ppt/media/image1.png" ContentType="image/png"/>
  <Override PartName="/ppt/media/image29.wmf" ContentType="image/x-wmf"/>
  <Override PartName="/ppt/media/image32.wmf" ContentType="image/x-wmf"/>
  <Override PartName="/ppt/media/image7.wmf" ContentType="image/x-wmf"/>
  <Override PartName="/ppt/media/image12.wmf" ContentType="image/x-wmf"/>
  <Override PartName="/ppt/media/image37.png" ContentType="image/png"/>
  <Override PartName="/ppt/media/image40.wmf" ContentType="image/x-wmf"/>
  <Override PartName="/ppt/media/image8.wmf" ContentType="image/x-wmf"/>
  <Override PartName="/ppt/media/image13.wmf" ContentType="image/x-wmf"/>
  <Override PartName="/ppt/media/image41.wmf" ContentType="image/x-wmf"/>
  <Override PartName="/ppt/media/image38.png" ContentType="image/png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42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33.wmf" ContentType="image/x-wmf"/>
  <Override PartName="/ppt/media/image3.wmf" ContentType="image/x-wmf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9223375" cy="6980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78EC6-BEF7-42C6-AFDE-D8E5E86605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42A82-7834-4DEB-8964-12BEC84031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B5362-98A4-4B65-93F2-2EBBD8AD1C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EED0F-D0F4-4F44-97CB-2D1D19C286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C93DB-13DF-4CC0-A343-510E6E6CD5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7D624-6F0D-4CE0-8CF2-DEA3F3E43B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05224-A910-4D25-926E-574B195698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9E5FA-45B7-4BCD-9452-CABFC97C90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9D9A3-49D4-41ED-9D02-5B7BD06120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D66A6-E51A-49E1-B570-0F6A7BA5D7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4E251-A1F6-4241-8F5D-8536DF3B0B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EAD74-8B72-427E-8D69-D85DC88B86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lide </a:t>
            </a:r>
            <a:fld id="{33F49245-029E-4653-9680-1E2450C3F04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roduction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MOS VLS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</a:t>
            </a:r>
            <a:br>
              <a:rPr sz="3600"/>
            </a:br>
            <a:br>
              <a:rPr sz="28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Lecture 18: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AMs, ROMs, and PLA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ey Mudd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ing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05320" y="4648320"/>
            <a:ext cx="2133360" cy="128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9BFB3-DA5F-4DAE-8677-288E5994344E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lete ROM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1833480" y="104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333760" cy="4636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FEBCA-186B-4BFF-9F4A-43B8DFC7404C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Ms and EPRO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able R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rray with transistors at every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n out fuses to disable unwanted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ly Programmable R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loating gate to turn off unwanted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ROM, EEPROM, Fl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514600" y="4114800"/>
          <a:ext cx="4038480" cy="17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4114800"/>
                    <a:ext cx="403848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98015-4615-4A4A-9EEE-58CC05606C3E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uilding Logic with RO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OM as lookup table containing truth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inputs, k outputs requires __ words x __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function is easy – reprogram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te Stat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inputs, k outputs, s bits o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with ________ bit ROM and ____ bi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14400" y="4038480"/>
          <a:ext cx="2225520" cy="20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4038480"/>
                    <a:ext cx="2225520" cy="20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4343400" y="4495680"/>
          <a:ext cx="2971800" cy="135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4495680"/>
                    <a:ext cx="297180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2F7B8-06E0-495E-86AB-58F64E19FF76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uilding Logic with RO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OM as lookup table containing truth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inputs, k outputs require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rds x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function is easy – reprogram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te Stat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inputs, k outputs, s bits o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with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n+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x (k+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 ROM and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k+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14400" y="4038480"/>
          <a:ext cx="2225520" cy="20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4038480"/>
                    <a:ext cx="2225520" cy="20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343400" y="4495680"/>
          <a:ext cx="2971800" cy="135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4495680"/>
                    <a:ext cx="297180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C8DB1-F710-48A5-A1A2-792149B7172C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RoboA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build an 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nsor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tenn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,R) – 1 when in co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ctuator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e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ward step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 degree turns TL, 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Goa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our ant smart enough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out of a ma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trateg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ep right antenna on w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oboAnt adapted from MIT 6.004 2002 OpenCourseWare by Ward and Term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419720" y="2514600"/>
            <a:ext cx="990360" cy="1127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638680" y="3581280"/>
            <a:ext cx="2065320" cy="2041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345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83640" y="2209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F0F66-92F8-4D8E-AFCD-76D701DBC844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st in spa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go forward until we hit some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581280" y="1752480"/>
            <a:ext cx="1393920" cy="1257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09480" y="4343400"/>
            <a:ext cx="1997280" cy="144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F9763-3777-4B97-A895-0CB7FA3B7EBA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nk!!!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turn left (rotate counterclockwi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 we don’t touch any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334120" cy="1349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838080" y="4114800"/>
            <a:ext cx="3063960" cy="191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072B4-129E-460C-A630-C528E0E40314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 little to the righ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step forward and turn right a li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ing for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743200" y="1447920"/>
            <a:ext cx="1152360" cy="1463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85800" y="3733920"/>
            <a:ext cx="3048120" cy="22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54B9D-622C-438B-9448-FD4295EC3E9C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hen a little to the lef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step and turn left a little, until not tou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124080" y="1600200"/>
            <a:ext cx="1006560" cy="1515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85800" y="3733920"/>
            <a:ext cx="4114800" cy="230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B13AD-ED9C-41B5-B91C-103760B2905F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oops – a corner!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step and turn right until hitting next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4457520" cy="1654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120" y="3657600"/>
            <a:ext cx="4038480" cy="239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81ADE-7E4B-4480-A64A-ADC1D4AB408A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-Addressable Mem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-Only Mem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able Logic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F5BCB-A1BE-4C7C-AD69-FE9320EFB407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 equivalent states where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3429000" cy="2036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429000" cy="24177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114800" y="3505320"/>
            <a:ext cx="60948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CADEC-865B-4045-A394-A1CDA04896B8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te Transition Tab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981080" y="1752480"/>
          <a:ext cx="5029200" cy="4095720"/>
        </p:xfrm>
        <a:graphic>
          <a:graphicData uri="http://schemas.openxmlformats.org/drawingml/2006/table">
            <a:tbl>
              <a:tblPr/>
              <a:tblGrid>
                <a:gridCol w="719280"/>
                <a:gridCol w="717480"/>
                <a:gridCol w="719280"/>
                <a:gridCol w="717480"/>
                <a:gridCol w="719280"/>
                <a:gridCol w="717480"/>
                <a:gridCol w="718920"/>
              </a:tblGrid>
              <a:tr h="38376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: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: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 flipH="1">
            <a:off x="1676160" y="213372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259092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676160" y="320040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365760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1676160" y="487692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76520" y="533412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676160" y="4191120"/>
            <a:ext cx="228600" cy="2286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6520" y="4419720"/>
            <a:ext cx="228600" cy="3045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9880" y="23623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6400" y="34290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C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9040" y="419112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9040" y="510552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43AA6-A610-437E-A9E1-11413CEB2445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M Implement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-word x 5 bit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495680" y="1600200"/>
          <a:ext cx="4114800" cy="13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1148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1295280" y="1905120"/>
          <a:ext cx="2408400" cy="419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905120"/>
                    <a:ext cx="24084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0F957-A7F0-4845-B880-38CA254E726A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M Implement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-word x 5 bit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495680" y="1600200"/>
          <a:ext cx="4114800" cy="13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1148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1295280" y="1905120"/>
          <a:ext cx="2408400" cy="419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905120"/>
                    <a:ext cx="24084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AE1D3-51A7-42A2-AD31-3F6349CE14A9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LA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grammable Logic Arr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forms any function in sum-of-products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ter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puts &amp; comp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ducts / Minter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ND of lit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R of Min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Full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7638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990720" y="4648320"/>
          <a:ext cx="3962160" cy="112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648320"/>
                    <a:ext cx="396216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5257800" y="3048120"/>
          <a:ext cx="3137040" cy="30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048120"/>
                    <a:ext cx="313704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92B47-D117-44D6-92EA-5E45E085EF6D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R-NOR PLA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s and ORs are not very efficient in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or Pseudo-nMOS NORs are very 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DeMorgan’s Law to convert to all 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066680" y="2895480"/>
          <a:ext cx="2955960" cy="30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95480"/>
                    <a:ext cx="295596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648320" y="2895480"/>
          <a:ext cx="3070080" cy="308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895480"/>
                    <a:ext cx="307008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2286F-29D1-45BA-A664-04F8893EA408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LA Schematic &amp;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85800" y="1676520"/>
          <a:ext cx="413532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41353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355932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105520" y="1600200"/>
          <a:ext cx="3268440" cy="449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1600200"/>
                    <a:ext cx="32684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FF5C3-6AFB-4713-8BB8-22830BD66519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LAs vs. RO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 plane of the PLA is like the ROM 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D plane of the PLA is like the ROM dec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s are more flexible than R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to hav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ws for n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generate the minterms that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dvantage of logic simpl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E0500-F6B4-4BB2-A0D5-2374EC52A8EA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RoboAnt PLA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state transition table to logic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762120" y="1905120"/>
          <a:ext cx="4572000" cy="4095720"/>
        </p:xfrm>
        <a:graphic>
          <a:graphicData uri="http://schemas.openxmlformats.org/drawingml/2006/table">
            <a:tbl>
              <a:tblPr/>
              <a:tblGrid>
                <a:gridCol w="653760"/>
                <a:gridCol w="652680"/>
                <a:gridCol w="654120"/>
                <a:gridCol w="650880"/>
                <a:gridCol w="653760"/>
                <a:gridCol w="652680"/>
                <a:gridCol w="654120"/>
              </a:tblGrid>
              <a:tr h="38376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: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: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1828800" cy="1468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943600" y="3733920"/>
            <a:ext cx="1752480" cy="14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0" name=""/>
          <p:cNvGraphicFramePr/>
          <p:nvPr/>
        </p:nvGraphicFramePr>
        <p:xfrm>
          <a:off x="5943600" y="5181480"/>
          <a:ext cx="89856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5181480"/>
                    <a:ext cx="898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E02A3-A00E-4A59-995E-4A9A3A07F63F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boAnt Dot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048120" y="1676520"/>
          <a:ext cx="5257800" cy="42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676520"/>
                    <a:ext cx="525780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762120" y="2286000"/>
          <a:ext cx="1844640" cy="156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286000"/>
                    <a:ext cx="1844640" cy="15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25D7B-D79E-4D22-8AA5-AD09E86B5921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 of ordinary memory (e.g. S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nd write memory as us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ee which words contain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828800" y="3048120"/>
          <a:ext cx="510552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048120"/>
                    <a:ext cx="510552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C3F6C-3E37-42E0-B84B-3297E84C0121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boAnt Dot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3048120" y="1676520"/>
          <a:ext cx="5257800" cy="42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676520"/>
                    <a:ext cx="525780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762120" y="2286000"/>
          <a:ext cx="1844640" cy="156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286000"/>
                    <a:ext cx="1844640" cy="15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04AB3-807C-40BA-994D-E62A8A8A6FE3}" type="slidenum">
              <a:t>30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10T CAM Cel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four match transistors to 6T S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 x 4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it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90720" y="2743200"/>
          <a:ext cx="286704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743200"/>
                    <a:ext cx="286704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191120" y="2819520"/>
          <a:ext cx="3733560" cy="285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2819520"/>
                    <a:ext cx="3733560" cy="28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AD499-D654-4927-85FB-BC9C35785B44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M Cell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nd write like ordinary S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tch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 wordline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harge match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key on bit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lines evalu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-nMOS NOR of match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es high if no words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648320" y="1905120"/>
          <a:ext cx="3886200" cy="26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05120"/>
                    <a:ext cx="3886200" cy="26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29352-2905-4BF9-AC5F-8A2556A0D4A5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ad-Only Memori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-Only Memories are nonvola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ain their contents when power is re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k-programmed ROMs use one transistor per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ce or absence determines 1 or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CB161-5D5B-4F85-8188-0E4436DF9B55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M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-word x 6-bit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ed with dot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ts indicate 1’s in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1600200"/>
            <a:ext cx="228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d 0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0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d 1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1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d 2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0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d 3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1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990720" y="2819520"/>
          <a:ext cx="4343400" cy="30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4343400" cy="30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486400" y="3657600"/>
          <a:ext cx="2743200" cy="197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3657600"/>
                    <a:ext cx="274320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1071360" y="5715000"/>
            <a:ext cx="43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s like 6 4-input pseudo-nMOS N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854E6-2395-408B-A560-430EDF1B9A94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M Array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cell is 12 x 8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bout 1/10 size of S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447920" y="2286000"/>
          <a:ext cx="5790960" cy="36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86000"/>
                    <a:ext cx="5790960" cy="36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6EE1B-49DA-43AE-9AE5-45274B616703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w Deco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M row decoders must pitch-match with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 single track per wor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6700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6933960" cy="368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96F1F-DE3A-4C7A-A2DE-261BF7C16DD3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07-01-15T18:30:35Z</dcterms:modified>
  <cp:revision>1553</cp:revision>
  <dc:subject/>
  <dc:title>PowerPoint Presentation</dc:title>
</cp:coreProperties>
</file>