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65938" cy="9151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0C1B5-229D-42C8-B7F1-BAEE4310F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200C6-1CD3-4B1C-AFCE-EDD544B36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CAA1-797A-4534-9B3E-6526A4E55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5394-E9C6-42B3-A3BE-5988219E00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609F-7336-46E5-B823-A3F866CE55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B8E1-1CD2-40C2-9EBA-16F523909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1905E-7147-4BD6-9BB2-F9B989500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A4E64-8E9E-49DD-A310-E46A10565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D086-7560-43A0-AB32-8BC0FE2A8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557B-0BAA-41C3-974C-DF1D2CFCA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0F6A6-9736-4631-AEA5-FCB8A4C17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5E53-6CC9-4062-B2F4-09D50E0F4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5D99C1B5-B2FD-4A5A-B894-97B7C755EE3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7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S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8FFD-DAA4-40A6-88EA-8F677100816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Wri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one bitline high, the other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overpower cell with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, bit = 1, bit_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_b low, then A ris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verpower feedback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&gt;&gt;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400800" y="4038480"/>
          <a:ext cx="20764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20764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400800" y="2743200"/>
          <a:ext cx="210024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74320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31395-A71C-4100-9957-25A50EA6D05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Siz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itlines must not overpower inverters during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w bitlines must write new value int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14600" y="2743200"/>
          <a:ext cx="434340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43434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E296-310A-4928-A20A-4F08F999BC2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Colum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0720" y="1981080"/>
          <a:ext cx="21128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21128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267080" y="1981080"/>
          <a:ext cx="2178000" cy="28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981080"/>
                    <a:ext cx="2178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4D939-3E28-41D8-B7C7-182BE8C59C6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is critical: 26 x 4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ven smaller in indu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 cells shar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, bitlin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2120" y="2438280"/>
          <a:ext cx="2382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2382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276720" y="2424240"/>
          <a:ext cx="5248080" cy="36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424240"/>
                    <a:ext cx="52480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1EEF-522A-4098-8994-FD24AB67703C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oder consists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-input A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eeded for each row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from NAND or N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76920" y="3657600"/>
          <a:ext cx="17082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657600"/>
                    <a:ext cx="17082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705720" y="4876920"/>
          <a:ext cx="158112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876920"/>
                    <a:ext cx="15811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819520" y="4876920"/>
          <a:ext cx="14475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876920"/>
                    <a:ext cx="1447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762120" y="3657600"/>
          <a:ext cx="1822320" cy="23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657600"/>
                    <a:ext cx="18223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05C53-FEAA-4BA6-8C7B-15A86276FAC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 must be pitch-matched to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very skinny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2895480"/>
          <a:ext cx="7543800" cy="20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7543800" cy="20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6017-831B-4333-AA41-6C20EA282B1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rge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&gt; 4, NAND gates become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arge gates into multiple smalle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743200" y="2438280"/>
          <a:ext cx="344016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44016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64D2-4671-4442-86CF-81352933C98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de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se gates are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into pre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03760" y="1981080"/>
          <a:ext cx="37800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3760" y="1981080"/>
                    <a:ext cx="37800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39DC1-4D86-40B6-95D5-BEAC143D8E68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Circui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ircuitry is required for each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6E77-6E02-470E-8577-B3953046B2F0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tline Cond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lines high before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ze bitlines to minimize voltage difference when using 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371600" y="2057400"/>
          <a:ext cx="1371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1371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447920" y="3733920"/>
          <a:ext cx="1295280" cy="91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733920"/>
                    <a:ext cx="129528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82C3-6212-4990-A44E-DC303D782D0C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Circui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8D92-00A3-4392-8CBF-080ED0769D04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e Amplif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have many cells at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kbit SRAM has 128 rows x 256 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cells on each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ith shared diffusion contacts, 64C of diffusion capacitance (bi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d slowly through small transistors (small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riggered on small voltage swing (redu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E48E9-6BDE-465A-A8AE-B4756BB84B9C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erential Pair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pair requires no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ways dissipates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33720" y="3200400"/>
          <a:ext cx="434340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43434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40B4-FFAA-4EE7-A327-DF21BB3685C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ed Sense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sense amp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nse_clk after enough bitline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transistors cut off large bitlin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3200400"/>
          <a:ext cx="388620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00400"/>
                    <a:ext cx="38862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2786-5BE5-41A9-A3C1-6F646C948B4C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isted Bitlin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 also amplif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noise is severe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couple equally onto bit and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76520" y="3505320"/>
          <a:ext cx="42670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505320"/>
                    <a:ext cx="42670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1565-E4A9-423F-A4C1-310E445F6944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Multiplex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array may be folded for good aspec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2 kword x 16 folded into 256 rows x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lect 16 output bits from the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16 8:1 column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BD84-0AB5-4ECF-A43E-B75D621A4517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Decoder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x can use 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MOS only, precharg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esign is to use k series transistors fo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ternal decoder logic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447920" y="3581280"/>
          <a:ext cx="60195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81280"/>
                    <a:ext cx="60195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76893-E4FA-4A2C-9685-739495C89F9D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 Pass-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liminate series transistors with separate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14600" y="2362320"/>
          <a:ext cx="35179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517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3830-E00B-419B-A37E-47E79379C365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: 2-way Mux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1523880"/>
          <a:ext cx="48006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48006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80F0-1FDE-4160-9B00-0D16F0075DF3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 Por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considered single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ad or one write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RAM are needed for regi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MIPS must read two sources or write a result on som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d MIPS must read two sources and write a third result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calar MIPS must read and write many sources and results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8BD5C-EF5E-4AA1-A01C-DDB57ACBCFBE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ual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dependent single-ended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ne differential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wo reads and one write by time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during ph1, write during p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371600" y="2895480"/>
          <a:ext cx="304812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0481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3968-D3A1-4436-83FC-989464A39DF7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mory Arr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600200"/>
          <a:ext cx="77724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B9FD8-A416-42B3-8E93-8FB3F6C0E68E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more access transistors hurts 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orted SRAM isolates reads from stat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design minimizes number of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09680" y="2819520"/>
          <a:ext cx="411480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819520"/>
                    <a:ext cx="411480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2DA4-C267-4427-B61F-035DC7A8078E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Access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 do not use a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ped Dela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In Parallel Out (S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In Serial Out (P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 (FIFO, 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99BC-359B-4D0C-9F0F-5AC1F168F4CC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 and del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esign: cascade of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your hold tim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5280" y="3276720"/>
          <a:ext cx="51818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51818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A515-E430-4A92-8501-29D5F35A667D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ser Shift Regis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 aren’t very area-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shift registers, keep data in SRAM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ad/write pointers to RAM rather tha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ddress to first entry, write to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address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09680" y="3618000"/>
          <a:ext cx="3810240" cy="24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618000"/>
                    <a:ext cx="38102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90D8A-431D-473E-A766-BE70E2DFC881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pped Delay 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pped delay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hift register with a programmable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number of stages with delay controls to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 – 63 stages of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38080" y="3352680"/>
          <a:ext cx="746784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74678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62F24-0F9B-4AD1-A7AA-5B118E929863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In Paralle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shift register reads in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N steps, presents N-bit parall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905120" y="3048120"/>
          <a:ext cx="4190760" cy="20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8120"/>
                    <a:ext cx="419076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D169-9FD2-4B9E-9E77-91A4BE403FD0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llel In Seria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all N bits in parallel when shif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hift one bit out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676520" y="3048120"/>
          <a:ext cx="5943600" cy="17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59436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529F-32BD-4A9C-A132-F24367430F97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 data to be read and written at different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each use their own clock,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ndicates whether it is full or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SRAM and read/write counters (poin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057400" y="4267080"/>
          <a:ext cx="419112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267080"/>
                    <a:ext cx="41911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C184-DD82-4FE7-8EF3-C18A56BFB513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FO, LIFO 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nd write pointers to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rite, increment write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rite almost catches read, Queue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ad, increment read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po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read and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01AE-514B-4AB6-988C-144FC9B1A0EE}" type="slidenum">
              <a:t>38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&gt;&gt; m, fold b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few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gularity – easy t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high density if good cells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5120" y="2362320"/>
          <a:ext cx="4647960" cy="28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362320"/>
                    <a:ext cx="4647960" cy="28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DEF1-5617-465D-A5AD-6B92F2CB26A4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2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building block: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one bit of information, like a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read and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transistor (12T)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mple latch connected to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x 7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676520" y="4038480"/>
          <a:ext cx="18874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038480"/>
                    <a:ext cx="1887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724280" y="3886200"/>
          <a:ext cx="1809720" cy="21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886200"/>
                    <a:ext cx="1809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587F-D1A7-44F8-9C2D-55B76BC7DE89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accounts for most of arra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ell size at expense of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T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most commerci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d in cross-coupled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data onto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952880" y="3505320"/>
          <a:ext cx="381024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505320"/>
                    <a:ext cx="381024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A924-941A-48FF-9B0A-8ACF0B90127F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R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oth bitlin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two bitlines will be pulled down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discharges, bit_b stay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bumps up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st not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095880" y="2895480"/>
          <a:ext cx="210024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89548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943600" y="4191120"/>
          <a:ext cx="222876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191120"/>
                    <a:ext cx="22287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C1E97-B6D9-4480-9904-DED0853A68C9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R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oth bitlin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two bitlines will be pulled down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discharges, bit_b stay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bumps up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st not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&gt;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2895480"/>
          <a:ext cx="210024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89548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943600" y="4191120"/>
          <a:ext cx="222876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191120"/>
                    <a:ext cx="22287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12B2-700A-42DF-AE41-C1A3877ADA3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Wri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one bitline high, the other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overpower cell with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, bit = 1, bit_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_b low, then A ris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verpower feedback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400800" y="4038480"/>
          <a:ext cx="20764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20764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400800" y="2743200"/>
          <a:ext cx="210024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74320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DE56-AC31-4D75-91EA-EA51180E14C9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8:17:26Z</dcterms:modified>
  <cp:revision>1485</cp:revision>
  <dc:subject/>
  <dc:title>PowerPoint Presentation</dc:title>
</cp:coreProperties>
</file>