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B448-0ED5-4059-8F81-2A3E8ADFD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555B-1951-4C0A-972D-1A27F9E2A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EA81D-2F12-4F3A-A3C8-F57D32A9D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D4C8-A442-4350-853C-DC1433920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A53C-6F68-4C4E-846D-801FDBBE7E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163A7-F009-4478-83F9-E67B2886EE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571C1-E0B4-469A-8B75-E99E64FA9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9AF2-5779-4A9B-910B-41F759ED1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80B8-480B-4AA7-ABB8-6267B4B61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9B3EB-C675-4454-8807-2AF0E0032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454AE-B0D4-40FF-8EE1-D899424DE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3A6ED-2EB2-4B4A-8695-0FCFB3E34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C5916BD-5F14-4771-B940-E3BBF16ABF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7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R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C322-3D97-4720-A7AB-636A6A869DF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9287-6F58-43F8-8AF8-F046C6BC9F7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BBEDA-67C6-422A-9B88-3292CFF0B6E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11ED1-44C9-4E96-AFF4-564FD3FC2A9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83A8-96FB-426B-8B0A-332B159DF7B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9D99-EA9E-4043-99BA-C1524EF5B85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975A3-DE12-4279-ADE5-09DA6378F04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E614B-14CA-4763-8FA2-A87C56D4867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6A23-CDF1-4DB2-BA4E-E84757FA73B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7008-8242-44AC-B88C-3823F1930CA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F75D-637C-4771-91C5-F3214321916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CB6E-E074-4AEA-AEF1-94D9497DA76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C21B9-CE7C-494A-8C85-ABA13076716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9748-24C8-4BE0-A71A-AABF3FADFC1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9457C-3E4A-40FD-8CBF-FB1D42C4EF9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E9226-7165-4D61-8A28-BE7D3370834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83F89-C394-4855-B830-318A2E68979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51FB7-907A-44DC-B5E8-389E3BC8B5B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5621-195B-4697-802D-1F189F22D0F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09B01-031D-49D1-988C-CCC0C2B878D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AFDB1-99BC-4702-9063-2B3AFD5DBD8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D59FD-DC42-4F3D-BBE1-51FB28813DD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2507C-A6CC-4306-87B8-20D650954B0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design minimizes number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09680" y="2819520"/>
          <a:ext cx="4114800" cy="31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819520"/>
                    <a:ext cx="4114800" cy="31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A142-4C4E-4F02-B420-C9141D907B4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82E48-0846-427C-A6F6-F8994611662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377CB-3FFE-4056-A93F-22479AC209C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2D9B8-D0B3-4D0E-86C0-0294DA99F46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253D-01B1-4DC1-A960-779396E99FF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4253-593C-4792-A0AA-64795A9F1918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44F7-E187-4A21-93D5-0AA5A261CCE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C53CD-D067-4C59-A17C-04F9389C692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252E-F37B-4AB0-B834-92495C2FBEEC}" type="slidenum">
              <a:t>38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05120" y="2362320"/>
          <a:ext cx="4647960" cy="28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62320"/>
                    <a:ext cx="464796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72C6-318A-4FFB-B2EE-71C0C49C3D9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B548-E337-4459-9E8C-EE766546C6A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6618-A5EE-4AC6-A58E-A087C21713F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0CA8F-6A8C-4C79-9BCA-56E8BFD86BA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B8810-D4E2-425C-BCEA-B456F70E3F7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21A5-C771-415C-997E-35E93C51183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17:26Z</dcterms:modified>
  <cp:revision>1485</cp:revision>
  <dc:subject/>
  <dc:title>PowerPoint Presentation</dc:title>
</cp:coreProperties>
</file>