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35.wmf" ContentType="image/x-wmf"/>
  <Override PartName="/ppt/media/image16.wmf" ContentType="image/x-wmf"/>
  <Override PartName="/ppt/media/image8.png" ContentType="image/png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5.wmf" ContentType="image/x-wmf"/>
  <Override PartName="/ppt/media/image32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7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11FBD-91A5-46F4-ADED-1735615F6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4BA0A-A80F-4028-8F0D-68AE89B16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CE7B0-EAA6-43A9-BD32-BD323DD8E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3C46B-70B3-48D7-88D5-49D134E837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BC7AB-8C5D-4618-B510-57DC6C6BCF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9DF58-4250-4A87-AF98-701C0DF3C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30C71-A450-4934-8EDD-C3EC8C15D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49E80-CA0B-4CA7-8C35-91506F561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F2FFA-0319-4692-9CBA-81D1B5104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0D771-86EE-45D3-B339-789AB4D47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D43BD-851F-4AF1-8CAC-60C2D102D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B92D5-ADDE-4524-AFCC-78CC22261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8F63640E-3E9D-4613-98C1-7366FE3AD6B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16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Datapath Functional Un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978C-4427-48A7-8877-895ED493BCB1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nel shifter can do all six types of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s N-bit field Y from 2N-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by k bits (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 &lt;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90920" y="3429000"/>
          <a:ext cx="3962160" cy="21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429000"/>
                    <a:ext cx="396216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10841-362E-4D80-B877-4DEC2B74B730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N-k requires an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3062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43200" y="3048120"/>
            <a:ext cx="160020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048120"/>
            <a:ext cx="15238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365760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398304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434340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4343400"/>
            <a:ext cx="15238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4000680"/>
            <a:ext cx="1523880" cy="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65760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343400"/>
            <a:ext cx="15238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4000680"/>
            <a:ext cx="1523880" cy="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52560" y="3699000"/>
            <a:ext cx="1524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304812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BB68-8E3D-4967-9E2D-50CF498AB80D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N-k requires an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3062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629400" y="365760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398304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434340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343400"/>
            <a:ext cx="15238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000680"/>
            <a:ext cx="1523880" cy="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365760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4343400"/>
            <a:ext cx="15238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000680"/>
            <a:ext cx="1523880" cy="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52560" y="3699000"/>
            <a:ext cx="1524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6E22E-53FE-432B-8E59-C05B98E25FD1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N-k requires an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3062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629400" y="398304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434340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4343400"/>
            <a:ext cx="15238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4000680"/>
            <a:ext cx="1523880" cy="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4343400"/>
            <a:ext cx="15238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000680"/>
            <a:ext cx="1523880" cy="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C5EED-786B-4D8E-B7B4-64E2ACB0F6DF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N-k requires an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3062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629400" y="434340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4343400"/>
            <a:ext cx="15238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4343400"/>
            <a:ext cx="15238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090FC-B843-4B69-BC5A-19474CDF8E36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N-k requires an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30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DFE15-EA0D-436E-B367-74BF4FE7B96A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 down to 2N-1 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742520" cy="3543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62520" y="3962520"/>
            <a:ext cx="2743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39625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0440" y="4383000"/>
            <a:ext cx="2743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9440" y="4383000"/>
            <a:ext cx="838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4800600"/>
            <a:ext cx="2743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480060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70440" y="5221440"/>
            <a:ext cx="2743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9440" y="522144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DF75C-076A-49C5-81A4-8E56B5EF132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 down to 2N-1 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742520" cy="3543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70440" y="4383000"/>
            <a:ext cx="2743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9440" y="4383000"/>
            <a:ext cx="838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4800600"/>
            <a:ext cx="2743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480060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0440" y="5221440"/>
            <a:ext cx="2743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99440" y="522144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C8880-5541-4243-9CE3-9C2F1647DF06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 down to 2N-1 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742520" cy="3543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962520" y="4800600"/>
            <a:ext cx="2743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91520" y="480060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70440" y="5221440"/>
            <a:ext cx="2743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99440" y="522144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6C12F-61A3-4F4A-952E-06B29774BFB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 down to 2N-1 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742520" cy="3543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70440" y="5221440"/>
            <a:ext cx="2743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99440" y="522144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C1017-A712-4636-A140-E99551379841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inpu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8753E-E08B-424D-8262-B15FD1835A31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 down to 2N-1 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742520" cy="35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CA57E-8966-4E05-84A6-67D8B2BFFC75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 Design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N-input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1-of-N hot select signals for shift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 design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95280" y="2743200"/>
          <a:ext cx="327672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32767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257800" y="3124080"/>
            <a:ext cx="216684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D6977-948D-4C9A-BCC2-48A00B57599D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 Design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N stages of 2-input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lect decoding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638680" y="1600200"/>
          <a:ext cx="25844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00200"/>
                    <a:ext cx="2584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993F4-6485-4C4D-A46D-8E1B80737DB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input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want to add k N-bit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001 + 0111 + 1101 + 0010 = 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AB4B3-57D4-4651-9A2B-4345E25DA205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input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want to add k N-bit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001 + 0111 + 1101 + 0010 = 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927DC-6B07-420B-881F-48511D116409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input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want to add k N-bit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001 + 0111 + 1101 + 0010 = 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ghtforward solution: k-1 N-input C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and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581280" y="3809880"/>
          <a:ext cx="19432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809880"/>
                    <a:ext cx="19432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CA6C2-57DE-424C-B75A-9CADDE40A51A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Save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ll adder sums 3 inputs and produces 2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output has tw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um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full adders in parallel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ry sav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sums and N carry 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09680" y="3352680"/>
          <a:ext cx="373392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373392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48EB7-0552-44F2-9BB9-3366457BF564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SA Ap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-2 stages of C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sult in carry-save redunda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CPA computes actual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209680" y="2971800"/>
          <a:ext cx="358164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35816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E8E68-E89D-43F8-AC87-B6B11A45B2B2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SA Ap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-2 stages of C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sult in carry-save redunda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CPA computes actual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09680" y="2971800"/>
          <a:ext cx="358164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35816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8F5C-1322-42F7-A1D8-C12BC86BB109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SA Ap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-2 stages of C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sult in carry-save redunda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CPA computes actual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09680" y="2971800"/>
          <a:ext cx="358164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35816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2BD09-A196-4EA8-A2A0-DDC8E7F9622A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a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’s detec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0…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o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11…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ty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tude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&lt;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C05CB-DD6B-4891-B0A7-67C9EDF7E2F9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EEF37-4A95-44E5-9A13-7B374B39E9FD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19E01-EDC1-4F16-8211-9728D4C61399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570A9-7470-4853-B7BF-D4CE360162AE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603A3-511A-427D-A23A-A2EA9487F878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B00FB-FEA9-4710-A085-0F7F44DC4799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93544-B777-447F-B88F-E7CC6E6D5E98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x N-bit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M-bit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these to produce M+N-bit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A8988-A00E-42C3-93F2-B9F26C655332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l For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n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037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743200" y="2590920"/>
          <a:ext cx="510552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1055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143000" y="3657600"/>
          <a:ext cx="6477120" cy="23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647712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DDCF8-6A60-4DDE-A5E9-51E64C033A5D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t represents a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838080" y="2209680"/>
          <a:ext cx="784872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84872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725D5-815F-4539-AF26-228E1330E4CF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Multipli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057400" y="1523880"/>
          <a:ext cx="4876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76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7D3E9-1662-4EA6-89B0-11131FFC459C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’s &amp; 0’s Detec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or: N-input 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’s detector: NOTs + 1’s detector (N-input N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2590920"/>
          <a:ext cx="289548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289548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105520" y="2743200"/>
          <a:ext cx="3047760" cy="12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743200"/>
                    <a:ext cx="304776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295280" y="4419720"/>
          <a:ext cx="4648320" cy="14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419720"/>
                    <a:ext cx="46483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600AA-438B-4506-B718-2436C30CC190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tangular Arr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sh array to fit rectangular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514600" y="1981080"/>
          <a:ext cx="342108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81080"/>
                    <a:ext cx="34210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213BB-9451-459F-B0C1-B6DB35E0CD38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ewer Partial Produ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multiplier requires N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looked at groups of r bits, we could form N/r parti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and small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radix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r = 2: look at pairs of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partial products of 0, Y, 2Y, 3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hree are easy, but 3Y requires add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FC781-DB70-44D6-A87D-35200F422A55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73640" cy="30243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216400" y="3770280"/>
            <a:ext cx="1903680" cy="20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9880" y="563580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537048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510552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484020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9880" y="457524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430200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04817-FD31-493C-8E81-88D575C48D33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73640" cy="30243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216400" y="3770280"/>
            <a:ext cx="1903680" cy="20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563580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37048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9880" y="510552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484020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457524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3DEB6-559B-4CBD-B68F-F9535B85CECD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73640" cy="3024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216400" y="3770280"/>
            <a:ext cx="1903680" cy="20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563580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537048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9880" y="510552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484020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8D893-C4C7-4C5F-9EE9-3EB21B0FDFC7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73640" cy="3024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216400" y="3770280"/>
            <a:ext cx="1903680" cy="20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63580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9880" y="537048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9880" y="511344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80E64-EA1F-41B0-8E16-217576643824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73640" cy="30243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216400" y="3770280"/>
            <a:ext cx="1903680" cy="20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9880" y="563580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9880" y="537048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94D95-0F31-4406-ACC1-4D57E97CE2DC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73640" cy="3024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216400" y="3770280"/>
            <a:ext cx="1903680" cy="20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9880" y="563580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A1ECB-EC3A-4941-8DB5-BC0A77618266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73640" cy="3024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216400" y="3770280"/>
            <a:ext cx="1903680" cy="20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61E22-D6A9-4E70-8B18-5C20EBD58F7F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7364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60CA8-0982-444F-AE91-803477693D4C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quality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each bit is equal (XNOR, aka equality g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 on bitwise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057400" y="2819520"/>
          <a:ext cx="472428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819520"/>
                    <a:ext cx="472428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630AF-D2CB-46EF-A155-D0B76045EA97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Hardwa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encoder generates control lines for each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selectors choose PP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371600" y="2362320"/>
          <a:ext cx="6095880" cy="36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362320"/>
                    <a:ext cx="609588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32F9-858E-4713-9B50-4C3F96DEDCEB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 Exten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products can be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sign extension, which is cumber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fanout on most significant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990720" y="2666880"/>
          <a:ext cx="7467480" cy="34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46748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FC5CC-3ABA-4ECF-A668-16B8DABC1887}" type="slidenum">
              <a:t>51</a:t>
            </a:fld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bits are either all 0’s or all 1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all 0’s is all 1’s + 1 in proper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is to reduce loading on 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295280" y="3048120"/>
          <a:ext cx="5715000" cy="29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571500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F1CCD-DF87-4496-9CA0-5C979D938C99}" type="slidenum">
              <a:t>52</a:t>
            </a:fld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ven Simpler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add all the 1’s in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he ans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990720" y="2743200"/>
          <a:ext cx="746748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74674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23F2-73AD-4948-88C8-545256F0496D}" type="slidenum">
              <a:t>53</a:t>
            </a:fld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vs. unsigned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radix Booth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s. tree CS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F0BE7-8692-47B1-8A36-58CDA7482B40}" type="slidenum">
              <a:t>54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gnitude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B-A and look at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-A = B + ~A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unsigned numbers, carry out is sign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666880" y="2971800"/>
          <a:ext cx="32767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971800"/>
                    <a:ext cx="32767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0D258-14C5-445A-B289-73C1B58B5E7E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ed vs. Unsign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igned numbers, comparison is ha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carry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: zero (all bits of A-B are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: negative (MSB of resul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: overflow (inputs had different signs, output sig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81080" y="3429000"/>
            <a:ext cx="4572000" cy="26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39634-2975-44FE-ACBD-A2FE7406025E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R 1 = 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L1 =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.  Rt shift sign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R1 = __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L1 =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lost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R1 = __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L1 =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C34B8-1610-442F-9ABE-F7BDE1658214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R 1 = 0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.  Rt shift sign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lost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L1 = 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8D6C6-1CA1-43B8-99CE-A906D76F10FE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18:49:13Z</dcterms:modified>
  <cp:revision>1487</cp:revision>
  <dc:subject/>
  <dc:title>PowerPoint Presentation</dc:title>
</cp:coreProperties>
</file>