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35.wmf" ContentType="image/x-wmf"/>
  <Override PartName="/ppt/media/image16.wmf" ContentType="image/x-wmf"/>
  <Override PartName="/ppt/media/image8.png" ContentType="image/png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15.wmf" ContentType="image/x-wmf"/>
  <Override PartName="/ppt/media/image32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7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2111-9AF2-4D12-A21D-141BFBC21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3BD2E-10C3-45CA-9283-83DDB48699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F029B-F5E2-481A-A200-AC87388F3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838F9-C3D1-4D06-A146-1ADA9FFCF3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9A7D0-3D92-43C2-A44C-2CC5B9C729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DF11-79D9-42DA-A342-9141570F2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37D05-23CF-4CC5-90A7-74A5EF56A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F3F3E-FB7B-4FC5-96F7-842F05786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96F15-398E-43C9-84D4-28272E692E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7096F-3D3F-49A8-89C5-A9BC0BF2E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E96A5-7458-4AA7-A4C6-C18BFA380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F2115-E85B-4DB7-94CA-B754CF522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A94F0EE3-0D7A-4DC0-BF3D-A733D8258B7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6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Datapath Functional Uni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8722-D5F3-4B0B-AF66-B5992DB17CA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nel shifter can do all six types of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N-bit field Y from 2N-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by k bits (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 &lt;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590920" y="3429000"/>
          <a:ext cx="3962160" cy="21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429000"/>
                    <a:ext cx="396216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A2EA5-B389-4B8A-86F0-1E0CD7D6ECF4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N-k requires an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3062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43200" y="3048120"/>
            <a:ext cx="1600200" cy="55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048120"/>
            <a:ext cx="15238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9400" y="365760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398304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434340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4343400"/>
            <a:ext cx="15238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000680"/>
            <a:ext cx="152388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65760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343400"/>
            <a:ext cx="15238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4000680"/>
            <a:ext cx="152388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52560" y="3699000"/>
            <a:ext cx="1524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304812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2BA75-3ABA-4B45-866D-D0285D6996A1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N-k requires an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3062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629400" y="365760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398304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434340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4343400"/>
            <a:ext cx="15238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000680"/>
            <a:ext cx="152388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365760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4343400"/>
            <a:ext cx="15238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000680"/>
            <a:ext cx="152388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52560" y="3699000"/>
            <a:ext cx="1524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D3679-AEEC-4FAD-8791-AB780808F5B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N-k requires an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3062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629400" y="398304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434340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29200" y="4343400"/>
            <a:ext cx="15238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4000680"/>
            <a:ext cx="152388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4343400"/>
            <a:ext cx="15238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000680"/>
            <a:ext cx="1523880" cy="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521C6-B253-4948-9E66-8AEC2ADC2F75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N-k requires an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30621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629400" y="4343400"/>
            <a:ext cx="1523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4343400"/>
            <a:ext cx="15238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4343400"/>
            <a:ext cx="1523880" cy="25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81107-F78A-4D32-BD10-58F865CB5797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ing N-k requires an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30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1F464-9FB2-4056-AA1C-23A308064BC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 down to 2N-1 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742520" cy="35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62520" y="3962520"/>
            <a:ext cx="2743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91520" y="39625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0440" y="4383000"/>
            <a:ext cx="2743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9440" y="4383000"/>
            <a:ext cx="838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4800600"/>
            <a:ext cx="2743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480060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70440" y="5221440"/>
            <a:ext cx="2743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9440" y="522144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54BE4-A125-435F-AC6B-165BBA24703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 down to 2N-1 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742520" cy="35431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70440" y="4383000"/>
            <a:ext cx="27432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9440" y="4383000"/>
            <a:ext cx="8380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62520" y="4800600"/>
            <a:ext cx="2743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91520" y="480060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0440" y="5221440"/>
            <a:ext cx="2743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399440" y="522144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D1967-970B-4073-903D-A84C5DDE663E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 down to 2N-1 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742520" cy="3543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962520" y="4800600"/>
            <a:ext cx="2743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91520" y="480060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70440" y="5221440"/>
            <a:ext cx="2743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99440" y="522144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366CD-B15D-4550-888B-1F829BDA3FDD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 down to 2N-1 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742520" cy="3543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70440" y="5221440"/>
            <a:ext cx="2743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99440" y="522144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BA7AF-0A93-44DE-83AB-40EE52EC0CDD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inpu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12C9C-0525-4E0C-9081-894C72CE183A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 down to 2N-1 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742520" cy="35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8F227-0427-4A9E-94B5-7AEE23D22488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 Design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N-input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1-of-N hot select signals for shift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 design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95280" y="2743200"/>
          <a:ext cx="327672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32767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257800" y="3124080"/>
            <a:ext cx="216684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EFD5A-986E-4642-96A0-96D5DD06BE30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 Design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N stages of 2-input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lect decoding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638680" y="1600200"/>
          <a:ext cx="25844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00200"/>
                    <a:ext cx="2584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A54BE-FB81-4815-91E9-DE8D109052A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input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want to add k N-bi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001 + 0111 + 1101 + 0010 = 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7BB39-1CD8-4E91-AED7-21D140C0C96F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input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want to add k N-bi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001 + 0111 + 1101 + 0010 = 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7AE2A-5E24-4E11-83D8-6665AECBE715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input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want to add k N-bi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001 + 0111 + 1101 + 0010 = 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ghtforward solution: k-1 N-input C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and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581280" y="3809880"/>
          <a:ext cx="19432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809880"/>
                    <a:ext cx="1943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71CF7-0F07-4EC8-840D-16489F1E89EA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Save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ll adder sums 3 inputs and produces 2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output has tw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um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full adders in parallel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ry sav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sums and N carry 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09680" y="3352680"/>
          <a:ext cx="37339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37339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F967F-45F6-4941-AADC-A1CB1811899C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SA Ap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-2 stages of C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sult in carry-save redunda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PA computes actu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09680" y="2971800"/>
          <a:ext cx="35816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35816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7B363-EA09-4A10-9483-6FCA7014E718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SA Ap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-2 stages of C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sult in carry-save redunda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PA computes actu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209680" y="2971800"/>
          <a:ext cx="35816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35816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A1F2E-32A8-447A-AAF6-27AF70F45D8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SA Ap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-2 stages of C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sult in carry-save redunda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PA computes actu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09680" y="2971800"/>
          <a:ext cx="35816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35816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EE3BF-6FD8-4437-A097-0661E992F0C3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a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0…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11…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ty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tude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&lt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4C301-3C80-43BA-9986-0B4BA4B9D821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00DD-D76E-4466-9A4E-2BB4368F3F3D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07386-C31B-4560-B3D3-9646B65047FE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C8059-28D1-4C58-9D19-06AF58B62160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64357-8C81-4EC8-8B52-1F652EC8652E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1F30-CB58-4F46-A489-A97B0DD2CB9D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65071-0591-4131-A43A-AF59BFF45B70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x N-bit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M-bit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these to produce M+N-bit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58338-31C9-434F-83DE-D24EAB8C795D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l For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n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3037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743200" y="2590920"/>
          <a:ext cx="510552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1055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1143000" y="3657600"/>
          <a:ext cx="6477120" cy="23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647712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3654F-296F-46B7-9B67-6D86A65B4DC2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t represents a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38080" y="2209680"/>
          <a:ext cx="784872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848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ED12D-5556-4515-9DD0-D5567C52E891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Multipli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057400" y="1523880"/>
          <a:ext cx="4876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76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697C-170A-4D0C-9649-4D8C9734A183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’s &amp; 0’s Detec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N-input 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 NOTs + 1’s detector (N-input 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2590920"/>
          <a:ext cx="289548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289548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105520" y="2743200"/>
          <a:ext cx="3047760" cy="12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43200"/>
                    <a:ext cx="304776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295280" y="4419720"/>
          <a:ext cx="464832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419720"/>
                    <a:ext cx="46483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361CC-9E5D-4FBB-8CC4-0032051FE07B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tangular Arr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sh array to fit rectangular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2514600" y="1981080"/>
          <a:ext cx="342108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3421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4B98A-17CF-442F-B865-23B9D32FF70F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ewer Partial Produ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multiplier requires N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looked at groups of r bits, we could form N/r parti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and small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radix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r = 2: look at pairs of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partial products of 0, Y, 2Y, 3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hree are easy, but 3Y requires add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DF217-5062-4DC6-BA79-81B7E4CC6663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73640" cy="3024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16400" y="3770280"/>
            <a:ext cx="1903680" cy="20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9880" y="56358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537048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510552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48402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9880" y="457524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9880" y="43020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CFD16-A9B2-4625-B4B1-809864C7C91F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73640" cy="30243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216400" y="3770280"/>
            <a:ext cx="1903680" cy="20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9880" y="56358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37048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9880" y="510552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48402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457524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0EE80-7796-4020-AF02-958F91936813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73640" cy="3024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216400" y="3770280"/>
            <a:ext cx="1903680" cy="20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56358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537048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510552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9880" y="48402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EB5A2-9643-40E3-8ED8-EA5BA70CD4BC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73640" cy="3024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216400" y="3770280"/>
            <a:ext cx="1903680" cy="20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6358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9880" y="537048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9880" y="511344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AAC13-D5EF-45BE-B4AE-A3444F47AC06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73640" cy="30243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216400" y="3770280"/>
            <a:ext cx="1903680" cy="20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9880" y="56358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9880" y="537048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DB801-435D-410D-BCE7-828607185C64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73640" cy="3024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5216400" y="3770280"/>
            <a:ext cx="1903680" cy="20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9880" y="5635800"/>
            <a:ext cx="137160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4F7A9-4B1F-4DFC-8182-E2D3F35CAD9C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73640" cy="3024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216400" y="3770280"/>
            <a:ext cx="1903680" cy="20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C0637-1595-4039-8EF0-A2DBA1C76844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27364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F436C-904F-4017-8265-F3491D4BD613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quality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each bit is equal (XNOR, aka equality g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 on bitwise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057400" y="2819520"/>
          <a:ext cx="472428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472428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F4E13-E999-456A-8088-874A45BC28DF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Hardwa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encoder generates control lines for each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selectors choose P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371600" y="2362320"/>
          <a:ext cx="609588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362320"/>
                    <a:ext cx="609588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0CDDE-D91E-476E-9958-69442ABF236A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 Exten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oducts can be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sign extension, which is cumber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fanout on most significant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990720" y="2666880"/>
          <a:ext cx="7467480" cy="34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46748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42F8D-26DA-4270-A794-54C4BFC1204F}" type="slidenum">
              <a:t>51</a:t>
            </a:fld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bits are either all 0’s or all 1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all 0’s is all 1’s + 1 in prop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is to reduce loading on 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295280" y="3048120"/>
          <a:ext cx="5715000" cy="29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571500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D4A1D-0354-450F-AFF0-B3D47BE715C0}" type="slidenum">
              <a:t>52</a:t>
            </a:fld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ven Simpler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add all the 1’s i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he ans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990720" y="2743200"/>
          <a:ext cx="746748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74674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E292C-A8C6-4826-A74C-2450B0AAD99A}" type="slidenum">
              <a:t>53</a:t>
            </a:fld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vs. unsigned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radix Booth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s. tree CS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85DC-8E0A-404C-9548-7C1224106E3B}" type="slidenum">
              <a:t>54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gnitude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B-A and look at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-A = B + ~A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unsigned numbers, carry out is sign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666880" y="2971800"/>
          <a:ext cx="3276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971800"/>
                    <a:ext cx="3276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D8790-A8F0-4B11-94B1-A48E532FEC45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ed vs. Unsign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gned numbers, comparison is h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: carry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: zero (all bits of A-B are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: negative (MSB of resul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: overflow (inputs had different signs, output sig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81080" y="3429000"/>
            <a:ext cx="4572000" cy="26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6192B-65A1-47CD-89AD-BEDA8F8C7FB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R 1 = ___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L1 =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.  Rt shift sign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R1 = __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L1 =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lost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R1 = ____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L1 = 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9B28F-956B-4D57-B403-1816221365A9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R 1 = 0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.  Rt shift sign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lost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L1 = 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E89C-3ABA-4BBD-9C04-B1E56169FE58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8:49:13Z</dcterms:modified>
  <cp:revision>1487</cp:revision>
  <dc:subject/>
  <dc:title>PowerPoint Presentation</dc:title>
</cp:coreProperties>
</file>