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11.png" ContentType="image/png"/>
  <Override PartName="/ppt/media/image51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96FE-CFD3-448E-A504-F8434C0F9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F5C2-6624-4E8B-910E-41692CE37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941D-6E65-4B51-9482-115D587A9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B7645-3FD3-4068-AC4F-0BE0852333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6B868-27C6-439B-8EFF-4D11927F4E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14F5-2D61-4583-AAF2-8453C6090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5632-A497-439E-B575-785A1B930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BA52-FF0C-4D7D-A810-1C88E9F50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5AD5-EEE5-4806-85CD-D7F6E4488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7781-819D-4AF9-9BA3-E1D7CA66C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2875-8BE0-4A0D-899F-04F586D18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CE8B-05F1-4746-8F66-3D02B0670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4196FB7C-1A80-4CE1-9CED-29F35D57E28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1.wmf"/><Relationship Id="rId1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5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Add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2EFA-7BBD-465A-AEC8-5B852FEC9C3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Pass Transistor Logic (C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faster, but mor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3880" y="2293920"/>
          <a:ext cx="57913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93920"/>
                    <a:ext cx="57913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BE924-2CD0-4553-AF5A-6F7867FAD20D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, but large and power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very fast 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371600" y="2787480"/>
          <a:ext cx="5715000" cy="33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87480"/>
                    <a:ext cx="5715000" cy="33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CAAC-8EF1-4420-BA91-9BB945861DD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Propagate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bit adder called 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m bit depends on all previous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mpute all these carries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3352680"/>
          <a:ext cx="2514600" cy="21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251460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886200" y="3733920"/>
          <a:ext cx="441972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733920"/>
                    <a:ext cx="441972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5D24-81AB-4DAC-8CDA-3F5D73F6D08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design: cascade full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goes from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ull adder to have fast car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3124080"/>
          <a:ext cx="777240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7724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D5D0-96A9-49BE-BF36-41BF95A86F5E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passes through majorit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inority +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inverter and use inverting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52480" y="3048120"/>
          <a:ext cx="533412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334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EA91-348D-4788-A53A-D47C5B91E62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19320" y="2514600"/>
          <a:ext cx="78084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7808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95280" y="4191120"/>
          <a:ext cx="120996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209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4114800"/>
          <a:ext cx="131904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4114800"/>
                    <a:ext cx="13190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371600" y="5562720"/>
          <a:ext cx="54936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54936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069AC-5126-496C-8AD8-4E084FA57A4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2514600"/>
          <a:ext cx="28191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28191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95280" y="4191120"/>
          <a:ext cx="198144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981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799160" y="4114800"/>
          <a:ext cx="167796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9160" y="4114800"/>
                    <a:ext cx="1677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371600" y="5562720"/>
          <a:ext cx="162252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16225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222B-D870-4275-88DB-D75914FA832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14400" y="1600200"/>
          <a:ext cx="74674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4674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08B9-854E-4791-BE35-3293927FBDB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40464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38080" y="1600200"/>
          <a:ext cx="26672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26672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2057400"/>
          <a:ext cx="4343400" cy="39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057400"/>
                    <a:ext cx="43434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8324-B7EA-41E2-9837-EDB421A443B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120" y="2362320"/>
          <a:ext cx="77940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7794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DA10-4067-48C8-956D-1FC7AEB8E562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bit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Incremen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FABD-9351-4E13-A1EA-5995A7A8B4E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62120" y="2362320"/>
          <a:ext cx="30477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3047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E9F1-C486-45FB-A4DA-3888B3AE2C13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Diagram No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1968480"/>
          <a:ext cx="777240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68480"/>
                    <a:ext cx="7772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C27C0-7A8A-4EA9-8EAB-CAE13D7CB45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is slow through all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llows carry to skip over groups of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based on n-bit propagat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62120" y="3200400"/>
          <a:ext cx="769608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696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5C54-3C0C-4F15-BEB1-4AAFFDE9FF1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19320" y="5521320"/>
          <a:ext cx="65700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521320"/>
                    <a:ext cx="657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1C8B-0DD5-4691-BA05-4C278B35DC50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5486400"/>
          <a:ext cx="419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486400"/>
                    <a:ext cx="419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C750-0347-4DB7-B71E-E3B36E587C2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grows as O(sqrt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1600200"/>
          <a:ext cx="77724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1B8A-433B-4860-A3E0-6D6C284EE91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Lookahead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 compute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: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bit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igher-valency cells with more than tw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3429000"/>
          <a:ext cx="76197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76197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E2E8-B3DD-4FEC-AB93-47C7E41A555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A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838080" y="2133720"/>
          <a:ext cx="746784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6784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5AD3-4DD0-41A5-8252-EFC481AD8B01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gher-Valency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5800" y="2546280"/>
          <a:ext cx="7772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46280"/>
                    <a:ext cx="7772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ACD8-248A-49A5-837F-717EC096606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elec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for critical paths dependent on late input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wo possible outputs for X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oper output when X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 precomputes n-bit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oth possible carries into n-bi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66680" y="3886200"/>
          <a:ext cx="670572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6705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22FD-19E1-4B46-ABC8-C6924E897279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2743200"/>
          <a:ext cx="2438280" cy="18255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181480" y="2743200"/>
          <a:ext cx="2819520" cy="328608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8080" y="1981080"/>
          <a:ext cx="6368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6368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76920" y="1981080"/>
          <a:ext cx="5680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1981080"/>
                    <a:ext cx="5680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959A-AAE0-4282-B297-7EEFD14ACC31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66680" y="5257800"/>
          <a:ext cx="122868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12286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E57C-1916-4447-BD6A-B86E65EC3075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66680" y="5257800"/>
          <a:ext cx="518184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5181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4B55-6494-4C17-878A-0ADCF54D5FE6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657600" y="1523880"/>
          <a:ext cx="480996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4809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3966-CD21-47BE-A52E-2378B151DE9A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okahead is good, lookahead across lookah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lookahead gives O(log N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tions on tree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A0F9-71A0-47EC-A130-E7F9D7EEE210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ent-Ku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828720" y="1523880"/>
          <a:ext cx="748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523880"/>
                    <a:ext cx="748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BFF1-10D5-476E-A53E-F2E7836DAC53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2197080"/>
          <a:ext cx="777240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7080"/>
                    <a:ext cx="777240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E044-0ABA-415F-B808-883FA500A26F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ogge-Sto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B6AA-1C38-4A78-9100-E1CD8B6702E5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N-bit tree adder would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og N  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 never excee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one wiring track betwee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dder with 3-D taxonom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trac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ee adders sit on plan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5D81-A6CB-4BD2-A717-76AE07ACBC82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61B8-C57F-4043-BD7A-859927139990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E358-FFEF-46C8-9D9D-7D4B7492DE9A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2743200"/>
          <a:ext cx="2438280" cy="18255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181480" y="2743200"/>
          <a:ext cx="2819520" cy="328608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38080" y="1981080"/>
          <a:ext cx="1295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1295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870440" y="1981080"/>
          <a:ext cx="18352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1981080"/>
                    <a:ext cx="1835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AC482-7546-4B20-A707-2320DB350E0D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n-Carl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5800" y="1700280"/>
          <a:ext cx="77724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6EA0-FE5F-4E76-81D0-DDE75CAC2C66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nowles [2, 1, 1, 1]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E7B0-EA5E-42EE-B7D1-E2DF2BD62B76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dner-Fisch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5800" y="1814400"/>
          <a:ext cx="77724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4400"/>
                    <a:ext cx="77724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D1C5-2FF0-4DCC-BA79-15A410FF8827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xonomy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09680" y="2057400"/>
          <a:ext cx="47246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7246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295280" y="4800600"/>
          <a:ext cx="22226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2222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85800" y="3276720"/>
          <a:ext cx="190512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76720"/>
                    <a:ext cx="1905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09480" y="1676520"/>
          <a:ext cx="190512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676520"/>
                    <a:ext cx="19051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6553080" y="1523880"/>
          <a:ext cx="213372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1523880"/>
                    <a:ext cx="2133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6248520" y="2743200"/>
          <a:ext cx="2209680" cy="152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2743200"/>
                    <a:ext cx="22096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638680" y="4572000"/>
          <a:ext cx="2362320" cy="14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572000"/>
                    <a:ext cx="23623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C2C10-245F-4A54-9EE9-9D7B03645AD1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33520" y="2819520"/>
          <a:ext cx="8153280" cy="307800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295280"/>
                <a:gridCol w="990720"/>
                <a:gridCol w="9903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Fan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Ri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Skip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Inc.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-K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-1, 0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an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L-1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 +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ge-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0, L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68580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s offer area / power / delay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best one for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68F0-05CE-4656-93E5-5E1C5180223C}" type="slidenum">
              <a:t>4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2BB98-12AB-4CDA-8C88-0B7AF1740773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~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67B9-E483-4D74-8194-A691FA5C07F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implementation from eq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2057400"/>
          <a:ext cx="27432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2743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295280" y="3200400"/>
          <a:ext cx="617220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00400"/>
                    <a:ext cx="61722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B87C-7F5C-4AE3-B59E-25B976E1F19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S in terms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ABC + (A + B + C)(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is usually C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2743200"/>
          <a:ext cx="6095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095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3D98-2979-4945-BA0E-111882416EB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r layout circumvents usual lin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de transistors on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utput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9608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FC01-73EB-4493-9B4E-8C7673B735D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7:19:16Z</dcterms:modified>
  <cp:revision>1390</cp:revision>
  <dc:subject/>
  <dc:title>PowerPoint Presentation</dc:title>
</cp:coreProperties>
</file>