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47.wmf" ContentType="image/x-wmf"/>
  <Override PartName="/ppt/media/image10.wmf" ContentType="image/x-wmf"/>
  <Override PartName="/ppt/media/image2.png" ContentType="image/png"/>
  <Override PartName="/ppt/media/image35.wmf" ContentType="image/x-wmf"/>
  <Override PartName="/ppt/media/image5.wmf" ContentType="image/x-wmf"/>
  <Override PartName="/ppt/media/image17.wmf" ContentType="image/x-wmf"/>
  <Override PartName="/ppt/media/image28.wmf" ContentType="image/x-wmf"/>
  <Override PartName="/ppt/media/image34.wmf" ContentType="image/x-wmf"/>
  <Override PartName="/ppt/media/image4.wmf" ContentType="image/x-wmf"/>
  <Override PartName="/ppt/media/image16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15.wmf" ContentType="image/x-wmf"/>
  <Override PartName="/ppt/media/image26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25.wmf" ContentType="image/x-wmf"/>
  <Override PartName="/ppt/media/image61.wmf" ContentType="image/x-wmf"/>
  <Override PartName="/ppt/media/image24.wmf" ContentType="image/x-wmf"/>
  <Override PartName="/ppt/media/image59.wmf" ContentType="image/x-wmf"/>
  <Override PartName="/ppt/media/image22.wmf" ContentType="image/x-wmf"/>
  <Override PartName="/ppt/media/image60.wmf" ContentType="image/x-wmf"/>
  <Override PartName="/ppt/media/image23.wmf" ContentType="image/x-wmf"/>
  <Override PartName="/ppt/media/image58.wmf" ContentType="image/x-wmf"/>
  <Override PartName="/ppt/media/image21.wmf" ContentType="image/x-wmf"/>
  <Override PartName="/ppt/media/image57.wmf" ContentType="image/x-wmf"/>
  <Override PartName="/ppt/media/image20.wmf" ContentType="image/x-wmf"/>
  <Override PartName="/ppt/media/image11.png" ContentType="image/png"/>
  <Override PartName="/ppt/media/image51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31.wmf" ContentType="image/x-wmf"/>
  <Override PartName="/ppt/media/image32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48.wmf" ContentType="image/x-wmf"/>
  <Override PartName="/ppt/media/image50.wmf" ContentType="image/x-wmf"/>
  <Override PartName="/ppt/media/image52.wmf" ContentType="image/x-wmf"/>
  <Override PartName="/ppt/media/image53.wmf" ContentType="image/x-wmf"/>
  <Override PartName="/ppt/media/image5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92487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4E722-6090-4CDC-902B-C32CADBADE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CBF28-B862-4C08-92DF-A5A42ACCB6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71737-5C76-44BA-8A95-EB211ECE33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0B388-5778-4CB3-90E0-5994CCE01B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47D3B-C144-4C3F-8A9B-1C5880AB34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A1FDB-4670-4112-B07D-93B9ECADCF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BBB30-7DD2-408B-8EFC-AB2BF73D0C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410AE-C485-4779-9A32-FC5333C88E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C6690-0DCB-40B8-9CA6-0343E7A8F6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420AC-D198-47B7-899D-4725307AAD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31C86-C701-45BF-B7CD-D1AA13E53A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D9824-F90A-4418-9C7B-9D66C7AB13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Slide </a:t>
            </a:r>
            <a:fld id="{109311FC-7E1D-4AA6-9215-85D95B30D4C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2.wmf"/><Relationship Id="rId1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6.wmf"/><Relationship Id="rId1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wmf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1.wmf"/><Relationship Id="rId1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roduction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MOS VLSI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</a:t>
            </a:r>
            <a:br>
              <a:rPr sz="3600"/>
            </a:br>
            <a:br>
              <a:rPr sz="2800"/>
            </a:b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Lecture 15: 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Adder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ar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vey Mudd Colle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ring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505320" y="4648320"/>
            <a:ext cx="2133360" cy="128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5F67A-F97C-455F-BF3E-9E5E21846838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ull Adder Design III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mentary Pass Transistor Logic (CP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ghtly faster, but more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523880" y="2293920"/>
          <a:ext cx="5791320" cy="367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293920"/>
                    <a:ext cx="5791320" cy="36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6E36F-EED6-4BDF-B4B3-915F66283D66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ull Adder Design IV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al-rail dom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fast, but large and power hung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in very fast multip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371600" y="2787480"/>
          <a:ext cx="5715000" cy="331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787480"/>
                    <a:ext cx="5715000" cy="33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13EA2-BEA6-4997-9E26-98CA0EA2016A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y Propagate Add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-bit adder called C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sum bit depends on all previous car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we compute all these carries quick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914400" y="3352680"/>
          <a:ext cx="2514600" cy="21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352680"/>
                    <a:ext cx="2514600" cy="21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3886200" y="3733920"/>
          <a:ext cx="4419720" cy="157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3733920"/>
                    <a:ext cx="4419720" cy="15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0F180-9A2D-486E-A5D3-A5E22038AA1C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y-Ripple Add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st design: cascade full ad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ical path goes from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full adder to have fast carry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85800" y="3124080"/>
          <a:ext cx="7772400" cy="281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124080"/>
                    <a:ext cx="7772400" cy="28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79DB6-101C-4B33-9540-06CDBCE64AD8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vers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ical path passes through majority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t from minority +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minate inverter and use inverting full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752480" y="3048120"/>
          <a:ext cx="5334120" cy="28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048120"/>
                    <a:ext cx="5334120" cy="28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AA5BD-B1A2-4B91-9546-D1E7B8C44523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enerate / Propaga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tions often factored into G and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 and propagate for groups spanning i: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7368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219320" y="2514600"/>
          <a:ext cx="780840" cy="9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514600"/>
                    <a:ext cx="78084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411480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295280" y="4191120"/>
          <a:ext cx="1209960" cy="86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4191120"/>
                    <a:ext cx="120996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4316400" y="3230640"/>
          <a:ext cx="511200" cy="39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16400" y="3230640"/>
                    <a:ext cx="51120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431640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316400" y="3230640"/>
          <a:ext cx="511200" cy="396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316400" y="3230640"/>
                    <a:ext cx="51120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4800600" y="4114800"/>
          <a:ext cx="1319040" cy="860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00600" y="4114800"/>
                    <a:ext cx="131904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371600" y="5562720"/>
          <a:ext cx="549360" cy="417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371600" y="5562720"/>
                    <a:ext cx="549360" cy="41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68A1C-587F-4271-B122-43EE289841EC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enerate / Propaga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tions often factored into G and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 and propagate for groups spanning i: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7368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219320" y="2514600"/>
          <a:ext cx="2819160" cy="9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514600"/>
                    <a:ext cx="281916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411480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295280" y="4191120"/>
          <a:ext cx="1981440" cy="86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4191120"/>
                    <a:ext cx="198144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4316400" y="3230640"/>
          <a:ext cx="511200" cy="39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16400" y="3230640"/>
                    <a:ext cx="51120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431640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4316400" y="3230640"/>
          <a:ext cx="511200" cy="396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316400" y="3230640"/>
                    <a:ext cx="51120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4799160" y="4114800"/>
          <a:ext cx="1677960" cy="860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99160" y="4114800"/>
                    <a:ext cx="167796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1371600" y="5562720"/>
          <a:ext cx="1622520" cy="417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371600" y="5562720"/>
                    <a:ext cx="1622520" cy="41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06506-9DDE-457C-93F3-F6106D2BCDAF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G Logic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914400" y="1600200"/>
          <a:ext cx="7467480" cy="44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600200"/>
                    <a:ext cx="746748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05235-859D-4073-8A3D-33FDCB2993E2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y-Ripple Revisite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"/>
          <p:cNvSpPr/>
          <p:nvPr/>
        </p:nvSpPr>
        <p:spPr>
          <a:xfrm>
            <a:off x="404640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838080" y="1600200"/>
          <a:ext cx="2667240" cy="48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00200"/>
                    <a:ext cx="266724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2209680" y="2057400"/>
          <a:ext cx="4343400" cy="394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2057400"/>
                    <a:ext cx="4343400" cy="39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C734F-0893-4BD0-B0A8-DC5E258A9D5E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y-Ripple PG Diagra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3809880" y="1447920"/>
          <a:ext cx="457200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447920"/>
                    <a:ext cx="45720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372600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762120" y="2362320"/>
          <a:ext cx="779400" cy="44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362320"/>
                    <a:ext cx="77940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78077-811C-4770-9A4E-20469E041807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-bit Ad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-Ripple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-Skip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-Lookahead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-Select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-Increment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e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B5924-AB65-4F5C-A4F4-5A4218E08B3F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y-Ripple PG Diagra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3809880" y="1447920"/>
          <a:ext cx="457200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447920"/>
                    <a:ext cx="45720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372600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762120" y="2362320"/>
          <a:ext cx="3047760" cy="44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362320"/>
                    <a:ext cx="304776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6A9B7-9C37-4970-9823-168440261663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G Diagram Not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685800" y="1968480"/>
          <a:ext cx="7772400" cy="368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68480"/>
                    <a:ext cx="7772400" cy="36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81B45-2DD7-44CF-BFBD-EA1EBDE9D5E2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y-Skip Add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-ripple is slow through all N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-skip allows carry to skip over groups of n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sion based on n-bit propagate sig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762120" y="3200400"/>
          <a:ext cx="7696080" cy="185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200400"/>
                    <a:ext cx="7696080" cy="18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F4FBC-5D05-4741-9253-19BDCDC3557A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y-Skip PG Diagra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k n-bit groups (N = n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219320" y="5521320"/>
          <a:ext cx="657000" cy="43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5521320"/>
                    <a:ext cx="65700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1828800" y="1600200"/>
          <a:ext cx="5181480" cy="3322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1600200"/>
                    <a:ext cx="5181480" cy="33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8AB4E-243A-413F-9B18-9ACEFA85D89D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y-Skip PG Diagra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k n-bit groups (N = n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219320" y="5486400"/>
          <a:ext cx="4190760" cy="50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5486400"/>
                    <a:ext cx="419076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1828800" y="1600200"/>
          <a:ext cx="5181480" cy="3322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1600200"/>
                    <a:ext cx="5181480" cy="33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52051-14A9-478E-9370-65A3D19871BB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Variable Group Siz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4" name=""/>
          <p:cNvSpPr/>
          <p:nvPr/>
        </p:nvSpPr>
        <p:spPr>
          <a:xfrm>
            <a:off x="914400" y="56386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grows as O(sqrt(N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685800" y="1600200"/>
          <a:ext cx="7772400" cy="412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00200"/>
                    <a:ext cx="7772400" cy="41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49BF6-4ADD-4E15-9BFC-0F369133006B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y-Lookahead Add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-lookahead adder computes 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: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many bits in parall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higher-valency cells with more than two in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762120" y="3429000"/>
          <a:ext cx="7619760" cy="187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429000"/>
                    <a:ext cx="7619760" cy="18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9BC5E-E4BB-4EFD-8A1E-D395BB9225A9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A PG Diagra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838080" y="2133720"/>
          <a:ext cx="7467840" cy="324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133720"/>
                    <a:ext cx="7467840" cy="32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6255B-0113-49BE-A81F-395D0A71D2CD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igher-Valency Cell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685800" y="2546280"/>
          <a:ext cx="7772400" cy="25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46280"/>
                    <a:ext cx="7772400" cy="25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C69ED-0CC9-4278-B111-6B89D5E6E23B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y-Select Add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ck for critical paths dependent on late input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ompute two possible outputs for X =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proper output when X arr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-select adder precomputes n-bit su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both possible carries into n-bit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066680" y="3886200"/>
          <a:ext cx="6705720" cy="213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886200"/>
                    <a:ext cx="6705720" cy="21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45040-4D8E-4452-B4D1-4615A9141755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ngle-Bit Addi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lf Add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Full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762120" y="2743200"/>
          <a:ext cx="2438280" cy="182556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  <a:gridCol w="60948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5181480" y="2743200"/>
          <a:ext cx="2819520" cy="3286080"/>
        </p:xfrm>
        <a:graphic>
          <a:graphicData uri="http://schemas.openxmlformats.org/drawingml/2006/table">
            <a:tbl>
              <a:tblPr/>
              <a:tblGrid>
                <a:gridCol w="563760"/>
                <a:gridCol w="565200"/>
                <a:gridCol w="561960"/>
                <a:gridCol w="565200"/>
                <a:gridCol w="56340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2230560" y="1371600"/>
          <a:ext cx="1315800" cy="14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0560" y="1371600"/>
                    <a:ext cx="131580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6705720" y="1379520"/>
          <a:ext cx="1447560" cy="137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05720" y="1379520"/>
                    <a:ext cx="1447560" cy="13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838080" y="1981080"/>
          <a:ext cx="636840" cy="698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1981080"/>
                    <a:ext cx="63684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4876920" y="1981080"/>
          <a:ext cx="568080" cy="623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76920" y="1981080"/>
                    <a:ext cx="568080" cy="6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20D50-C9CA-4303-8DBB-4FA23B55CBD8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y-Increment Add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 initial PG and final XOR out of carry-sel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1523880" y="2057400"/>
          <a:ext cx="5715000" cy="304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057400"/>
                    <a:ext cx="5715000" cy="30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334152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066680" y="5257800"/>
          <a:ext cx="1228680" cy="48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5257800"/>
                    <a:ext cx="122868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8AAC4-C6C4-44CC-8C1D-44B915542503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y-Increment Add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 initial PG and final XOR out of carry-sel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523880" y="2057400"/>
          <a:ext cx="5715000" cy="304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057400"/>
                    <a:ext cx="5715000" cy="30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"/>
          <p:cNvSpPr/>
          <p:nvPr/>
        </p:nvSpPr>
        <p:spPr>
          <a:xfrm>
            <a:off x="334152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1066680" y="5257800"/>
          <a:ext cx="5181840" cy="59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5257800"/>
                    <a:ext cx="518184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9C16F-5C78-4FDD-B00E-E24DF97D426A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Variable Group Siz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buff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cri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3657600" y="1523880"/>
          <a:ext cx="480996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1523880"/>
                    <a:ext cx="480996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61B2D-9038-458B-B241-A4E23FEDD13B}" type="slidenum">
              <a:t>32</a:t>
            </a:fld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ee Add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lookahead is good, lookahead across lookahea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ursive lookahead gives O(log N)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variations on tree ad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585CD-6246-40D3-815F-087E7F071A1F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rent-Ku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828720" y="1523880"/>
          <a:ext cx="74865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1523880"/>
                    <a:ext cx="74865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F9B0B-826C-40ED-8BC4-ECB6F2C59CA5}" type="slidenum">
              <a:t>34</a:t>
            </a:fld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klansk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685800" y="2197080"/>
          <a:ext cx="7772400" cy="322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97080"/>
                    <a:ext cx="7772400" cy="322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37B1D-F5FE-42DD-9AA8-2D2C51BCD287}" type="slidenum">
              <a:t>35</a:t>
            </a:fld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Kogge-Sto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685800" y="1933560"/>
          <a:ext cx="7772400" cy="375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33560"/>
                    <a:ext cx="7772400" cy="37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D8CF0-AB30-4344-BC6C-F9760123EF48}" type="slidenum">
              <a:t>36</a:t>
            </a:fld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ee Adder Taxonom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l N-bit tree adder would h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log N   logic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nout never exceeding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more than one wiring track between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adder with 3-D taxonomy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level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nou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ing track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n tree adders sit on plane defined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56544-0B6C-4DF2-863F-BBDA1D38D496}" type="slidenum">
              <a:t>37</a:t>
            </a:fld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ee Adder Taxonom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1676520" y="1523880"/>
          <a:ext cx="575928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523880"/>
                    <a:ext cx="575928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8EC7E-3CB2-4144-AE81-1CE9629BEFC4}" type="slidenum">
              <a:t>38</a:t>
            </a:fld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ee Adder Taxonom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676520" y="1523880"/>
          <a:ext cx="575928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523880"/>
                    <a:ext cx="575928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6BB14-719C-48EB-B5DB-A7F9D1F40213}" type="slidenum">
              <a:t>39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ngle-Bit Addi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lf Add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Full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762120" y="2743200"/>
          <a:ext cx="2438280" cy="182556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  <a:gridCol w="60948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5181480" y="2743200"/>
          <a:ext cx="2819520" cy="3286080"/>
        </p:xfrm>
        <a:graphic>
          <a:graphicData uri="http://schemas.openxmlformats.org/drawingml/2006/table">
            <a:tbl>
              <a:tblPr/>
              <a:tblGrid>
                <a:gridCol w="563760"/>
                <a:gridCol w="565200"/>
                <a:gridCol w="561960"/>
                <a:gridCol w="565200"/>
                <a:gridCol w="56340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2230560" y="1371600"/>
          <a:ext cx="1315800" cy="14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0560" y="1371600"/>
                    <a:ext cx="131580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6705720" y="1379520"/>
          <a:ext cx="1447560" cy="137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05720" y="1379520"/>
                    <a:ext cx="1447560" cy="13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838080" y="1981080"/>
          <a:ext cx="1295640" cy="698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1981080"/>
                    <a:ext cx="129564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4870440" y="1981080"/>
          <a:ext cx="1835280" cy="623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70440" y="1981080"/>
                    <a:ext cx="1835280" cy="6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E31B9-3E3A-4450-9E76-D38ED72C74F7}" type="slidenum">
              <a:t>4</a:t>
            </a:fld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n-Carls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685800" y="1700280"/>
          <a:ext cx="7772400" cy="42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00280"/>
                    <a:ext cx="7772400" cy="42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4F01B-86FA-49E3-8665-E7C14E58049F}" type="slidenum">
              <a:t>40</a:t>
            </a:fld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Knowles [2, 1, 1, 1]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685800" y="1933560"/>
          <a:ext cx="7772400" cy="375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33560"/>
                    <a:ext cx="7772400" cy="37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7730F-2CED-4F4B-99F5-B87F5066AB3E}" type="slidenum">
              <a:t>41</a:t>
            </a:fld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dner-Fisch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685800" y="1814400"/>
          <a:ext cx="7772400" cy="398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14400"/>
                    <a:ext cx="7772400" cy="39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BC21E-033B-4AAC-8041-4FC75B300C4C}" type="slidenum">
              <a:t>42</a:t>
            </a:fld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axonomy Revisite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2209680" y="2057400"/>
          <a:ext cx="4724640" cy="375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057400"/>
                    <a:ext cx="4724640" cy="37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1295280" y="4800600"/>
          <a:ext cx="2222640" cy="123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4800600"/>
                    <a:ext cx="2222640" cy="12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685800" y="3276720"/>
          <a:ext cx="1905120" cy="1062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3276720"/>
                    <a:ext cx="190512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609480" y="1676520"/>
          <a:ext cx="1905120" cy="933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9480" y="1676520"/>
                    <a:ext cx="190512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"/>
          <p:cNvGraphicFramePr/>
          <p:nvPr/>
        </p:nvGraphicFramePr>
        <p:xfrm>
          <a:off x="6553080" y="1523880"/>
          <a:ext cx="2133720" cy="1252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53080" y="1523880"/>
                    <a:ext cx="2133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"/>
          <p:cNvGraphicFramePr/>
          <p:nvPr/>
        </p:nvGraphicFramePr>
        <p:xfrm>
          <a:off x="6248520" y="2743200"/>
          <a:ext cx="2209680" cy="1528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248520" y="2743200"/>
                    <a:ext cx="2209680" cy="15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"/>
          <p:cNvGraphicFramePr/>
          <p:nvPr/>
        </p:nvGraphicFramePr>
        <p:xfrm>
          <a:off x="5638680" y="4572000"/>
          <a:ext cx="2362320" cy="1469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638680" y="4572000"/>
                    <a:ext cx="2362320" cy="14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F8F07-8C77-4962-986E-681BA4DD5111}" type="slidenum">
              <a:t>43</a:t>
            </a:fld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533520" y="2819520"/>
          <a:ext cx="8153280" cy="3078000"/>
        </p:xfrm>
        <a:graphic>
          <a:graphicData uri="http://schemas.openxmlformats.org/drawingml/2006/table">
            <a:tbl>
              <a:tblPr/>
              <a:tblGrid>
                <a:gridCol w="1752480"/>
                <a:gridCol w="1676520"/>
                <a:gridCol w="1295280"/>
                <a:gridCol w="990720"/>
                <a:gridCol w="990360"/>
                <a:gridCol w="1447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chitec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ic Lev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 Fan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c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ry-Rip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ry-Skip n=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4 +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5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ry-Inc. n=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4 +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-Ku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L-1, 0, 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log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lans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, L-1, 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2 +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 Nlog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gge-St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, 0, L-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log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4" name=""/>
          <p:cNvSpPr/>
          <p:nvPr/>
        </p:nvSpPr>
        <p:spPr>
          <a:xfrm>
            <a:off x="685800" y="160020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r architectures offer area / power / delay tradeoff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the best one for your appli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3661A-7C03-40AE-8ED2-D44135F49516}" type="slidenum">
              <a:t>4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GK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ull adder, define what happens to car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: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 independent of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agate: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ll: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 independent of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CF91A-C004-42B3-96AD-94D75B81D376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GK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ull adder, define what happens to car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: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 independent of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= 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agate: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ll: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 independent of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 = ~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~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EF75F-6677-48AF-866E-11224B13548A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ull Adder Design I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ute force implementation from eq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219320" y="2057400"/>
          <a:ext cx="2743200" cy="93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057400"/>
                    <a:ext cx="2743200" cy="9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1295280" y="3200400"/>
          <a:ext cx="6172200" cy="2830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3200400"/>
                    <a:ext cx="6172200" cy="28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F485D-11F8-48E9-83FE-69FEF766B6D0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ull Adder Design II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 S in terms of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= ABC + (A + B + C)(~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ical path is usually C to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ripple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447920" y="2743200"/>
          <a:ext cx="6095880" cy="33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743200"/>
                    <a:ext cx="609588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89E79-C118-4830-A53B-844774DADA1E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ver layout circumvents usual line of 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wide transistors on critical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minate output inve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85800" y="3505320"/>
            <a:ext cx="7696080" cy="246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686AD-B820-4B84-871C-C3A7B96B22EF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07-01-15T17:19:16Z</dcterms:modified>
  <cp:revision>1390</cp:revision>
  <dc:subject/>
  <dc:title>PowerPoint Presentation</dc:title>
</cp:coreProperties>
</file>