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9151938" cy="6865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0991C-8AE4-4A78-80C2-85DC90A0E9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54A63-79C5-4F5E-988D-AF841C7B0A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DEBFE-BC60-4AB3-9423-C1F02ACE19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C2BA8-1BC4-4F94-98EC-94D32272D4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67A20-09F9-4355-A759-392E1F70FF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68C51-AD48-47E7-9DE6-8CD9F35648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8E26B-E1A7-496C-B3B5-4470C4176D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15A6F-7EC6-4D06-B288-DBCE77558A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78A78-CD24-4D1B-8FAC-4984A8A88B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A914D-E983-4B90-878A-6CBDE02D1E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F2FD2-C24A-44DC-9354-3DC6991E47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871A4-C7F9-4AA7-AD8E-3D24C58737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lide </a:t>
            </a:r>
            <a:fld id="{42DCBBAC-481D-4C23-AC59-D3FDEDC1C32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MOS VLS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</a:t>
            </a:r>
            <a:br>
              <a:rPr sz="3600"/>
            </a:br>
            <a:br>
              <a:rPr sz="28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Lecture 14: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Wi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y Mudd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05320" y="4648320"/>
            <a:ext cx="2133360" cy="12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B3B3B-DE4B-4910-A798-D4B873720234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eet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sheet resistances in 180 n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219320" y="1981080"/>
          <a:ext cx="6019560" cy="4046760"/>
        </p:xfrm>
        <a:graphic>
          <a:graphicData uri="http://schemas.openxmlformats.org/drawingml/2006/table">
            <a:tbl>
              <a:tblPr/>
              <a:tblGrid>
                <a:gridCol w="2819160"/>
                <a:gridCol w="3200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y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et Resistance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usion (silicid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usion (no silicid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ysilicon (silicid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ysilicon (no silicid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7ABD4-6A12-47A2-A687-1DCDA7CEE400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tacts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s and vias also have 2-2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any contacts for lower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mall contacts for current crowding around perip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447920" y="3733920"/>
          <a:ext cx="6019560" cy="212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733920"/>
                    <a:ext cx="6019560" cy="21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D8466-0153-4A2A-9B89-F477DEF3397B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has capacitance per uni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ayers above and 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d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057400" y="3124080"/>
          <a:ext cx="4800600" cy="29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124080"/>
                    <a:ext cx="480060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4E9CA-677C-4ADD-8295-B585AE8A2525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pacitance Tren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plate equation:  C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are not parallel plates, but obey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area (W, t) increases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distance (s, h) decreases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lectric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8.8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/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= 3.9 for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are starting to use low-k dielec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 (or less) as dielectrics use air po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78529-0749-4F18-8F3D-345A255A400C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2 Capacitance Dat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wires have ~ 0.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to 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for gat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438280" y="2362320"/>
          <a:ext cx="4070520" cy="36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362320"/>
                    <a:ext cx="407052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2D3D7-8EFD-495A-87D7-F81F3152A50C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usion &amp; Polysilic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 capacitance is very high (about 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ble to gat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 also has high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using diffus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nn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wir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silicon has lower C but high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or transisto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asionally for very short wires betwee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5A8B1-A65F-48D3-AD0E-2E59DA6C5C10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umped Element Mode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are a distribut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 with lumped elem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segme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odel is accurate to 3% in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-model needs 100 segments for same accurac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ingle segme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odel for Elmor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981080" y="2362320"/>
          <a:ext cx="4267440" cy="25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362320"/>
                    <a:ext cx="4267440" cy="25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59E7B-8C12-4CDD-A238-8ED07C543DF8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2 wire in 180 n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m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 a 3-segme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ermic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3A160-4FC6-4228-ACB8-095BD9516FFC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2 wire in 180 n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m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 a 3-segme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0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 R = 78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ermic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 C = 1 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90720" y="4343400"/>
          <a:ext cx="7162560" cy="15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343400"/>
                    <a:ext cx="716256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656CF-BD26-4C78-951F-BAC9861D3C16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RC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delay of a 10x inverter driving a 2x inverter at the end of the 5mm wire from the previous 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2.5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fo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inverter: 0.3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nMOS, 0.7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B8043-6A03-4107-8C13-4017BB4C2A66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R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33E42-AF92-4806-A897-A6F6D0198536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RC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delay of a 10x inverter driving a 2x inverter at the end of the 5mm wire from the previous 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2.5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fo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inverter: 0.3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nMOS, 0.7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1 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895480" y="3657600"/>
          <a:ext cx="5486400" cy="224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657600"/>
                    <a:ext cx="5486400" cy="22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9A80B-4B80-44B1-8CB5-15BC110D93B8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rosstal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pacitor does not like to change its voltage instantaneous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ire has high capacitance to its neighb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neighbor switches from 1-&gt; 0 or 0-&gt;1, the wire tends to switch 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capaciti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up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osstal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talk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on nonswitch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delay on switch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7373D-FF75-4BB9-8ADC-FBA4065FB013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rosstalk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layers above and below on average are qu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terminal of capacitor can be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as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d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 behavior of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ller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477120" y="3276720"/>
          <a:ext cx="18288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3276720"/>
                    <a:ext cx="18288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447920" y="4343400"/>
          <a:ext cx="5790960" cy="1581120"/>
        </p:xfrm>
        <a:graphic>
          <a:graphicData uri="http://schemas.openxmlformats.org/drawingml/2006/table">
            <a:tbl>
              <a:tblPr/>
              <a:tblGrid>
                <a:gridCol w="2708280"/>
                <a:gridCol w="752400"/>
                <a:gridCol w="1581120"/>
                <a:gridCol w="74916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ff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with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opposite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99D67-2D59-4D73-85A3-C716CFE4BB96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rosstalk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layers above and below on average are qu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terminal of capacitor can be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as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d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 behavior of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ller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477120" y="3276720"/>
          <a:ext cx="18288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3276720"/>
                    <a:ext cx="18288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447920" y="4343400"/>
          <a:ext cx="5790960" cy="1581120"/>
        </p:xfrm>
        <a:graphic>
          <a:graphicData uri="http://schemas.openxmlformats.org/drawingml/2006/table">
            <a:tbl>
              <a:tblPr/>
              <a:tblGrid>
                <a:gridCol w="2708280"/>
                <a:gridCol w="752400"/>
                <a:gridCol w="1581120"/>
                <a:gridCol w="74916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ff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n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d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with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opposite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V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n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 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d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288C3-A20F-4116-861A-08D48A4EE5A2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rosstalk Noi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talk causes noise on nonswitch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victim is floa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as capacitive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438280" y="4114800"/>
          <a:ext cx="3962520" cy="16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114800"/>
                    <a:ext cx="3962520" cy="16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608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600200" y="2895480"/>
          <a:ext cx="4343400" cy="10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895480"/>
                    <a:ext cx="434340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733B3-E195-462F-8F75-E2131A41870D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riven Victi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victim is driven by a gate that fights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depends on relative res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ctim driver is in linear region, agg. in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izes are same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ggress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-4 x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ic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480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85800" y="3505320"/>
          <a:ext cx="4191120" cy="8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05320"/>
                    <a:ext cx="419112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34401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85800" y="4724280"/>
          <a:ext cx="4114800" cy="97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724280"/>
                    <a:ext cx="411480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029200" y="3733920"/>
          <a:ext cx="4038480" cy="148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29200" y="3733920"/>
                    <a:ext cx="4038480" cy="14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E9258-2BB9-45C1-9FEB-4EC84566EE3E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upling Wavefor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143000" y="1981080"/>
          <a:ext cx="5562720" cy="408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81080"/>
                    <a:ext cx="556272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d coupling for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d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ic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620CF-E218-4E34-9E57-123E27AC3B88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 Implic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 wh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we have noi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noise is less than the noise margin, nothing happ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CMOS logic will eventually settle to correct output even if disturbed by large noise spi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glitches cause extra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ause extra power from false 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logic never recovers from gl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ies and other sensitive circuits also can produce the wrong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DF73F-F743-4A1F-A96E-EA476BAD77BF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Engineer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achieve delay, area, power goals with acceptable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s of freed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C0D33-3297-4281-9B7C-8AF3CBEDB454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Engineer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achieve delay, area, power goals with acceptable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s of freed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743200" y="2590920"/>
          <a:ext cx="616896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90920"/>
                    <a:ext cx="616896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DADC9-2185-4DF2-8B3D-11050A1A67A5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are mostly made of wire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tick diagram, wires set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re little things under the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layers of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are as important a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ng layers run orthogo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FE6BB-86AC-421D-9320-F80F8102800D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Engineer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achieve delay, area, power goals with acceptable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s of freed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743200" y="2590920"/>
          <a:ext cx="616896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90920"/>
                    <a:ext cx="616896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080CA-37BD-492C-9A86-93782013E769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Engineer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achieve delay, area, power goals with acceptable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s of freed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e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743200" y="2590920"/>
          <a:ext cx="616896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90920"/>
                    <a:ext cx="616896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600200" y="5029200"/>
          <a:ext cx="5172120" cy="92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5029200"/>
                    <a:ext cx="517212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625FC-B0D7-4CED-AD4B-8A729B547494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and C are proportional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 delay is proportional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cceptably great for lo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C74C7-F959-47FB-B34C-E6757070F9B9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and C are proportional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 delay is proportional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cceptably great for lo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long wires into N shorter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each one with an inverter or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981080" y="3657600"/>
          <a:ext cx="4572000" cy="24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657600"/>
                    <a:ext cx="4572000" cy="24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E3363-076C-4FFB-A9C6-0DE4B9E03AA5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peater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repeaters should we 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large should each one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leng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apaitance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sistance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er width W (nMOS = W, pMOS = 2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 C’*W, Resistance R/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B7CCB-BC7F-4C64-9C13-55F1E544DF17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peater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repeaters should we 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large should each one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leng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apacitance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sistance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er width W (nMOS = W, pMOS = 2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 C’*W, Resistance R/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676520" y="4648320"/>
          <a:ext cx="495288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648320"/>
                    <a:ext cx="495288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FB167-4119-43A4-A884-DC5BE1B75162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peater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equation for Elmor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with respect to W and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equal to 0, 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608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95280" y="2971800"/>
          <a:ext cx="205740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971800"/>
                    <a:ext cx="20574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376380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219320" y="4191120"/>
          <a:ext cx="4008240" cy="100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191120"/>
                    <a:ext cx="40082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41832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295280" y="5181480"/>
          <a:ext cx="1455840" cy="89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5181480"/>
                    <a:ext cx="145584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5638680" y="41911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60-80 ps/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0 nm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EBAC5-62D1-465B-8889-4E08BD7928EF}" type="slidenum">
              <a:t>36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Geomet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tch = w +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 ratio: AR = t/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 processes had AR &lt;&l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 processes have 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 in many skinny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76720" y="3048120"/>
          <a:ext cx="5105160" cy="28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048120"/>
                    <a:ext cx="5105160" cy="28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06489-5D88-4CB7-953D-AB812CCBC399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er Stac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I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 has 3 metal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 processes use 6-10+ metal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180 n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1: thin, narrow (&lt; 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density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2-M4: thi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onger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5-M6: thick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ND, c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0" y="2438280"/>
          <a:ext cx="3962520" cy="37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438280"/>
                    <a:ext cx="3962520" cy="37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5FD11-2698-4C2B-82C2-70F62018F332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is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782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495680" y="3124080"/>
          <a:ext cx="4122720" cy="28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124080"/>
                    <a:ext cx="4122720" cy="28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143000" y="2286000"/>
          <a:ext cx="623880" cy="35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286000"/>
                    <a:ext cx="62388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06B90-F47D-4D3A-B617-26CB08F27882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is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782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495680" y="3124080"/>
          <a:ext cx="4122720" cy="28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124080"/>
                    <a:ext cx="4122720" cy="28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143000" y="1981080"/>
          <a:ext cx="136836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981080"/>
                    <a:ext cx="136836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E35B3-8FB3-41FC-A7C6-42300F93F4CA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is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eet res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dimensionless unit(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number of squ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* (# of squa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782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495680" y="3124080"/>
          <a:ext cx="4122720" cy="28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124080"/>
                    <a:ext cx="4122720" cy="28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1143000" y="1981080"/>
          <a:ext cx="243828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981080"/>
                    <a:ext cx="243828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76881-02F2-4D38-8EF8-8D5AE6DE3EBB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oice of Meta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180 nm generation, most wires were alumi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 processes often use c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 atoms diffuse into silicon and damage F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surrounded by a diffusion 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295280" y="3352680"/>
          <a:ext cx="5334120" cy="2585880"/>
        </p:xfrm>
        <a:graphic>
          <a:graphicData uri="http://schemas.openxmlformats.org/drawingml/2006/table">
            <a:tbl>
              <a:tblPr/>
              <a:tblGrid>
                <a:gridCol w="2192040"/>
                <a:gridCol w="3142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lk resistivity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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c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ver (A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per (C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ld (A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minum (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ngsten (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ybdenum (M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A69BB-07E6-4EF7-BF82-3E6D3BDB9986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07-01-15T06:51:40Z</dcterms:modified>
  <cp:revision>884</cp:revision>
  <dc:subject/>
  <dc:title>PowerPoint Presentation</dc:title>
</cp:coreProperties>
</file>