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29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28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9151938" cy="6865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0EEB1B-F04F-4C6A-B5F3-5E4212A25D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846379-80CF-42A2-BEC3-A0596722BE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08BB17-D0C5-492A-BEF8-ABA3EC6575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1B6D55-0DB3-44A1-B2E5-BAF402300D5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E91BAF-B78A-4862-B1CC-8F64D7CD508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CA2538-75EE-44D0-8F6B-267824E950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4545A-D9B3-4F0F-A68C-516D15D222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37CD37-846D-4421-9C06-52206BE57F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576EF7-48FD-40F0-93BB-34BD7DDB04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EDFD54-097B-4D4E-888D-DEDB9F7908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C35001-27AC-4759-A7F0-48205C7A09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144334-8E74-4850-B4A0-6715E103FE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Slide </a:t>
            </a:r>
            <a:fld id="{43A7DFC8-4965-4B90-928A-CB971082219A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095880"/>
            <a:ext cx="7772400" cy="15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85800" y="1295280"/>
            <a:ext cx="7772400" cy="152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3733920" y="624852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9.wmf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roduction to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MOS VLSI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</a:t>
            </a:r>
            <a:br>
              <a:rPr sz="3600"/>
            </a:br>
            <a:br>
              <a:rPr sz="2800"/>
            </a:br>
            <a:r>
              <a:rPr b="0" lang="en-US" sz="4000" spc="-1" strike="noStrike">
                <a:solidFill>
                  <a:srgbClr val="0000ff"/>
                </a:solidFill>
                <a:latin typeface="Arial Black"/>
              </a:rPr>
              <a:t>Lecture 14: </a:t>
            </a:r>
            <a:br>
              <a:rPr sz="4000"/>
            </a:br>
            <a:r>
              <a:rPr b="0" lang="en-US" sz="4000" spc="-1" strike="noStrike">
                <a:solidFill>
                  <a:srgbClr val="0000ff"/>
                </a:solidFill>
                <a:latin typeface="Arial Black"/>
              </a:rPr>
              <a:t>Wir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29528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ar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rvey Mudd Colle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ring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505320" y="4648320"/>
            <a:ext cx="2133360" cy="1284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ECFBED-468B-4316-82FF-98D323A84BB5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heet Resistanc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ical sheet resistances in 180 nm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219320" y="1981080"/>
          <a:ext cx="6019560" cy="4046760"/>
        </p:xfrm>
        <a:graphic>
          <a:graphicData uri="http://schemas.openxmlformats.org/drawingml/2006/table">
            <a:tbl>
              <a:tblPr/>
              <a:tblGrid>
                <a:gridCol w="2819160"/>
                <a:gridCol w="3200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y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et Resistance 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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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fusion (silicide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-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fusion (no silicid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-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lysilicon (silicide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-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lysilicon (no silicid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-4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al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al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al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al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al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al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1A0CD4-93FD-4175-B10D-7B3B4B791640}" type="slidenum">
              <a:t>10</a:t>
            </a:fld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ontacts Resistanc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cts and vias also have 2-2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many contacts for lower 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small contacts for current crowding around periph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447920" y="3733920"/>
          <a:ext cx="6019560" cy="212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3733920"/>
                    <a:ext cx="6019560" cy="212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BEDB6F-2935-43E8-A47F-6B02E86868A8}" type="slidenum">
              <a:t>11</a:t>
            </a:fld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Wire Capacitanc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e has capacitance per unit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neighb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layers above and be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ot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o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b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2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d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057400" y="3124080"/>
          <a:ext cx="4800600" cy="291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3124080"/>
                    <a:ext cx="4800600" cy="291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CCBCB4-8ECB-4B1B-B83D-603EA52DD6A4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apacitance Trend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llel plate equation:  C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/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es are not parallel plates, but obey tre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ing area (W, t) increases capaci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ing distance (s, h) decreases capaci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electric cons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k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8.85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1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/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 = 3.9 for Si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es are starting to use low-k dielectr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3 (or less) as dielectrics use air poc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0EA032-F92B-4BFE-A159-E7309A2DB9F4}" type="slidenum">
              <a:t>13</a:t>
            </a:fld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2 Capacitance Data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ical wires have ~ 0.2 fF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e to 2 fF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for gate capaci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2438280" y="2362320"/>
          <a:ext cx="4070520" cy="369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2362320"/>
                    <a:ext cx="4070520" cy="369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8CD7AF-781D-4CAC-AA0C-B8391F585131}" type="slidenum">
              <a:t>14</a:t>
            </a:fld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iffusion &amp; Polysilic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usion capacitance is very high (about 2 fF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able to gate capaci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usion also has high res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oid using diffusio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unn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wire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ysilicon has lower C but high 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or transisto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casionally for very short wires between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4712F0-E423-4343-88EF-FA60CD52EFFD}" type="slidenum">
              <a:t>15</a:t>
            </a:fld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umped Element Model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es are a distributed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ximate with lumped element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-segmen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model is accurate to 3% in sim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-model needs 100 segments for same accurac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single segmen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model for Elmore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1981080" y="2362320"/>
          <a:ext cx="4267440" cy="25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2362320"/>
                    <a:ext cx="4267440" cy="25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322801-036A-4898-B944-554402C195B8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l2 wire in 180 nm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m l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3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w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ruct a 3-segmen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Wingdings"/>
                <a:ea typeface="Wingdings"/>
              </a:rPr>
              <a:t>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ermicr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CED936-08BC-46BC-A0DF-24D00705E2DF}" type="slidenum">
              <a:t>17</a:t>
            </a:fld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l2 wire in 180 nm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m l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3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w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ruct a 3-segmen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Wingdings"/>
                <a:ea typeface="Wingdings"/>
              </a:rPr>
              <a:t>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.05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 R = 78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ermicr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.2 fF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 C = 1 p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990720" y="4343400"/>
          <a:ext cx="7162560" cy="155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4343400"/>
                    <a:ext cx="7162560" cy="15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EE35ED-6573-4E29-BE76-6002E28E8ACF}" type="slidenum">
              <a:t>18</a:t>
            </a:fld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Wire RC Dela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 the delay of a 10x inverter driving a 2x inverter at the end of the 5mm wire from the previous exam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2.5 k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fo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 inverter: 0.36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nMOS, 0.7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p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0735F5-DCEA-41FB-AAF9-E2ED21F66EE7}" type="slidenum">
              <a:t>19</a:t>
            </a:fld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e Res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e Capaci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e RC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tal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e Engine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85A939-9FDF-4305-A5B5-F2FA91112D6B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Wire RC Dela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 the delay of a 10x inverter driving a 2x inverter at the end of the 5mm wire from the previous exam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2.5 k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fo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 inverter: 0.36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nMOS, 0.7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p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.1 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895480" y="3657600"/>
          <a:ext cx="5486400" cy="224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3657600"/>
                    <a:ext cx="5486400" cy="224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403E45-CF01-4FE9-BEB0-4B3A8FE77ECA}" type="slidenum">
              <a:t>20</a:t>
            </a:fld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rosstalk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apacitor does not like to change its voltage instantaneous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wire has high capacitance to its neighb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the neighbor switches from 1-&gt; 0 or 0-&gt;1, the wire tends to switch to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ed capacitiv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upl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rosstal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talk eff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ise on nonswitching w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d delay on switching w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0C9DF3-5119-4BCD-B727-9131A6D590C3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rosstalk Dela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e layers above and below on average are qui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terminal of capacitor can be igno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 as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o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b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fective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d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pends on behavior of neighb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iller ef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6477120" y="3276720"/>
          <a:ext cx="1828800" cy="91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77120" y="3276720"/>
                    <a:ext cx="182880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447920" y="4343400"/>
          <a:ext cx="5790960" cy="1581120"/>
        </p:xfrm>
        <a:graphic>
          <a:graphicData uri="http://schemas.openxmlformats.org/drawingml/2006/table">
            <a:tbl>
              <a:tblPr/>
              <a:tblGrid>
                <a:gridCol w="2708280"/>
                <a:gridCol w="752400"/>
                <a:gridCol w="1581120"/>
                <a:gridCol w="749160"/>
              </a:tblGrid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1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eff(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C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ta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witching with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witching opposite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27952A-8E66-4CC6-A8CF-C0119CE55E89}" type="slidenum">
              <a:t>22</a:t>
            </a:fld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rosstalk Dela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e layers above and below on average are qui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terminal of capacitor can be igno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 as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o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b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fective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d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pends on behavior of neighb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iller ef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6477120" y="3276720"/>
          <a:ext cx="1828800" cy="91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77120" y="3276720"/>
                    <a:ext cx="182880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1447920" y="4343400"/>
          <a:ext cx="5790960" cy="1581120"/>
        </p:xfrm>
        <a:graphic>
          <a:graphicData uri="http://schemas.openxmlformats.org/drawingml/2006/table">
            <a:tbl>
              <a:tblPr/>
              <a:tblGrid>
                <a:gridCol w="2708280"/>
                <a:gridCol w="752400"/>
                <a:gridCol w="1581120"/>
                <a:gridCol w="749160"/>
              </a:tblGrid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1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eff(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C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ta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D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gnd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 C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ad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witching with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g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witching opposite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V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D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gnd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 2 C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ad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9D089-3983-491C-B393-6C97260DB93E}" type="slidenum">
              <a:t>23</a:t>
            </a:fld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rosstalk Nois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talk causes noise on nonswitching w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victim is floa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 as capacitive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2438280" y="4114800"/>
          <a:ext cx="3962520" cy="162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4114800"/>
                    <a:ext cx="3962520" cy="16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360828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600200" y="2895480"/>
          <a:ext cx="4343400" cy="103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00200" y="2895480"/>
                    <a:ext cx="4343400" cy="10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5C7DF5-C5CB-4AD4-8C65-7341FEEB09C3}" type="slidenum">
              <a:t>24</a:t>
            </a:fld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riven Victim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ually victim is driven by a gate that fights no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ise depends on relative resist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ctim driver is in linear region, agg. in sat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sizes are same,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ggress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2-4 x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vict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44808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685800" y="3505320"/>
          <a:ext cx="4191120" cy="85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505320"/>
                    <a:ext cx="4191120" cy="8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"/>
          <p:cNvSpPr/>
          <p:nvPr/>
        </p:nvSpPr>
        <p:spPr>
          <a:xfrm>
            <a:off x="344016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685800" y="4724280"/>
          <a:ext cx="4114800" cy="970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4724280"/>
                    <a:ext cx="4114800" cy="9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5029200" y="3733920"/>
          <a:ext cx="4038480" cy="148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29200" y="3733920"/>
                    <a:ext cx="4038480" cy="148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11412F-1FC8-4858-A415-3403C9BE4300}" type="slidenum">
              <a:t>25</a:t>
            </a:fld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oupling Waveform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143000" y="1981080"/>
          <a:ext cx="5562720" cy="408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981080"/>
                    <a:ext cx="5562720" cy="408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ulated coupling for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d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vict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66EF2D-BFAC-441F-9077-88F1D53B1CE5}" type="slidenum">
              <a:t>26</a:t>
            </a:fld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oise Implication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o wh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f we have noi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noise is less than the noise margin, nothing happ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c CMOS logic will eventually settle to correct output even if disturbed by large noise spik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glitches cause extra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cause extra power from false trans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 logic never recovers from gli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ies and other sensitive circuits also can produce the wrong ans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9D7F5E-1BE7-48E8-96ED-BEA15FB3A8B3}" type="slidenum">
              <a:t>27</a:t>
            </a:fld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Wire Engineer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: achieve delay, area, power goals with acceptable no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rees of freedo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118B4E-EE63-4733-B0CA-44043400EC55}" type="slidenum">
              <a:t>28</a:t>
            </a:fld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Wire Engineer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: achieve delay, area, power goals with acceptable no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rees of freedo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dt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a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2743200" y="2590920"/>
          <a:ext cx="6168960" cy="229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2590920"/>
                    <a:ext cx="6168960" cy="22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1AAE5C-6E7F-42C8-A574-0436B3E24038}" type="slidenum">
              <a:t>29</a:t>
            </a:fld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ps are mostly made of wires call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terconn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stick diagram, wires set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stors are little things under the w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layers of w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es are as important as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ng layers run orthogon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6B28AA-C751-4701-8740-7D6E5A04B864}" type="slidenum">
              <a:t>3</a:t>
            </a:fld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Wire Engineer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: achieve delay, area, power goals with acceptable no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rees of freedo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dt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a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2743200" y="2590920"/>
          <a:ext cx="6168960" cy="229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2590920"/>
                    <a:ext cx="6168960" cy="22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48A794-35D4-4F87-BF62-6A6620079C4F}" type="slidenum">
              <a:t>30</a:t>
            </a:fld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Wire Engineer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: achieve delay, area, power goals with acceptable no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rees of freedo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dt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a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iel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2743200" y="2590920"/>
          <a:ext cx="6168960" cy="229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2590920"/>
                    <a:ext cx="6168960" cy="22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7" name=""/>
          <p:cNvGraphicFramePr/>
          <p:nvPr/>
        </p:nvGraphicFramePr>
        <p:xfrm>
          <a:off x="1600200" y="5029200"/>
          <a:ext cx="5172120" cy="923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00200" y="5029200"/>
                    <a:ext cx="5172120" cy="92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5BA822-989F-44A6-943D-98AB899F0C5E}" type="slidenum">
              <a:t>31</a:t>
            </a:fld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and C are proportional t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C delay is proportional t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acceptably great for long w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9A147B-8C17-40C9-9C3D-C750388A78CD}" type="slidenum">
              <a:t>32</a:t>
            </a:fld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and C are proportional t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C delay is proportional t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acceptably great for long w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eak long wires into N shorter 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ive each one with an inverter or buf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1981080" y="3657600"/>
          <a:ext cx="4572000" cy="247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3657600"/>
                    <a:ext cx="4572000" cy="247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AAF3BF-5FB3-4A0C-9AAA-0F52B3406CB8}" type="slidenum">
              <a:t>33</a:t>
            </a:fld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epeater Desig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any repeaters should we u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large should each one b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ivalent Circ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e length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/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e Capaitance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/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Resistance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rter width W (nMOS = W, pMOS = 2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 Capacitance C’*W, Resistance R/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5D8510-7063-45FF-ACFF-D5A787325C78}" type="slidenum">
              <a:t>34</a:t>
            </a:fld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epeater Desig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any repeaters should we u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large should each one b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ivalent Circ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e length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e Capacitance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Resistance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rter width W (nMOS = W, pMOS = 2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 Capacitance C’*W, Resistance R/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1676520" y="4648320"/>
          <a:ext cx="4952880" cy="139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4648320"/>
                    <a:ext cx="4952880" cy="13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74DCA7-B691-4790-8634-D215A1D66348}" type="slidenum">
              <a:t>35</a:t>
            </a:fld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epeater Resul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equation for Elmore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iate with respect to W and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equal to 0, sol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16088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1295280" y="2971800"/>
          <a:ext cx="2057400" cy="120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971800"/>
                    <a:ext cx="2057400" cy="12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"/>
          <p:cNvSpPr/>
          <p:nvPr/>
        </p:nvSpPr>
        <p:spPr>
          <a:xfrm>
            <a:off x="3763800" y="322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1219320" y="4191120"/>
          <a:ext cx="4008240" cy="1000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9320" y="4191120"/>
                    <a:ext cx="400824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418320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295280" y="5181480"/>
          <a:ext cx="1455840" cy="897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95280" y="5181480"/>
                    <a:ext cx="1455840" cy="89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2" name=""/>
          <p:cNvSpPr/>
          <p:nvPr/>
        </p:nvSpPr>
        <p:spPr>
          <a:xfrm>
            <a:off x="5638680" y="419112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60-80 ps/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180 nm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D69D8-0D78-493A-9325-DDA0374D6070}" type="slidenum">
              <a:t>36</a:t>
            </a:fld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Wire Geometr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tch = w +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 ratio: AR = t/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ld processes had AR &lt;&lt;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rn processes have A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ck in many skinny w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3276720" y="3048120"/>
          <a:ext cx="5105160" cy="286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3048120"/>
                    <a:ext cx="5105160" cy="286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394DBD-7CF3-497A-A2BB-330C7E9CD4A7}" type="slidenum">
              <a:t>4</a:t>
            </a:fld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ayer Stack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I 0.6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process has 3 metal lay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rn processes use 6-10+ metal lay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180 nm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1: thin, narrow (&lt; 3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density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2-M4: thic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longer w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5-M6: thick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GND, cl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4572000" y="2438280"/>
          <a:ext cx="3962520" cy="370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2438280"/>
                    <a:ext cx="3962520" cy="370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1EE7DA-737C-41E5-8FFC-7C1273EA93F0}" type="slidenum">
              <a:t>5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Wire Resistanc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sistiv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27824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26708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4495680" y="3124080"/>
          <a:ext cx="4122720" cy="283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3124080"/>
                    <a:ext cx="4122720" cy="28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1143000" y="2286000"/>
          <a:ext cx="623880" cy="358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2286000"/>
                    <a:ext cx="62388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0E9C42-4E19-4C18-91F5-C6D8B3D37798}" type="slidenum">
              <a:t>6</a:t>
            </a:fld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Wire Resistanc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sistiv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7824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26708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4495680" y="3124080"/>
          <a:ext cx="4122720" cy="283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3124080"/>
                    <a:ext cx="4122720" cy="28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1143000" y="1981080"/>
          <a:ext cx="1368360" cy="925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1981080"/>
                    <a:ext cx="1368360" cy="9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833053-43AD-49F5-8315-BC0F5C71D2B3}" type="slidenum">
              <a:t>7</a:t>
            </a:fld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Wire Resistanc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sistiv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Wingdings"/>
                <a:ea typeface="Wingdings"/>
              </a:rPr>
              <a:t>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heet resista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a dimensionless unit(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 number of squa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Wingdings"/>
                <a:ea typeface="Wingdings"/>
              </a:rPr>
              <a:t>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* (# of squar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27824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26708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4495680" y="3124080"/>
          <a:ext cx="4122720" cy="283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3124080"/>
                    <a:ext cx="4122720" cy="28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" name=""/>
          <p:cNvGraphicFramePr/>
          <p:nvPr/>
        </p:nvGraphicFramePr>
        <p:xfrm>
          <a:off x="1143000" y="1981080"/>
          <a:ext cx="2438280" cy="925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1981080"/>
                    <a:ext cx="2438280" cy="9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E0F21C-A594-4E44-837E-CA1F1E2BF2A7}" type="slidenum">
              <a:t>8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hoice of Metal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til 180 nm generation, most wires were alumin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rn processes often use cop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 atoms diffuse into silicon and damage F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be surrounded by a diffusion barr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1295280" y="3352680"/>
          <a:ext cx="5334120" cy="2585880"/>
        </p:xfrm>
        <a:graphic>
          <a:graphicData uri="http://schemas.openxmlformats.org/drawingml/2006/table">
            <a:tbl>
              <a:tblPr/>
              <a:tblGrid>
                <a:gridCol w="2192040"/>
                <a:gridCol w="31420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lk resistivity 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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cm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lver (A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pper (Cu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ld (Au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uminum (A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ngsten (W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lybdenum (Mo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715C42-09BE-4E19-8C5A-6D8542D9D8A6}" type="slidenum">
              <a:t>9</a:t>
            </a:fld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03:13:39Z</dcterms:created>
  <dc:creator>David Harris</dc:creator>
  <dc:description/>
  <dc:language>en-US</dc:language>
  <cp:lastModifiedBy>harris</cp:lastModifiedBy>
  <dcterms:modified xsi:type="dcterms:W3CDTF">2007-01-15T06:51:40Z</dcterms:modified>
  <cp:revision>884</cp:revision>
  <dc:subject/>
  <dc:title>PowerPoint Presentation</dc:title>
</cp:coreProperties>
</file>