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7.png" ContentType="image/png"/>
  <Override PartName="/ppt/media/image44.wmf" ContentType="image/x-wmf"/>
  <Override PartName="/ppt/media/image45.wmf" ContentType="image/x-wmf"/>
  <Override PartName="/ppt/media/image10.wmf" ContentType="image/x-wmf"/>
  <Override PartName="/ppt/media/image2.png" ContentType="image/png"/>
  <Override PartName="/ppt/media/image46.wmf" ContentType="image/x-wmf"/>
  <Override PartName="/ppt/media/image11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92487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5AE32-F998-48BD-BBBC-719E52E524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36874-218A-4F46-AC06-1A318B190C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4664C-2670-44B0-8007-411724E97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89E0F-A8F9-4D6E-BF54-7649A77E9F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5192A-E1F8-4AAC-843B-8CE56F6C9B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52B71-3876-4EEA-BA55-5BFF4E1C79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C9EE1-8037-421E-ACAC-4617A5815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B66B9-AD0D-4711-AA3B-54175D805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46A89-3C4B-4DD3-843A-E0748D27FC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A32E0-A47E-4710-B24B-BFC50E6CC1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88DA4-819A-431B-B910-DC6774B9BA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9D37F-7BF4-4554-BBE6-4B3330E466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lide </a:t>
            </a:r>
            <a:fld id="{6BDB39C9-42B0-429A-9522-74A2A2418F4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MOS VL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</a:t>
            </a:r>
            <a:br>
              <a:rPr sz="3600"/>
            </a:br>
            <a:br>
              <a:rPr sz="28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ecture 13: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Sequential Circui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y Mud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213336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2EB9F-F074-4A70-A370-E716643DB556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324480" y="1752480"/>
          <a:ext cx="169416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1752480"/>
                    <a:ext cx="16941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79FC6-6D38-44C0-9BA2-93E13B74F838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inverted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324480" y="1752480"/>
          <a:ext cx="169416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1752480"/>
                    <a:ext cx="16941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BE79D-9998-4A15-A0B1-8BB6C0BE290E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ing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s e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095880" y="1600200"/>
          <a:ext cx="227340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600200"/>
                    <a:ext cx="227340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CB41D-0A7D-43ED-8560-71F765A6C3F6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ing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ackd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s e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noise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diffusio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e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095880" y="1600200"/>
          <a:ext cx="227340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600200"/>
                    <a:ext cx="227340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A270C-6314-4EC8-85EF-555DD01D10A9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stat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638680" y="1828800"/>
          <a:ext cx="274320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828800"/>
                    <a:ext cx="274320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0239E-28A8-4D8D-A1AF-2E2D0AE93B9F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stat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driving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latches are now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638680" y="1828800"/>
          <a:ext cx="274320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828800"/>
                    <a:ext cx="274320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2D361-948B-461C-8EEA-78AA5A31010D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ed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34120" y="1828800"/>
          <a:ext cx="3047760" cy="21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828800"/>
                    <a:ext cx="304776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78519-22F3-4694-B5E3-3B6334EDA2DC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ed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s diffusio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inve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334120" y="1828800"/>
          <a:ext cx="3047760" cy="21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828800"/>
                    <a:ext cx="304776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693C1-A35E-40E4-871C-847BF447A5A3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e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952880" y="1600200"/>
          <a:ext cx="3200400" cy="23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600200"/>
                    <a:ext cx="320040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C4BAD-EABC-459E-8DC0-60DD98C0434E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e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ackd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used in 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Very robust (most import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her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her slow (1.5 – 2 FO4 del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lock 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952880" y="1600200"/>
          <a:ext cx="3200400" cy="23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600200"/>
                    <a:ext cx="320040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2E00E-5BE4-42E1-9584-0C1A2241A275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ing Elemen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 and Min-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Phase C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749B9-06E3-4001-B992-9DAA6909B38B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5410080" y="1676520"/>
          <a:ext cx="2667240" cy="24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1676520"/>
                    <a:ext cx="266724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76783-D409-4C36-8AD8-DF8CB40EAB9B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buffered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410080" y="1676520"/>
          <a:ext cx="2667240" cy="24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1676520"/>
                    <a:ext cx="266724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481D4-508A-4392-BBAE-2BDE870ED0D4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lip-Flop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 is built as pair of back-to-back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600200" y="2057400"/>
          <a:ext cx="480060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057400"/>
                    <a:ext cx="480060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78E5D-DA30-497A-A143-D27444FAE9EF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nab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: ignore clock when en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x: increase latch D-Q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Gating: increase en setup time,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133720" y="2971800"/>
          <a:ext cx="3962160" cy="31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971800"/>
                    <a:ext cx="3962160" cy="31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CCF47-3631-47FF-88FE-1E618DB9557E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output low when reset asse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ous vs. asynchron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752480" y="2362320"/>
          <a:ext cx="524844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362320"/>
                    <a:ext cx="524844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D4BA1-5BDA-4E69-9B73-195DEAED51E9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t / Re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forces output high when 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 with asynchronous set and re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62120" y="2801880"/>
          <a:ext cx="693396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01880"/>
                    <a:ext cx="693396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AE23D-2FB0-4C22-9326-B9E518E6E929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Metho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114800" y="1447920"/>
          <a:ext cx="442764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447920"/>
                    <a:ext cx="442764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B14A7-427E-40DE-B233-1D7DBC94316D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iming Diagra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267080" y="2286000"/>
          <a:ext cx="4419720" cy="36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286000"/>
                    <a:ext cx="4419720" cy="36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85800" y="2743200"/>
          <a:ext cx="3657600" cy="3162240"/>
        </p:xfrm>
        <a:graphic>
          <a:graphicData uri="http://schemas.openxmlformats.org/drawingml/2006/table">
            <a:tbl>
              <a:tblPr/>
              <a:tblGrid>
                <a:gridCol w="700200"/>
                <a:gridCol w="295740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 Prop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 Cont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c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Clk-&gt;Q Prop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c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Clk-&gt;Q Cont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d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 D-&gt;Q Prop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d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 D-&gt;Q Cont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et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Setup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Hold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685800" y="18288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ion and Propagation Del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D834B-E6AA-41AC-A49B-F11E90A3956F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ax-Delay: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048120" y="1676520"/>
          <a:ext cx="5410080" cy="27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76520"/>
                    <a:ext cx="5410080" cy="27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397368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808200" y="1782720"/>
          <a:ext cx="2269800" cy="6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8200" y="1782720"/>
                    <a:ext cx="226980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DCEFE-B77E-4289-AB7E-C03C448993F0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ax-Delay: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048120" y="1676520"/>
          <a:ext cx="5410080" cy="27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76520"/>
                    <a:ext cx="5410080" cy="27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397368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86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38080" y="1752480"/>
          <a:ext cx="221004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752480"/>
                    <a:ext cx="22100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34245-6918-4CDD-9BAA-B02577FAFE51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binationa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depends on current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quentia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depends on current and previous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separating previous, current,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SM, pip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62120" y="4495680"/>
          <a:ext cx="769608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495680"/>
                    <a:ext cx="76960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9A9E0-629B-4847-A5EF-D2C30376923A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x Delay: 2-Phase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505320" y="1600200"/>
          <a:ext cx="4647960" cy="43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600200"/>
                    <a:ext cx="4647960" cy="43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669960" y="1852560"/>
          <a:ext cx="274968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9960" y="1852560"/>
                    <a:ext cx="27496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4E3E3-94C7-41B0-A792-7F34A3D4B022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x Delay: 2-Phase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505320" y="1600200"/>
          <a:ext cx="4647960" cy="43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600200"/>
                    <a:ext cx="4647960" cy="43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85800" y="1828800"/>
          <a:ext cx="271620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828800"/>
                    <a:ext cx="271620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825E0-6B16-4B06-B866-DA00B817CBE9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x Delay: Pulsed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86200" y="1752480"/>
          <a:ext cx="4648320" cy="334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752480"/>
                    <a:ext cx="4648320" cy="33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34862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05040" y="1782720"/>
          <a:ext cx="3211200" cy="67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5040" y="1782720"/>
                    <a:ext cx="321120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35C89-E263-4EE8-8E98-05EC35BB0756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x Delay: Pulsed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886200" y="1752480"/>
          <a:ext cx="4648320" cy="334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752480"/>
                    <a:ext cx="4648320" cy="33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34862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762120" y="1752480"/>
          <a:ext cx="349884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752480"/>
                    <a:ext cx="34988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27C42-9BF2-41D7-96A9-1CF32FCC5921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n-Delay: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60240" y="1990800"/>
          <a:ext cx="1617840" cy="3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" y="1990800"/>
                    <a:ext cx="16178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3657600" y="1600200"/>
          <a:ext cx="5029200" cy="341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600200"/>
                    <a:ext cx="502920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BE31E-EB92-4AFC-B066-8916A69A4D31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n-Delay: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762120" y="1981080"/>
          <a:ext cx="1412640" cy="3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14126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3657600" y="1600200"/>
          <a:ext cx="5029200" cy="341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600200"/>
                    <a:ext cx="502920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494EE-777F-4911-A262-ADEBB9C01F9E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n-Delay: 2-Phase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38080" y="1981080"/>
          <a:ext cx="3070440" cy="3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30704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4038480" y="1752480"/>
          <a:ext cx="4434120" cy="33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1752480"/>
                    <a:ext cx="4434120" cy="33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838080" y="2666880"/>
            <a:ext cx="32767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time reduced by nonoverl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dox: hold applies twice each cycle, vs. only once for flo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 flop is made of two latch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47F7F-1257-4AE3-B304-166909762872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n-Delay: 2-Phase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838080" y="1981080"/>
          <a:ext cx="2764080" cy="3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276408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4038480" y="1752480"/>
          <a:ext cx="4434120" cy="33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1752480"/>
                    <a:ext cx="4434120" cy="33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838080" y="2666880"/>
            <a:ext cx="32767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time reduced by nonoverl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dox: hold applies twice each cycle, vs. only once for flo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 flop is made of two latch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ED016-5179-404E-B834-2C8DF70E28F2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n-Delay: Pulsed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52400" y="1990800"/>
          <a:ext cx="1925640" cy="36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1990800"/>
                    <a:ext cx="19256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3733920" y="1676520"/>
          <a:ext cx="4732200" cy="33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676520"/>
                    <a:ext cx="473220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838080" y="2666880"/>
            <a:ext cx="327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time increased by pulse 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6E0CD-DBB7-4961-A990-E3B147550124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n-Delay: Pulsed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762120" y="1981080"/>
          <a:ext cx="1904760" cy="3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190476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3733920" y="1676520"/>
          <a:ext cx="4732200" cy="33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676520"/>
                    <a:ext cx="473220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838080" y="2666880"/>
            <a:ext cx="327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time increased by pulse 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F6556-71A5-4F92-8BBF-258126D067CF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kens moved through pipeline at constant speed, no sequencing elements would be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iber-optic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pulses (tokens) are sent down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pulse sent before first reaches end of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hardware to separate pul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per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ts min time between pul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ve pipel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st circuits, dispersion i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fast tokens so they don’t catch slow 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C1C55-0B1B-48EB-BCA5-55B32F2DE438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ime Borrow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flop-based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launches on one rising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setup before next rising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rrives late, system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rrives early, time is wa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ps have hard 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latch-bas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an pass through latch while trans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cycle of logic can borrow time into 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each loop completes in on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142EA-D1D9-49E7-881F-3352D871B36A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ime Borrowing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152360" y="1523880"/>
          <a:ext cx="68392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1523880"/>
                    <a:ext cx="68392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20FDA-F0AB-4D96-85FB-E9366A359750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ow Much Borrowing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809880" y="1676520"/>
          <a:ext cx="440856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676520"/>
                    <a:ext cx="440856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762120" y="2057400"/>
          <a:ext cx="282564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057400"/>
                    <a:ext cx="282564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685800" y="1600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762120" y="3733920"/>
          <a:ext cx="1698480" cy="3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3733920"/>
                    <a:ext cx="169848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762120" y="3124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957A5-10D9-4DDB-828C-86747E31DB84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Ske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assumed zero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s really have uncertainty in arriva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s maximum propag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minimum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s time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A31CD-D170-4288-A3CB-29D16DF1925A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ew: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562640" y="1523880"/>
          <a:ext cx="390204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62640" y="1523880"/>
                    <a:ext cx="390204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838080" y="1828800"/>
          <a:ext cx="2743200" cy="11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828800"/>
                    <a:ext cx="27432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76F8B-C1F7-4523-A21E-91C8A1A412F5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ew: Latch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724280" y="1676520"/>
          <a:ext cx="3716280" cy="14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76520"/>
                    <a:ext cx="3716280" cy="14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762120" y="2057400"/>
          <a:ext cx="3460680" cy="194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057400"/>
                    <a:ext cx="3460680" cy="19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685800" y="15238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762120" y="4343400"/>
          <a:ext cx="41148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343400"/>
                    <a:ext cx="41148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685800" y="3962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538D8-43AF-48E5-B253-CEE10D9400FB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wo-Phase Clock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etup times are violated, reduce clock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hold times are violated, chip fails at any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lass, working chips are most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ools to analyz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asy way to guarantee hold times is to use 2-phase latches with big nonoverlap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these clock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h1, ph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37F95-9278-498E-B665-F1CCCDC56935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afe Flip-Flo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 years used flip-flop with nonoverlapping c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– nonoverlap adds to setup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 hold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ndustry, use a better timing analy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ffers to slow signals if hold time is at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905120" y="3733920"/>
          <a:ext cx="480060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733920"/>
                    <a:ext cx="480060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42E8A-57C8-4CB3-AA9A-545D53BBFD32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easy to use, supported by all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Transparent Lat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skew tolerance and time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, some skew tol &amp; borrow, hold tim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762120" y="4162320"/>
            <a:ext cx="7619760" cy="18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787D8-ED3F-4EBA-AF6B-3EB233A59CE8}" type="slidenum">
              <a:t>48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Overhea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lip-flops to delay fast tokens so they move through exactly one stage each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vitably adds some delay to the slow 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circuit slower than just the log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sequenc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eople call this clock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t applies to asynchronous circuits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vitable side effect of maintaining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27698-B287-4028-8359-63046BDCF8DA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El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evel sen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transparent latch, D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ip-fl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dge trigg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master-slave flip-flop, D flip-flop, D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a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ge-tri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724280" y="3429000"/>
          <a:ext cx="3016440" cy="21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429000"/>
                    <a:ext cx="301644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DE8CD-35BC-4A83-BE85-AEE8F4AE3DC0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El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evel sens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transparent latch, D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ip-fl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dge trigg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master-slave flip-flop, D flip-flop, D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a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ge-tri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724280" y="3429000"/>
          <a:ext cx="3016440" cy="21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429000"/>
                    <a:ext cx="301644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5FE93-9C4F-46A3-B4F5-438E794BFD99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172200" y="1828800"/>
          <a:ext cx="2057400" cy="14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828800"/>
                    <a:ext cx="205740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1EBE6-CC50-4610-B58C-887EB1D77FDD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lock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d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noise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172200" y="1828800"/>
          <a:ext cx="2057400" cy="14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828800"/>
                    <a:ext cx="205740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5867280" y="3352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1970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3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7BCD7-409C-4004-BF2B-18442A60D55B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07-03-06T16:30:43Z</dcterms:modified>
  <cp:revision>1265</cp:revision>
  <dc:subject/>
  <dc:title>PowerPoint Presentation</dc:title>
</cp:coreProperties>
</file>