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7.png" ContentType="image/png"/>
  <Override PartName="/ppt/media/image44.wmf" ContentType="image/x-wmf"/>
  <Override PartName="/ppt/media/image45.wmf" ContentType="image/x-wmf"/>
  <Override PartName="/ppt/media/image10.wmf" ContentType="image/x-wmf"/>
  <Override PartName="/ppt/media/image2.png" ContentType="image/png"/>
  <Override PartName="/ppt/media/image46.wmf" ContentType="image/x-wmf"/>
  <Override PartName="/ppt/media/image11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C5D4F-981B-4BCB-9F3F-F5771F3F4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C7EE6-2ACC-4776-9873-E63016FF4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59F34-9347-4C6F-9669-D39CFAECE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64701-0F1F-4B39-8EDC-B5BF0D3A6F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5C559-70F1-44F4-8FB2-BB166C2D57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B623-9C72-4E04-AA43-3A90BD58C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331F7-34F1-453E-BD65-CDEE46FC6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B12C2-470B-405F-AF5E-6CDF3763E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12771-D92E-43BE-A342-C798714DE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1FA82-8CBF-4A87-9027-C755086D0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69CBF-2032-4D52-8CA8-8AAB2C17F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7101E-1C8E-473C-ACB7-A0199459B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7FE01DCA-F9B9-4033-A501-66816443549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13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Sequential Circu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BBE7E-7580-4A02-AEDE-877F953F92DF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324480" y="1752480"/>
          <a:ext cx="16941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752480"/>
                    <a:ext cx="1694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E73E7-36C6-43C9-AB51-3EE9CEED1856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inverted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324480" y="1752480"/>
          <a:ext cx="16941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752480"/>
                    <a:ext cx="1694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128ED-8218-4DC4-B21A-D73BDAA09886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095880" y="1600200"/>
          <a:ext cx="22734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00200"/>
                    <a:ext cx="22734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BEC92-0046-4E4B-9730-A55B3DC60747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nois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095880" y="1600200"/>
          <a:ext cx="22734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00200"/>
                    <a:ext cx="22734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5975F-3EB2-4535-A1BB-19CD70CFD9F7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638680" y="1828800"/>
          <a:ext cx="274320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828800"/>
                    <a:ext cx="27432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7DE3D-9C5C-4402-8D19-C1D2C64334B6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driving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latches are now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638680" y="1828800"/>
          <a:ext cx="274320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828800"/>
                    <a:ext cx="27432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1020E-3598-4CB0-849E-B562D9FC4CBF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4120" y="1828800"/>
          <a:ext cx="3047760" cy="21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828800"/>
                    <a:ext cx="304776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C140A-7A02-47CE-8C85-2823CF7419E7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34120" y="1828800"/>
          <a:ext cx="3047760" cy="21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828800"/>
                    <a:ext cx="304776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5439F-3255-4F30-B27F-8C5C61783CA3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952880" y="1600200"/>
          <a:ext cx="3200400" cy="23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32004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37F76-6408-4E1D-A2E7-5EDB0E8ABBA4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Very robust (most impor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slow (1.5 – 2 FO4 del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lock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952880" y="1600200"/>
          <a:ext cx="3200400" cy="23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32004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8960E-8C31-4E5E-B769-80377ABBBC9B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 Elem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and Min-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Phase C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26A60-5648-4303-9020-5C004102DD98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410080" y="1676520"/>
          <a:ext cx="266724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676520"/>
                    <a:ext cx="266724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BA1B9-2671-49B6-9D98-CE8E8A6331B1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buffer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410080" y="1676520"/>
          <a:ext cx="266724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676520"/>
                    <a:ext cx="266724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9D229-C6A0-43D4-B535-DEC774D0D9F9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lip-Flop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is built as pair of back-to-back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600200" y="2057400"/>
          <a:ext cx="480060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48006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4BD91-9062-477A-96BC-6555E03A111B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ab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: ignore clock when en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x: increase latch D-Q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Gating: increase en setup time,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133720" y="2971800"/>
          <a:ext cx="396216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396216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2862D-A8BD-426E-BF7C-D6A238706FCB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output low when reset ass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ous vs. asynchro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752480" y="2362320"/>
          <a:ext cx="524844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362320"/>
                    <a:ext cx="524844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CD96B-0110-448A-9EAF-ABEAC6D3C82D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t / Re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forces output high when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with asynchronous set and re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2120" y="2801880"/>
          <a:ext cx="693396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01880"/>
                    <a:ext cx="693396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F73C1-E508-4B6C-9E44-1B989C34125A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Metho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114800" y="1447920"/>
          <a:ext cx="44276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447920"/>
                    <a:ext cx="44276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654F7-C753-42B1-829B-97A972D628E3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ing Dia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267080" y="2286000"/>
          <a:ext cx="4419720" cy="36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286000"/>
                    <a:ext cx="441972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85800" y="2743200"/>
          <a:ext cx="3657600" cy="3162240"/>
        </p:xfrm>
        <a:graphic>
          <a:graphicData uri="http://schemas.openxmlformats.org/drawingml/2006/table">
            <a:tbl>
              <a:tblPr/>
              <a:tblGrid>
                <a:gridCol w="700200"/>
                <a:gridCol w="29574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Clk-&gt;Q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Clk-&gt;Q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d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 D-&gt;Q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 D-&gt;Q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et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Setup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Hold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85800" y="18288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and Propagation De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5F7DC-D13C-4F25-AF31-BAAEC7D13462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x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048120" y="1676520"/>
          <a:ext cx="5410080" cy="27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410080" cy="27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97368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808200" y="1782720"/>
          <a:ext cx="2269800" cy="6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8200" y="1782720"/>
                    <a:ext cx="226980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1FF1B-1F0D-4DED-8784-A44D723E0677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x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048120" y="1676520"/>
          <a:ext cx="5410080" cy="27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410080" cy="27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97368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38080" y="1752480"/>
          <a:ext cx="221004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752480"/>
                    <a:ext cx="22100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50380-5503-48E8-84A3-4B5E492FDCFF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pends on current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pends on current and previous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eparating previous, current,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SM,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4495680"/>
          <a:ext cx="769608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495680"/>
                    <a:ext cx="7696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BDD24-A103-4276-8121-84A822151747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505320" y="1600200"/>
          <a:ext cx="4647960" cy="43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600200"/>
                    <a:ext cx="464796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669960" y="1852560"/>
          <a:ext cx="274968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960" y="1852560"/>
                    <a:ext cx="27496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E0C1E-5DF1-46DB-93D4-940DD3EFF810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505320" y="1600200"/>
          <a:ext cx="4647960" cy="43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600200"/>
                    <a:ext cx="464796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85800" y="1828800"/>
          <a:ext cx="271620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828800"/>
                    <a:ext cx="271620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5B960-FBD1-461B-8556-86419E96A7CD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86200" y="1752480"/>
          <a:ext cx="4648320" cy="33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752480"/>
                    <a:ext cx="4648320" cy="33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486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05040" y="1782720"/>
          <a:ext cx="3211200" cy="67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5040" y="1782720"/>
                    <a:ext cx="32112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B2959-8487-4CB2-91AF-74F2B52E14D0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886200" y="1752480"/>
          <a:ext cx="4648320" cy="33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752480"/>
                    <a:ext cx="4648320" cy="33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486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762120" y="1752480"/>
          <a:ext cx="349884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752480"/>
                    <a:ext cx="3498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EDEE5-D5B4-49F6-A729-A29AA794F332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n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60240" y="1990800"/>
          <a:ext cx="161784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1990800"/>
                    <a:ext cx="16178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657600" y="1600200"/>
          <a:ext cx="5029200" cy="341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600200"/>
                    <a:ext cx="502920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6E48-5916-479F-8429-B9BC46E05B94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n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62120" y="1981080"/>
          <a:ext cx="141264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14126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657600" y="1600200"/>
          <a:ext cx="5029200" cy="341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600200"/>
                    <a:ext cx="502920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90AD1-E622-4BF8-BC7D-B43857254F9D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38080" y="1981080"/>
          <a:ext cx="307044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30704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4038480" y="1752480"/>
          <a:ext cx="4434120" cy="33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752480"/>
                    <a:ext cx="443412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838080" y="2666880"/>
            <a:ext cx="3276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reduced by non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: hold applies twice each cycle, vs. only once for flo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flop is made of two latch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0EED2-72DC-4799-B7BA-0D953EF32F35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838080" y="1981080"/>
          <a:ext cx="276408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276408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038480" y="1752480"/>
          <a:ext cx="4434120" cy="33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752480"/>
                    <a:ext cx="443412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838080" y="2666880"/>
            <a:ext cx="3276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reduced by non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: hold applies twice each cycle, vs. only once for flo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flop is made of two latch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7C223-C75A-4CFE-8BE7-D094F70A3BB2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52400" y="1990800"/>
          <a:ext cx="192564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1990800"/>
                    <a:ext cx="19256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733920" y="1676520"/>
          <a:ext cx="4732200" cy="33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676520"/>
                    <a:ext cx="47322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838080" y="2666880"/>
            <a:ext cx="32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increased by pulse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CEFF1-B8A0-4E87-A137-886580D5DE46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62120" y="1981080"/>
          <a:ext cx="190476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19047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3733920" y="1676520"/>
          <a:ext cx="4732200" cy="33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676520"/>
                    <a:ext cx="47322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838080" y="2666880"/>
            <a:ext cx="32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increased by pulse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2F26E-C4D8-4273-B71C-BC376D040151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kens moved through pipeline at constant speed, no sequencing elements would b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ber-optic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pulses (tokens) are sent down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pulse sent before first reaches end of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hardware to separate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per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s min time between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ve pipel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circuits, dispersion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fast tokens so they don’t catch slow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5C55D-CA9C-4262-95BE-BE4A2CE73121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e Borrow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flop-based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unches on one ris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tup before next ris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rrives late, system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rrives early, time is w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ps have hard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latch-bas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an pass through latch while 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ycle of logic can borrow time into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each loop completes in on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E3437-E136-40C0-B9AF-9FC899F6A33C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e Borrowing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152360" y="1523880"/>
          <a:ext cx="6839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1523880"/>
                    <a:ext cx="683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1281E-66D0-48FE-AE09-9F8C8163474C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ow Much Borrowing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809880" y="1676520"/>
          <a:ext cx="440856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676520"/>
                    <a:ext cx="440856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762120" y="2057400"/>
          <a:ext cx="282564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57400"/>
                    <a:ext cx="28256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685800" y="1600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62120" y="3733920"/>
          <a:ext cx="169848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733920"/>
                    <a:ext cx="16984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762120" y="3124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7CA28-8986-47FD-BB6A-080BC70F37FA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ssumed zero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s really have uncertainty in arriv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maximum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minimum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4AA7F-CB78-4F9F-9EF6-0C4E7B347C8C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562640" y="1523880"/>
          <a:ext cx="39020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2640" y="1523880"/>
                    <a:ext cx="39020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838080" y="1828800"/>
          <a:ext cx="274320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828800"/>
                    <a:ext cx="27432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EA8B3-4AC6-4C23-B9AD-62C18D1566E9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: Latch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724280" y="1676520"/>
          <a:ext cx="3716280" cy="14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76520"/>
                    <a:ext cx="371628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762120" y="2057400"/>
          <a:ext cx="3460680" cy="194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57400"/>
                    <a:ext cx="346068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85800" y="1523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62120" y="4343400"/>
          <a:ext cx="41148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343400"/>
                    <a:ext cx="41148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685800" y="3962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1276C-1DB1-4A2E-81B2-61134FF5042E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wo-Phase Clock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etup times are violated, reduce clock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old times are violated, chip fails at any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, working chips are most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ools to analyz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asy way to guarantee hold times is to use 2-phase latches with big nonoverlap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hese clock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1, ph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B09BB-01CA-4F6E-B724-FC135B6F26A6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afe Flip-Flo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years used flip-flop with nonoverlapping c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– nonoverlap adds to setu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 hold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ndustry, use a better timing 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ffers to slow signals if hold time is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905120" y="3733920"/>
          <a:ext cx="480060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480060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E1F98-B7A9-49F6-93A2-79BC067FDA16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asy to use, supported by all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Transparent La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skew tolerance and 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, some skew tol &amp; borrow, hold tim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762120" y="4162320"/>
            <a:ext cx="7619760" cy="18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A064E-7055-4667-BC0C-68481EC3D72C}" type="slidenum">
              <a:t>48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Overhe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lip-flops to delay fast tokens so they move through exactly one stage each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vitably adds some delay to the slow 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circuit slower than just the log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sequenc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call this clock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 applies to asynchronous circuits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vitable side effect of maintaining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4337A-9AE6-42D8-A977-5955921EC1DC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evel 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transparent latch, D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p-fl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dge trigg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master-slave flip-flop, D flip-flop, D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-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724280" y="3429000"/>
          <a:ext cx="301644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429000"/>
                    <a:ext cx="30164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67665-20BD-4561-91F2-F9EAD9489A99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evel 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transparent latch, D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p-fl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dge trigg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master-slave flip-flop, D flip-flop, D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-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724280" y="3429000"/>
          <a:ext cx="301644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429000"/>
                    <a:ext cx="30164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98109-154B-4AC5-B4B2-6D798A50CEE1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172200" y="1828800"/>
          <a:ext cx="20574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828800"/>
                    <a:ext cx="20574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1F5B6-3C77-4D26-95BE-BE1631854B8D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lock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nois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172200" y="1828800"/>
          <a:ext cx="20574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828800"/>
                    <a:ext cx="20574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5867280" y="3352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1970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501A1-CCAF-44BB-868A-10619CB6903C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3-06T16:30:43Z</dcterms:modified>
  <cp:revision>1265</cp:revision>
  <dc:subject/>
  <dc:title>PowerPoint Presentation</dc:title>
</cp:coreProperties>
</file>