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1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E77E3-43B6-43AC-BBC2-C1083C001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7962F-EE60-4461-9978-A82FE7CF4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AADA-65A8-47E0-BFB2-284ABB639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6272F-DCBC-443E-800C-4858190050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042E9-2FE7-43D2-B8B1-67E0B66D87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BC3B-E92B-4148-9C5B-53B9E0C6A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CF37-F095-4440-A6B3-FF7275A12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17B9B-160F-4995-9B0F-2875ADCF4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2575-E7C9-4B6D-9D73-19DD198BF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658F-B967-4E19-8D1A-B52E3E524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7581-4C0D-44A2-B978-635147A9C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E641-6C84-49C6-9E77-A29FA91A7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5237708C-1AEB-4A76-8F74-737EDF67D98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1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ircuit Famil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0DA86-AE85-4D40-A6F6-0E6BC58A3F00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Design a k-input AND gate using pseudo-nMOS.  Estimate the delay driving a fanout of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8/9 = 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8H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+ (4+8k)/9 = (8k+13)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181480" y="2438280"/>
          <a:ext cx="35053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505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429000" y="4343400"/>
          <a:ext cx="175248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343400"/>
                    <a:ext cx="17524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D1EE-C39F-4749-A454-71C53B1194B6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draws power whenever 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tatic power     P =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mA / gate * 1M gates would b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y nMOS went extin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seudo-nMOS sparingly for wide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MOS when not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666880" y="4267080"/>
          <a:ext cx="350532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267080"/>
                    <a:ext cx="35053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B6F3-6A4D-4214-96E7-70A789B8BFEA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s uses a clocked pMOS pul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14400" y="2590920"/>
          <a:ext cx="61722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90920"/>
                    <a:ext cx="61722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124080" y="4800600"/>
          <a:ext cx="533412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800600"/>
                    <a:ext cx="53341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E97E-7E73-4D6D-B650-93BD97BFEE7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Foo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pulldown network is ON during pre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ries evaluation transistor to prevent f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2895480"/>
          <a:ext cx="335304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33530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800600" y="2819520"/>
          <a:ext cx="35812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19520"/>
                    <a:ext cx="35812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74EE-589E-4D46-B7DD-D94A17126B2C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1752480"/>
          <a:ext cx="7772400" cy="34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29328-1AE5-4290-B5BD-E51D72766D73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752480"/>
          <a:ext cx="7772400" cy="34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9413-EE65-4360-A065-1067C0F1C19A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requ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otonically ri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s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1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505320" y="3668760"/>
          <a:ext cx="4952880" cy="24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668760"/>
                    <a:ext cx="495288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800600" y="2209680"/>
          <a:ext cx="109044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209680"/>
                    <a:ext cx="1090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C7B76-A59F-49F5-9104-86783880C29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ynamic gates produce monotonically falling outputs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egal for one dynamic gate to drive ano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3352680"/>
          <a:ext cx="777240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777240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429C8-84E8-4ABE-9F2A-76EE6B20504D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ynamic gates produce monotonically falling outputs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egal for one dynamic gate to drive ano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3352680"/>
          <a:ext cx="777240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777240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14CA7-BE89-46F4-B3FC-08BB20C29D71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dynamic stage with inverting stat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/ static pair is called domino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monotonic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191120" y="2940120"/>
          <a:ext cx="442728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940120"/>
                    <a:ext cx="44272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62120" y="3276720"/>
          <a:ext cx="3276360" cy="23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327636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9D1E-8962-419C-A577-E0BCD077D003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156A-89D6-4C84-9DC2-58CC678D260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Optimiz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mino gate triggers next one, like a string of dominos toppling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evaluate sequentially but precharge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evaluation is more critical than pre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ed static stages can perfor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8120" y="3657600"/>
          <a:ext cx="3886200" cy="23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8862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8D83A-916B-4ECE-847B-92744E029E9A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Rail Domin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only performs noninverting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OR but not NAND, NOR, or 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 solves thi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rue and complementary inp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true and complementary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120" y="3962520"/>
          <a:ext cx="4190760" cy="19764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49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har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105520" y="4191120"/>
          <a:ext cx="3504960" cy="15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50496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0BB0A-A8FE-4AAF-AE16-158219AF786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AND/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_h, A_l, B_h, B_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Y_h = A * B, Y_l = ~(A *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4CF6-ECC1-4B69-AAFC-80A42E24ECA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AND/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_h, A_l, B_h, B_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Y_h = A * B, Y_l = ~(A *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down networks are 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19320" y="3352680"/>
          <a:ext cx="662940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2940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88E12-474D-4B82-B335-7816B90FD94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XOR/XN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possible to shar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2120" y="2666880"/>
          <a:ext cx="76960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6960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48A1-ED91-4511-9F57-521205875D4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node floats high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eaky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alue will leak away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miliseconds, now nanosecon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eeper to hold dynamic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weak enough not to fight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124080" y="4005360"/>
          <a:ext cx="304812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005360"/>
                    <a:ext cx="304812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A89D0-1612-44E6-A6F0-D0251E954D2D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rge Sha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suffer from 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2362320"/>
          <a:ext cx="259092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25909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572000" y="2209680"/>
          <a:ext cx="304812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0481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7928B-484C-4B0A-929A-0D230A5E448B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rge Sha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suffer from 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95280" y="2362320"/>
          <a:ext cx="259092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25909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572000" y="2209680"/>
          <a:ext cx="304812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0481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648320" y="4794120"/>
          <a:ext cx="133344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794120"/>
                    <a:ext cx="13334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5FD8B-AFE9-459F-A8E0-6D87306F897D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rge Sha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suffer from 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2362320"/>
          <a:ext cx="259092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25909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572000" y="2209680"/>
          <a:ext cx="304812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0481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648320" y="4572000"/>
          <a:ext cx="297180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572000"/>
                    <a:ext cx="29718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0A4E-92D8-4EE7-9919-B637FA5ED6C1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condary Pre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secondary precharg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need to precharge every other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load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14600" y="3276720"/>
          <a:ext cx="411480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76720"/>
                    <a:ext cx="411480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FA88-4B2E-43F9-A410-4FB9EBE34E01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a circuit 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dV/dt    -&gt;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proportional to C/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are the enem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apacitance for a give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take the pMOS capacitance off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circuit families try to do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324480" y="3124080"/>
          <a:ext cx="2286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124080"/>
                    <a:ext cx="2286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30BCD-9201-4242-A6DB-984239736759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are very sensitive to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: floating output suscepti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through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CF63-9793-4068-BD46-5C5A7D632FAE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logic is attractive for high-speed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– 2x faster than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ny 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high-performance micro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922AD-3B9F-4D1B-93D3-9081E02AF506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ass transistors like switches to do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drive diffusion terminals as well a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+ Transmission G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input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should be 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52480" y="4114800"/>
          <a:ext cx="21337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029200" y="4038480"/>
          <a:ext cx="213372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03848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3A01-EF9E-4F9C-8C40-8A4D4DF46F78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tegration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rid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eak pMOS feedback to pull full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905120" y="3276720"/>
          <a:ext cx="49528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76720"/>
                    <a:ext cx="49528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5E52-4D91-4DBF-B1C5-1E93D8C10876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P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lementar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-transist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form of 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need for ratioe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cross-coupling for rail-to-rai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0" y="3463920"/>
          <a:ext cx="2895480" cy="24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463920"/>
                    <a:ext cx="289548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D3BA-CC5E-4017-BF70-6EA93E6563DD}" type="slidenum">
              <a:t>34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old days, nMOS processes had no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use pull-up transistor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MOS, use a pMOS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about ¼ effective strength of pull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7920" y="3938760"/>
          <a:ext cx="228600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38760"/>
                    <a:ext cx="228600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724280" y="3662280"/>
          <a:ext cx="289584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62280"/>
                    <a:ext cx="289584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2F03-AAC0-4E87-B83B-BB803F1A1E1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E347-0D1B-45AB-AFE3-27AD8ECA7B5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C0FA3-4FEF-4D72-A231-992E7F04ABC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62120" y="3962520"/>
          <a:ext cx="7619760" cy="20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62520"/>
                    <a:ext cx="761976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E973B-FE62-4820-9CF3-EC983F28894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60899-6DFE-4344-B15E-4114ED22A7B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Design a k-input AND gate using pseudo-nMOS.  Estimate the delay driving a fanout of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181480" y="2438280"/>
          <a:ext cx="35053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505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6699-0FD3-4B17-8CEA-B7FAB2FF95F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9:21:41Z</dcterms:modified>
  <cp:revision>1139</cp:revision>
  <dc:subject/>
  <dc:title>PowerPoint Presentation</dc:title>
</cp:coreProperties>
</file>