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1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7634-B84D-49B4-84F8-6BBCF6EF3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9D38D-E1EC-4955-9740-772047AEA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056CF-7AAB-4489-AD1C-A98B33579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587A9-7DD0-40C8-A396-6B3D34CACB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FB74-32BE-4245-99DC-00BC2C7FB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2F5F8-3AAA-4515-94C1-30F1DDD99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2ED7-BE2D-49FD-85D3-7849110AA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CE7AC-8767-45DC-A22F-E5A7EAA5D4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9AF8-5080-48C1-A973-AF5E1829D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B42B-2D66-4D6B-9294-727A55FBD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EF4C8-F90D-4563-81CC-355971451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1E7D1-2A30-470F-91C7-22C0D373B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E685DB29-59D7-4503-A7A6-72B88E71FE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1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ircuit Famil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93F3-B069-45EA-9B70-04829CF3214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7087E-7EE7-4302-AB18-51662F67CD8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why nMOS went extinc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C157D-6DA2-4E31-A787-BC404FE510D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747D-E264-424A-BA05-7B7F7A022216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8ABA-D6CB-4EF6-8783-C6C6A3A4129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25034-678F-4B2B-9033-3C256A6EBB80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754A-A3FC-40FF-82E5-C3C785E7F9D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563BD-71DC-4422-B651-B2889B5AB88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AF51-8521-4B4C-A6A4-711C24E3249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0427-1F10-4402-99C4-C8DCDA8FEDF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6148-2878-4A3E-94A9-B045B84ADA4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02464-36DE-4985-8513-632B5AA670F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1F05-23F0-4EF2-8392-CD905F71C14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8B1B5-C8C5-4527-9EF4-6864C524539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 * B, Y_l = ~(A *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2DC9-5C25-4933-B2E2-48AE886B3CA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 * B, Y_l = ~(A *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346C-F614-417E-A3E8-916F255D853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9496-C854-45C5-AB0D-B0021DE71EC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952D-48A7-4D18-BC57-3008ADD77B7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AEFA2-CEC4-4637-ABED-8C11051D453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648320" y="4794120"/>
          <a:ext cx="133344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794120"/>
                    <a:ext cx="13334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F3AC-1180-42B7-B284-A3469395E61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13C9-4AFC-4F0C-9301-15CB9137B10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8C15-FF50-4EA5-9A75-458366FD33BF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1A9C-8510-4CC4-AA76-336B1FB7427B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FC36D-7DFB-465C-AA79-9E466069D78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1697-65DD-432A-92B4-11B409109DD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07267-7DC1-465D-B768-5B7864DBC4C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696E8-2BB1-40E4-8A2C-072AEE13F9B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568D-8CBC-49E3-BB4A-D205601AA8D1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DB01-8549-4EE6-BA7E-ADE9B2CCCA4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613EC-A7FD-4391-BA31-340D87D6CB1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C2A43-FEFC-4322-997A-C9BA2D93D44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62120" y="3962520"/>
          <a:ext cx="7619760" cy="20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62520"/>
                    <a:ext cx="7619760" cy="20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90D8-2047-4664-85B9-18F86238127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326F7-3AF0-4772-BDAE-4A2CF1E6CBE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D558-1147-47F9-997A-366036808F0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9:21:41Z</dcterms:modified>
  <cp:revision>1139</cp:revision>
  <dc:subject/>
  <dc:title>PowerPoint Presentation</dc:title>
</cp:coreProperties>
</file>