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5157-B13D-4577-B199-002D30105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661E-A818-46E4-9599-A11CA78C6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8AA4-5A97-4F8F-BB86-239A373C0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B184-DF0A-40B9-8F86-F8722CD43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3973-997C-43F0-982D-C057E55BE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8859-AED0-4A4D-8CD6-ABBACAFDF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178E-DD40-40F4-87AD-160B1D931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B4C7-A981-4D2B-8B0A-85C2A29B1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E367-3529-4EE5-BBE5-FCEF31FFA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B518-1455-4592-9441-62160E884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4097-65E4-4894-8819-5A32A6727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1740-131A-4724-B3E9-38EFE7064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070FFBAE-C2C1-4C20-B3BA-F10904E1BF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0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mbinational Circu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A037-2EBF-4074-81A2-5457AC80315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70C4-15E7-48BF-904F-A9C432E5646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6F27-8A9C-4850-AAFD-F0CB0BCB7F5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NAND and compound gat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60EC-CA88-42A6-9D72-3C10196CFDC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NAND and compound gat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38080" y="3124080"/>
          <a:ext cx="297180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3124080"/>
          <a:ext cx="396252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124080"/>
                    <a:ext cx="3962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09680" y="48006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9588-304F-4634-942A-0561346FA44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A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257800" y="1676520"/>
          <a:ext cx="2971800" cy="16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29718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811D-3622-4F47-918C-DAF9FEE0EE5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A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257800" y="1676520"/>
          <a:ext cx="2971800" cy="16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29718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5800" y="1600200"/>
          <a:ext cx="3809880" cy="30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600200"/>
                    <a:ext cx="380988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07B9-0AF4-4899-B634-5CCA3197CC5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48320" y="1676520"/>
          <a:ext cx="396216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39621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BDAC-891F-4D45-98FD-ABFF971C9F5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00200"/>
          <a:ext cx="287352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287352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48320" y="1676520"/>
          <a:ext cx="396216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76520"/>
                    <a:ext cx="39621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E0E1-A2E7-41F9-B339-A4AB45F1F29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ABD9-7DB0-408C-9473-1D02397D6E5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1865-2385-44EE-8F5D-0F8A0BA274F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5AE4-699C-4CCA-8D04-1ACF2E1F174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213F-8CFE-4D00-9141-DC5DE3365B4D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EBE4-4C4E-46E7-A992-31B91662F9D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69CF-5A39-41E7-9E13-F6BAE336A46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5BDC-894D-4AD8-B229-4900CD87F2E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C1CE-C6FD-4D97-90E4-2327D7E4962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10E6-E04E-4E32-9D60-849CBAE06E4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27B0-BC5C-489F-807F-CDA9CCE8491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074C-629B-4F0E-8502-890D8B49108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0CCB-EBF4-4C8E-B4C9-124D6847F2D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523880"/>
          <a:ext cx="77724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5F93-6F44-4836-B1BE-A3BE0C90676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61FB-8F34-4D28-AEAD-7005447AB16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523880"/>
          <a:ext cx="77724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E1FD-38FE-4083-A676-CA5D395B2C8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1523880"/>
          <a:ext cx="77724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2B36-F848-4696-A0C7-F6C93B92F14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89DB-61F4-4291-8F6C-56513CD4E08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B3CD-2245-4373-8506-3B915DD9868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70B1-0680-4AAB-9DCE-A611E4C8A10D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8841-F374-49FD-86FD-CA8708DFEB7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5B28-C79F-457D-B24A-AF797CDE4C0A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6785-EAE3-4310-9043-0712770912C0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7580-88F4-4F1C-8CC7-038E8873895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EAB7-F270-4AC7-9A90-E2B3CA24470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1B4B-0FD0-4D9F-9D56-096E3D618AC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2487-1A4F-4CF8-9662-4122E7C9D50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D500-7CDC-4596-A160-16DB2B65FB9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7B69-2037-47A7-BE7C-C9EFDDAAC50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6:29Z</dcterms:modified>
  <cp:revision>1052</cp:revision>
  <dc:subject/>
  <dc:title>PowerPoint Presentation</dc:title>
</cp:coreProperties>
</file>