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65938" cy="9151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8CFB5-F2E8-416D-A504-EAA557946B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8E68A-3D20-4F07-BD4B-75A55ABE1B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883E6-CED8-4ECC-AC1A-ADA749B190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0CFE3-471A-49E4-9B7C-F9EF1B3376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C8460-0C56-4421-8933-32726E8797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11AC9-8736-4D78-AB82-658CF42925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DC93C-3B70-49D6-9AEE-20B7DF0513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C61FF-D63B-432F-879E-3AEFDD2314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34715-7565-4F7A-BD63-9539DE915D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0E248-AE84-4DE9-B2A0-72138646DA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6CD4D-5C2C-4A43-8750-62F796C3F9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C031D-1BA8-4234-B008-84A6B53E5E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lide </a:t>
            </a:r>
            <a:fld id="{7FD3B4FD-2F43-4FBD-AF7A-0A319523CDE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roduction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MOS VLS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</a:t>
            </a:r>
            <a:br>
              <a:rPr sz="3600"/>
            </a:br>
            <a:br>
              <a:rPr sz="28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Lecture 10: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ombinational Circui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y Mudd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05320" y="4648320"/>
            <a:ext cx="2133360" cy="128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69E57-A119-45F0-B2FE-40E85629DED9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oun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of compoun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990720" y="2057400"/>
          <a:ext cx="6705360" cy="40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57400"/>
                    <a:ext cx="670536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8D459-626E-45E0-B8B6-4D338833E4EC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oun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of compoun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990720" y="2057400"/>
          <a:ext cx="6705360" cy="40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57400"/>
                    <a:ext cx="670536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1B54B-F8C8-4FAA-A565-5501FD21DAB6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ultiplexer has a maximum input capacitance of 16 units on each input.  It must drive a load of 160 units.  Estimate the delay of the NAND and compound gate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0E451-E4C2-4889-BA85-01FE8545EBEE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ultiplexer has a maximum input capacitance of 16 units on each input.  It must drive a load of 160 units.  Estimate the delay of the NAND and compound gate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838080" y="3124080"/>
          <a:ext cx="2971800" cy="16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124080"/>
                    <a:ext cx="2971800" cy="16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267080" y="3124080"/>
          <a:ext cx="3962520" cy="157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3124080"/>
                    <a:ext cx="3962520" cy="15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209680" y="480060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160 / 16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60E89-6288-4908-BF3D-783890871B7A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AND Sol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257800" y="1676520"/>
          <a:ext cx="2971800" cy="16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676520"/>
                    <a:ext cx="2971800" cy="16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FD4D6-5CCC-4133-B43C-F96EF1B1FD1C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AND Sol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257800" y="1676520"/>
          <a:ext cx="2971800" cy="16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676520"/>
                    <a:ext cx="2971800" cy="16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685800" y="1600200"/>
          <a:ext cx="3809880" cy="300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600200"/>
                    <a:ext cx="3809880" cy="30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7E898-4938-4C13-8E34-F53A1D2F7EE1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ound Sol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648320" y="1676520"/>
          <a:ext cx="396216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396216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631D5-B9F0-411D-BD24-29BD43645A0D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ound Sol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600200"/>
          <a:ext cx="2873520" cy="30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2873520" cy="30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648320" y="1676520"/>
          <a:ext cx="3962160" cy="156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676520"/>
                    <a:ext cx="396216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F4D57-B6AE-45F6-90A8-5274BBB3C3F0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5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tate your designs with transistor sizes that achieve this de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838080" y="2514600"/>
          <a:ext cx="754380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14600"/>
                    <a:ext cx="75438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9F833-5B70-4633-8594-F238ECF8DDB7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5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tate your designs with transistor sizes that achieve this de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838080" y="2514600"/>
          <a:ext cx="7543800" cy="301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14600"/>
                    <a:ext cx="75438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65CFF-1367-45D7-99A2-992AA075063E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bble Pu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un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e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P/N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96090-76CB-43F2-91E7-2F8234B036D0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put Or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parasitic delay model was too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parasitic delay for Y fa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arrives late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 arrives late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905120" y="3733920"/>
          <a:ext cx="3962160" cy="20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733920"/>
                    <a:ext cx="3962160" cy="20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5D751-4E55-49A2-B48C-C784023155BF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put Or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parasitic delay model was too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parasitic delay for Y fa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arrives latest? 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 arrives latest?  2.3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905120" y="3733920"/>
          <a:ext cx="3962160" cy="20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733920"/>
                    <a:ext cx="3962160" cy="20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CF0FA-389F-4422-86E7-B6C0E45C6EBC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ner &amp; Outer Inpu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put is closest to rail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n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put is closest to output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nput arrival time is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latest input to inner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095880" y="1676520"/>
          <a:ext cx="3657600" cy="187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676520"/>
                    <a:ext cx="3657600" cy="18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646EF-497E-4F59-B14B-3A40D58AE7EB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symmetric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gates favor one input over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suppose input A of a NAND gate is most 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maller transistor on A (less capacit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st size of noncritical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total resistance is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gate approaches g = 1 on critical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otal logical effort goes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715000" y="2819520"/>
          <a:ext cx="3276720" cy="23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2819520"/>
                    <a:ext cx="327672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1A380-C9BC-409C-9609-371C1B157F24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symmetric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gates favor one input over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suppose input A of a NAND gate is most 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maller transistor on A (less capacit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st size of noncritical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total resistance is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0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8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gate approaches g = 1 on critical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otal logical effort goes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715000" y="2819520"/>
          <a:ext cx="3276720" cy="23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2819520"/>
                    <a:ext cx="327672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FD4C4-8D5D-4CA6-9AA3-A9BBCC0147DF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ymmetric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s can be made perfectly sym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905120" y="2438280"/>
          <a:ext cx="419076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438280"/>
                    <a:ext cx="41907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FA5C3-6D9E-4B6B-BF90-D2FEC25C4761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kewe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ed gates favor one edge over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suppose rising output of inverter is most 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size noncritical nMOS tran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logical effort by comparing to unskewed inverter with same effective resistance on that 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600200" y="2895480"/>
          <a:ext cx="5334120" cy="15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895480"/>
                    <a:ext cx="533412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53F8C-EE9F-4853-BA0F-9BB2DFCAA741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kewe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ed gates favor one edge over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suppose rising output of inverter is most 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size noncritical nMOS tran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logical effort by comparing to unskewed inverter with same effective resistance on that 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5 / 3 = 5/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5 / 1.5 = 5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600200" y="2895480"/>
          <a:ext cx="5334120" cy="15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895480"/>
                    <a:ext cx="533412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531FB-3C56-4346-BC80-A928679A929D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I- and LO-Ske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: Logical effort of a skewed gate for a particular transition is the ratio of the input capacitance of that gate to the input capacitance of an unskewed inverter delivering the same output current for the same trans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ed gates reduce size of noncritical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-skew gates favor rising output (small n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-skew gates favor falling output (small p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is smaller for favored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larger for the other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7D8DD-5236-4E1B-9BA2-BA9971D4B420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talog of Skewe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85800" y="1523880"/>
          <a:ext cx="7772400" cy="44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77240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9F81D-5F91-4C51-979B-FAEFFE5ADC27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ule mux(input  s, d0, d1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put 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sign y = s ? d1 : d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Sketch a design using AND, OR, and NOT g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AFE40-9538-4047-9D4B-7BEC9FD87C96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talog of Skewe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5800" y="1523880"/>
          <a:ext cx="7772400" cy="44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77240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945ED-00EB-4409-9E45-EBE8E751D8B2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talog of Skewe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85800" y="1523880"/>
          <a:ext cx="7772400" cy="44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777240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47F4A-B3B2-478B-BDD0-90D47C6387C0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symmetric Ske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asymmetric and skewe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size noncritical transistor on unimportant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parasitic delay for critical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048120" y="3657600"/>
          <a:ext cx="3276360" cy="23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657600"/>
                    <a:ext cx="3276360" cy="23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D3FB6-E641-47B2-832B-B40B0B385CBE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st P/N Rati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lected P/N ratio for unit rise and fall resistanc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-3 for an inver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: choose ratio for least averag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driving identical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dP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st delay for P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172200" y="2971800"/>
          <a:ext cx="1924200" cy="14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2971800"/>
                    <a:ext cx="192420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9F5BB-5E85-4471-8B83-9B6263844005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st P/N Rati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lected P/N ratio for unit rise and fall resistanc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-3 for an inver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: choose ratio for least averag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driving identical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P+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P+1)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P+1)(1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P)/2 = (P + 1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P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dP = (1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/2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st delay for P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172200" y="2971800"/>
          <a:ext cx="1924200" cy="14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2971800"/>
                    <a:ext cx="192420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243320" y="5373720"/>
          <a:ext cx="504720" cy="48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43320" y="5373720"/>
                    <a:ext cx="5047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35BFC-24EA-4225-9F69-A12D2BC99F4C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/N Ratio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, best P/N ratio is sqrt of equal delay rat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improves average delay slightly for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significantly decreases area and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85800" y="3505320"/>
          <a:ext cx="78487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505320"/>
                    <a:ext cx="78487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0C80E-81C7-458D-8349-7CAF0D8086E6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/N Ratio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, best P/N ratio is sqrt of equal delay rat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improves average delay slightly for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significantly decreases area and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85800" y="3505320"/>
          <a:ext cx="78487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505320"/>
                    <a:ext cx="78487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2C623-3FE0-4681-A901-79200966A39B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pe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ND vs. 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imple stages vs. fewer high fan-in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st-arriving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rea and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imple stages vs. fewer high fan-in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83E92-2188-4E94-B2B3-03D2649CDAE8}" type="slidenum">
              <a:t>37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ule mux(input  s, d0, d1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put 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sign y = s ? d1 : d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Sketch a design using AND, OR, and NOT g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981080" y="4038480"/>
          <a:ext cx="3353040" cy="19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038480"/>
                    <a:ext cx="3353040" cy="19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762F1-23A6-46AB-945F-01F9AE804549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Sketch a design using NAND, NOR, and NOT g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F5B70-D266-4D8F-A630-F6D068CD2E02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Sketch a design using NAND, NOR, and NOT gates.  Assume ~S is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828800" y="2666880"/>
          <a:ext cx="4343400" cy="236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666880"/>
                    <a:ext cx="4343400" cy="23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F5027-E440-4185-94E8-3C8E5AD20695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ubble Push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network of AND / O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to NAND / NOR +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bubbles around to simplify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DeMorgan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477120" y="2133720"/>
          <a:ext cx="1981080" cy="116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2133720"/>
                    <a:ext cx="1981080" cy="11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143000" y="3352680"/>
          <a:ext cx="6781680" cy="264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352680"/>
                    <a:ext cx="6781680" cy="26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C3AAB-EE24-4A30-BFE1-2C95579F236D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Sketch a design using one compound gate and one NOT gate. Assume ~S is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F6E35-8F0E-4B1D-B2B6-55CD27D8933C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Sketch a design using one compound gate and one NOT gate. Assume ~S is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371600" y="3048120"/>
          <a:ext cx="6095880" cy="24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048120"/>
                    <a:ext cx="6095880" cy="24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75047-A667-4F05-B994-9D7DA3FFB7A0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07-01-15T06:56:29Z</dcterms:modified>
  <cp:revision>1052</cp:revision>
  <dc:subject/>
  <dc:title>PowerPoint Presentation</dc:title>
</cp:coreProperties>
</file>