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0.wmf" ContentType="image/x-wmf"/>
  <Override PartName="/ppt/media/image2.png" ContentType="image/png"/>
  <Override PartName="/ppt/media/image34.wmf" ContentType="image/x-wmf"/>
  <Override PartName="/ppt/media/image35.wmf" ContentType="image/x-wmf"/>
  <Override PartName="/ppt/media/image39.png" ContentType="image/png"/>
  <Override PartName="/ppt/media/image9.wmf" ContentType="image/x-wmf"/>
  <Override PartName="/ppt/media/image41.png" ContentType="image/png"/>
  <Override PartName="/ppt/media/image42.png" ContentType="image/png"/>
  <Override PartName="/ppt/media/image30.wmf" ContentType="image/x-wmf"/>
  <Override PartName="/ppt/media/image45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32.wmf" ContentType="image/x-wmf"/>
  <Override PartName="/ppt/media/image13.wmf" ContentType="image/x-wmf"/>
  <Override PartName="/ppt/media/image4.jpeg" ContentType="image/jpeg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03F56-6D90-40D4-9F29-48AC77758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6CC82-94C0-4FC2-AA4A-5F7557729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8C92-C8C2-4EF3-93F2-4EF7E55AF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747FB-CB1E-4BFE-9364-79C4F7CDF3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5716B-BC9E-40E6-87ED-715166BD07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183BF-F811-49F6-B67B-09EA6E730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A10A9-5533-4F24-A2F0-AEA59F533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9B39B-0A40-4FDF-9957-79D636D8C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2B2DD-C3AD-4DF0-8DE5-1BDB80AD2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CDEBD-B76F-44D5-8637-EA3BB3D63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367D7-3592-4230-9E84-E49ACF3DF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8CCD-3EE8-4CA7-87AD-D752EA7B4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3940E7E3-8372-4BA5-9EDA-CBA2F57AA9A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ircuits &amp; Layo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F69B9-D1FB-4FF2-B561-72FDAED13E6F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Gate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4-input CMOS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A53B-27F0-490F-8464-504541BD58B5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Gate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4-input CMOS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14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600200" y="2438280"/>
          <a:ext cx="5410080" cy="35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100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E17D3-6F5E-474A-9076-CBF11BBA4968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mentary C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up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638680" y="1981080"/>
          <a:ext cx="2971800" cy="25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981080"/>
                    <a:ext cx="2971800" cy="25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09480" y="3962520"/>
          <a:ext cx="5639040" cy="1484280"/>
        </p:xfrm>
        <a:graphic>
          <a:graphicData uri="http://schemas.openxmlformats.org/drawingml/2006/table">
            <a:tbl>
              <a:tblPr/>
              <a:tblGrid>
                <a:gridCol w="1879560"/>
                <a:gridCol w="1879920"/>
                <a:gridCol w="187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(flo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crowb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7A990-FE36-42DC-BE9F-8C80118F3D6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es and Parall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: 1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: 0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oth must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ither can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029200" y="1523880"/>
          <a:ext cx="325764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523880"/>
                    <a:ext cx="32576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F02AD-D33F-42E5-ABFD-5012DC3D8823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duction Compl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gates always produce 0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nMOS: Y=0 when both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Y=1 when either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parallel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-up network is complement of pull-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-&gt; series, series -&gt;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943600" y="2895480"/>
          <a:ext cx="2362320" cy="18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95480"/>
                    <a:ext cx="236232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8E4DC-2C2C-4A58-9832-87AEE6C64B14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do any invert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685880" y="1905120"/>
          <a:ext cx="700092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1905120"/>
                    <a:ext cx="70009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600200" y="2438280"/>
          <a:ext cx="533412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438280"/>
                    <a:ext cx="533412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38C97-78CB-4BBA-A737-1C2F544F9AEC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14479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F369D-A15A-451B-BF77-7CA83A9ABA2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19320" y="14479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666880" y="1828800"/>
          <a:ext cx="389736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828800"/>
                    <a:ext cx="3897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DA54-8246-4EB5-9D17-1ED607A1ABF4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al Streng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lose it approximates ideal voltag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 are strongest 1 and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strong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stro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nMOS are best for 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F4D7-9A12-41DC-BE26-17D994622916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an be used as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2057400"/>
          <a:ext cx="75438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82CB1-FFD4-46BC-A033-9661D7549295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Gat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Latches &amp; 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0619-B77E-40A5-BCF5-38EC16D68F3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an be used as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2057400"/>
          <a:ext cx="75438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3BC0F-AFD1-49A6-8AB8-17B2B69F8BFF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 produce degrade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mission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both 0 and 1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15E2-BE2F-4163-B505-6468A47E7126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 produce degrade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mission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both 0 and 1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2514600"/>
          <a:ext cx="6705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6705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BE79C-3DCA-495B-AF9B-72A74E2688A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state bu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s Z when not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14400" y="2514600"/>
          <a:ext cx="2666880" cy="2031840"/>
        </p:xfrm>
        <a:graphic>
          <a:graphicData uri="http://schemas.openxmlformats.org/drawingml/2006/table">
            <a:tbl>
              <a:tblPr/>
              <a:tblGrid>
                <a:gridCol w="888840"/>
                <a:gridCol w="888840"/>
                <a:gridCol w="88920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172200" y="2133720"/>
          <a:ext cx="196056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133720"/>
                    <a:ext cx="19605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BF2E2-6CF4-467C-8E19-B465C86CD219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state bu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s Z when not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14400" y="2514600"/>
          <a:ext cx="2666880" cy="2031840"/>
        </p:xfrm>
        <a:graphic>
          <a:graphicData uri="http://schemas.openxmlformats.org/drawingml/2006/table">
            <a:tbl>
              <a:tblPr/>
              <a:tblGrid>
                <a:gridCol w="888840"/>
                <a:gridCol w="888840"/>
                <a:gridCol w="88920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172200" y="2133720"/>
          <a:ext cx="196056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133720"/>
                    <a:ext cx="19605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CBE67-7C2D-4954-98D6-C27FDEED7DCF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restoring Trist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 acts as tristat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A is passed on 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95280" y="3352680"/>
          <a:ext cx="18702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18702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3FF03-FFFF-4806-AE20-EEA757F2A41F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inverter produces resto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conduction complemen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we want a Z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95280" y="2895480"/>
          <a:ext cx="579132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5791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5B605-3EA0-4900-8110-F699A7A098FD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inverter produces resto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conduction complemen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we want a Z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2895480"/>
          <a:ext cx="579132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5791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42B1-6346-4BB6-B36C-61215104C699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x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lex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ooses between tw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2819520"/>
          <a:ext cx="4038840" cy="218412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80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638680" y="2362320"/>
          <a:ext cx="281952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362320"/>
                    <a:ext cx="28195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ED0FE-8DFD-4BA5-947B-3E3E76371662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x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1 multiplexer chooses between tw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38080" y="2819520"/>
          <a:ext cx="4038840" cy="218412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80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638680" y="2362320"/>
          <a:ext cx="281952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362320"/>
                    <a:ext cx="28195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DE89-888C-4DDA-A461-347E28CA9167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Brief Hist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8: First integrated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using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by Jack Kilby at Texas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Pentium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(55 million transis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2 Mbit DRAM (&gt; 0.5 billion transis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% compound annual growth rate over 4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ther technology has grown so fast s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miniaturization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is cheaper, faster, lower in po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utionary effects o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8D32D-204C-4298-804A-72A87835A9B7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Mux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ransistors are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19320" y="1447920"/>
          <a:ext cx="503388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0338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B8FF8-E56F-4B5D-9DCF-4746121B6644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Mux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ransistors are needed?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219320" y="1447920"/>
          <a:ext cx="503388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0338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371600" y="2666880"/>
          <a:ext cx="662940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666880"/>
                    <a:ext cx="662940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9EAEE-17B2-4419-84B3-6474C756D958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 mux uses two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BA25F-69BB-40F0-9D05-952B3C855F2A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 mux uses two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4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895480" y="2133720"/>
          <a:ext cx="32464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133720"/>
                    <a:ext cx="32464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6B272-F566-46AD-AE0D-D87A9755D8C9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ing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mpound AOI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air of tristate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ly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 multiplexer adds an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09480" y="3886200"/>
          <a:ext cx="792504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79250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2C56F-F6F5-4CAB-829A-AF36A81F46F3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:1 Multiplex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1 mux chooses one of 4 inputs using two se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E82B2-3D6B-499A-967E-B908318D8450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:1 Multiplex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1 mux chooses one of 4 inputs using two se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levels of 2:1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ur tri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676520" y="2514600"/>
          <a:ext cx="5867280" cy="34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6728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42BBC-8BB4-4E1A-8625-1E5482B61CCF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1,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flows through to Q like a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0, the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holds its old value independent of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 l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el-sensitive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838080" y="3733920"/>
          <a:ext cx="24386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33920"/>
                    <a:ext cx="24386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352680" y="3886200"/>
          <a:ext cx="4953240" cy="20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886200"/>
                    <a:ext cx="49532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B645C-2EF8-4240-9944-8E2D852AE062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 chooses D or ol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33520" y="2133720"/>
          <a:ext cx="8153280" cy="30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53280" cy="30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52286-A0C1-4F3B-B3EF-5E49D97F98B7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858960" y="1523880"/>
          <a:ext cx="7424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523880"/>
                    <a:ext cx="7424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D19C8-D5CD-44FB-9EBE-164BE4C3CCDA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nual Sa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manufactured in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million for every human on the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2362320"/>
          <a:ext cx="7391520" cy="37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39152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6C3DF-016D-4217-B978-650553E1EFFA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rises, D is copied to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ll other times, Q holds it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 edge-triggered flip-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09480" y="4095720"/>
          <a:ext cx="198144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095720"/>
                    <a:ext cx="198144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666880" y="3784680"/>
          <a:ext cx="5791320" cy="19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784680"/>
                    <a:ext cx="57913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EC412-699E-4590-8523-A6B53F4527AC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aster and slave 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33520" y="2362320"/>
          <a:ext cx="807696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07696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D0ABA-E2FC-4AA3-B731-8761869EC01D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062080" y="1523880"/>
          <a:ext cx="5018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1523880"/>
                    <a:ext cx="5018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F468F-DE4E-42FC-8FAF-D6CABE7291F3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ce Con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to-back flops can malfunction from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flip-flop fires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s first flip-flop change and captures its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ld-time 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3520" y="3365640"/>
          <a:ext cx="8001000" cy="25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65640"/>
                    <a:ext cx="8001000" cy="25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FC479-E8A7-411A-9EBA-E178B36D37F5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overlapping Clo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overlapping clocks can prevent r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nonoverlap exceeds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use them in this class for saf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manages skew more carefully inst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209680" y="3352680"/>
          <a:ext cx="457200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45720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0B517-3989-4AC5-99D1-A6C26C3B06DD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can be ver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ates to fit together nic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design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should abut (standard 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acent gates should satisfy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t bottom and pMOS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ates include well and substrat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0A365-D000-481B-9915-605679B6F3BD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52480" y="1460520"/>
            <a:ext cx="4724640" cy="44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3F7E-9EF5-424A-9AC7-B6E5C7F9FEB6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NAND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N-diffusion and p-diffusion s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olysilic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l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GND rail at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6226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FF67C-3756-4900-8D4B-1BAADB3FA2E4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ick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 plan layout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ot be to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with color pencils or dry-erase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8001000" cy="27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B6958-4E6B-4C75-8A22-5B32BA09E7B7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ing Tra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ring tr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required for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dth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acing from neighbor =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lso consume one wiring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4648320" cy="300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D2FA3-E4AF-4C84-B3C4-67719B1A45ED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ntion of the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um tubes ruled in first half of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Large, expensive, power-hungry,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7: first point contact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Bardeen and Walter Brattain at Bell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Riordan, Hodd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952880" y="3166920"/>
            <a:ext cx="3451320" cy="291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25486-0209-4F84-B941-E89C530F3BE5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spa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s must surround transistors by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opposite transistor flav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s room for one wir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4724280" cy="31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04A7-9382-4F2A-8D0A-845ADEE6420E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area by counting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by 8 to expres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4724280" cy="362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B2C7-5294-4E81-9781-CEAC8758744F}" type="slidenum">
              <a:t>51</a:t>
            </a:fld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O3AI and estimat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19051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C7EB8-7378-4910-A4E2-6851A200E347}" type="slidenum">
              <a:t>52</a:t>
            </a:fld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O3AI and estimat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676520" y="19051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828800" y="2590920"/>
            <a:ext cx="5181480" cy="33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694C9-C12D-45B8-AD8E-C9CB60FE4E1C}" type="slidenum">
              <a:t>53</a:t>
            </a:fld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O3AI and estimat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676520" y="19051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600200" y="2438280"/>
            <a:ext cx="5638680" cy="35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DEDB7-123D-4B2E-BE07-9C5785D0ECF6}" type="slidenum">
              <a:t>54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n or pnp silic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urrent into very thin base layer controls large currents between emitter and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urrents limit integration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Oxide Semiconductor Field Effec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nd pMOS MOS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pplied to insulated gate controls current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allows very high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2A8BA-25A0-4885-BD8E-9C0D30398647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’s processes usually had only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, but consume power while i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s-present: CMOS processes for low idl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707080" cy="2963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Integrated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1101 256-bit 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004 4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2F69-98A9-4CAC-A6C4-A8EE171E6D6F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’s La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5: Gordon Moore plotted transistor on each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straight line on semilo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s have doubled every 2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3124080"/>
          <a:ext cx="533376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124080"/>
                    <a:ext cx="533376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943600" y="312408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tion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k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BF15-7E05-4EC0-AF37-4A0396A93D51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rolla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factors grow exponenti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ock frequency, process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828800" y="2438280"/>
          <a:ext cx="5410080" cy="36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438280"/>
                    <a:ext cx="54100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FDEB5-BD39-4303-9AF7-15750F60FCFE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05:45:23Z</dcterms:modified>
  <cp:revision>374</cp:revision>
  <dc:subject/>
  <dc:title>PowerPoint Presentation</dc:title>
</cp:coreProperties>
</file>