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0.wmf" ContentType="image/x-wmf"/>
  <Override PartName="/ppt/media/image2.png" ContentType="image/png"/>
  <Override PartName="/ppt/media/image34.wmf" ContentType="image/x-wmf"/>
  <Override PartName="/ppt/media/image35.wmf" ContentType="image/x-wmf"/>
  <Override PartName="/ppt/media/image39.png" ContentType="image/png"/>
  <Override PartName="/ppt/media/image9.wmf" ContentType="image/x-wmf"/>
  <Override PartName="/ppt/media/image41.png" ContentType="image/png"/>
  <Override PartName="/ppt/media/image42.png" ContentType="image/png"/>
  <Override PartName="/ppt/media/image30.wmf" ContentType="image/x-wmf"/>
  <Override PartName="/ppt/media/image45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13.wmf" ContentType="image/x-wmf"/>
  <Override PartName="/ppt/media/image4.jpeg" ContentType="image/jpeg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4C898-2F93-4B06-8039-6E80A7F45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C672-B5EF-47E7-870F-741A1C872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4D753-5CA7-40E1-96E5-430B22C3C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B9FDE-5A1D-4682-9BF1-C26E371E6D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CFCB1-27AA-4DA9-83FD-1BA42DA1FF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6C2F9-B0CA-47EE-AFEE-B4C98B6D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38A86-F1E4-4BB8-A543-7D800048A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E77D-21C3-4423-820B-D486DBACA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DDBF0-F328-414A-B8C0-5BA49E720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300B-8BFD-461B-BE07-0E795F087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0713-A33D-4812-A5A9-68EEB424B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CA0E1-1930-4C87-B9A8-CB41663EF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075104C-E581-4E2B-B40F-0E47820265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s &amp; Layo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8B7B-597E-4EC8-9647-D82007660E7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AD5D-2FDC-4A1B-9233-6C79D408F99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D3E2F-4E9D-4E3D-A313-BE3A3C1548B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9480" y="3962520"/>
          <a:ext cx="5639040" cy="148428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36E5-424F-4D9F-9421-5F72E021CCE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AD63-FAA4-4DE3-855D-A0D96B02EA6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2E24B-C2C5-4001-BEF7-134C6D451E9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85880" y="1905120"/>
          <a:ext cx="700092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5880" y="1905120"/>
                    <a:ext cx="7000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7AB0-96C6-4136-9191-1F24127974E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8E9AF-D4EE-4944-B5D6-28425BEB78C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19320" y="14479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302BA-D385-4680-ACD0-B3484A06B8E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E674C-73CE-49D3-A099-ED4D98ADE0A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8731-89AC-4659-B481-440D75980B3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7921B-F950-45EC-A123-2DF939DB0C9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5CEDC-BF19-4D90-B95D-4D4DFBFC789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9085-6079-4F2C-9AAD-146E491C118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FB20E-1385-4C01-880F-223E2D640A8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CB3B-8EAE-40B6-9967-F5056B8ADD2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8840"/>
                <a:gridCol w="88920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3163-B988-42D8-B5A3-013BB48E453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1E232-D0BD-46A6-8956-940EE072BBC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C708-6DA0-4436-905B-0BE1836863C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3145-2F40-4256-BC67-50E54342F67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x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83079-703F-41D0-826D-A3BEFDFB71D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440"/>
                <a:gridCol w="1009800"/>
                <a:gridCol w="100980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886EA-EA43-4762-AA83-5068F607DEE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Pentium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(55 million transis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12 Mbit DRAM (&gt; 0.5 billion transis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4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E2E1-D67E-455B-A450-1D3AFC5C7A2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2FCB-6782-428D-8200-F1B3CB922C6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38336-84B2-4DE7-A728-AE4943F9F5F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67F5-81FB-4776-BC1B-43BD6E0FBF1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B065-F0EB-4EDB-9C90-930A31551F9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EEDF-7E28-4F01-B5D7-1F018759CC7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C844B-4324-4630-A915-61D1C611BCD2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0408-D534-4A0B-8F6A-8E56AFDE682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53E9D-5E9E-49F3-8179-5D44F06F0B3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8D2DC-DB8F-4FA8-B33C-3B9ADEFDF18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A8AA5-3667-4D2B-A804-E0264076B8A5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m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914400" y="2362320"/>
          <a:ext cx="739152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39152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FEA8-E739-4399-BF55-D57E5C29190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F7BE-564F-4252-BF8B-55163910B3C0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112B-6CE3-4B03-968F-1E1671D31E0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6CCF-4A18-45FE-971E-D7F31083431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00E6-4F1E-4CCB-828C-CBC76029177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0117-858A-4B78-8E3E-527ADD996CD9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0D86-19B6-43AB-B5E7-7A84AFD5E27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60FA-66BB-4535-AFA3-84E16C418D2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E174-8382-473E-A505-194BCE06E697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8001000" cy="27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37A8D-C3D0-4164-AD9E-A1BC441F4F7D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284FB-220C-4635-BB45-36E229C3F9FA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874A-443E-4E1C-907D-6266AECC7CB5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E6CD7-8619-49FF-8FD9-A8307FAC7333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1600200" y="2438280"/>
            <a:ext cx="4724280" cy="362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8B595-8029-4361-B61E-BA404ED00BC1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DA24-F968-4732-B615-CAFFAB5BE30A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828800" y="2590920"/>
            <a:ext cx="5181480" cy="336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55E73-52E0-4F92-BB19-2FC20256EEE7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600200" y="2438280"/>
            <a:ext cx="5638680" cy="35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2F74-B979-45F9-9CAD-B136F9B9426F}" type="slidenum">
              <a:t>54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3C23-4556-4EA8-96B2-02ED9AE97F0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’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707080" cy="2963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19BEB-F920-4904-974F-89A1DB37152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3124080"/>
          <a:ext cx="5333760" cy="28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124080"/>
                    <a:ext cx="533376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9436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C6474-E689-4F3B-AEF0-134ACF55F93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828800" y="2438280"/>
          <a:ext cx="54100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54100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: Circuits &amp; Layou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033B9-C3D2-4E3C-A2D0-8620EA6D5E6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5:45:23Z</dcterms:modified>
  <cp:revision>374</cp:revision>
  <dc:subject/>
  <dc:title>PowerPoint Presentation</dc:title>
</cp:coreProperties>
</file>