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3.png" ContentType="image/png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2.png" ContentType="image/png"/>
  <Override PartName="/ppt/media/image46.wmf" ContentType="image/x-wmf"/>
  <Override PartName="/ppt/media/image50.wmf" ContentType="image/x-wmf"/>
  <Override PartName="/ppt/media/image11.wmf" ContentType="image/x-wmf"/>
  <Override PartName="/ppt/media/image48.wmf" ContentType="image/x-wmf"/>
  <Override PartName="/ppt/media/image13.wmf" ContentType="image/x-wmf"/>
  <Override PartName="/ppt/media/image52.png" ContentType="image/png"/>
  <Override PartName="/ppt/media/image38.wmf" ContentType="image/x-wmf"/>
  <Override PartName="/ppt/media/image8.wmf" ContentType="image/x-wmf"/>
  <Override PartName="/ppt/media/image51.png" ContentType="image/png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9151938" cy="6865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E9A5-DE60-4DE9-82E9-35F299D5E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3198-B7ED-4053-B8C4-A19F440784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DC535-28EC-42EC-9902-8DD0545D1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36B83-8E58-497C-B997-CD2746A66F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ADCE5-145F-48C3-BB36-2AB8C94E8E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A298-5675-4981-B431-EC51E621F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D1B55-0902-412E-9A4D-E0F2F8871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14E0-9CB5-4ADE-BA1D-8ABF94B73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381DF-72E1-422B-B69C-9524E89A5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F5CF-E901-4C20-B7FE-519C6A715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EFA2-E24A-4022-B32C-F5301CBB0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DF15-B0FF-4BF4-8415-F4BB848D4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F1F500F1-5AFA-4955-958B-2513472AC3A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0: 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B1C8D-351C-481A-9427-18D1F750919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, but doping and voltage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ied to high 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ow: transisto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high: transist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indicates inver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057400" y="3733920"/>
          <a:ext cx="44197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44197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ACD17-637C-48D1-BBDD-AD7B6F63FFC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upply Volt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 = 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0’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decreased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damage modern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3, 2.5, 1.8, 1.5, 1.2, 1.0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0949A-61CC-4905-895E-2A6EB1BE3125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s as Swi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view MOS transistors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t gate controls path from source to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2590920"/>
          <a:ext cx="7162560" cy="34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16256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149D4-2FE6-42B0-BA90-87A44E9CD8F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B2B6C-5398-4053-AC87-C2DF079AE6A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140BB-EFAE-48EE-992B-63BCD0922283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836D-206A-4646-9AA8-FE1C332CCA53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505320" y="1828800"/>
          <a:ext cx="5029200" cy="38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82880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87BAD-987F-4B2C-A963-9B691E6F49C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505320" y="1828800"/>
          <a:ext cx="5029200" cy="38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82880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C9218-3D43-4D7D-B643-994BF98480A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505320" y="1828800"/>
          <a:ext cx="5029200" cy="38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82880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60F2-D8F0-4B03-A458-CBF6A737927D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505320" y="1828800"/>
          <a:ext cx="5029200" cy="38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82880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ABF30-29B9-4368-818D-2273EC65B251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ministrivi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lla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Instr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e Hours &amp; Lab Assistant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s, Problem Sets, an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D810-F3D5-4931-B408-C3304F49C6A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505320" y="1828800"/>
          <a:ext cx="5029200" cy="383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82880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A8D71-AD4F-4EDA-BB78-8ED0CD34CFBE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OR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219320" y="4495680"/>
          <a:ext cx="12841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95680"/>
                    <a:ext cx="1284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505320" y="1600200"/>
          <a:ext cx="5181480" cy="42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600200"/>
                    <a:ext cx="51814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2A62B-5461-4A55-AAAD-2BEDB3A49F5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low if ALL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high if ANY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19FE-C93E-4C7E-9D54-36053140645A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low if ALL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high if ANY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209680" y="2438280"/>
          <a:ext cx="4648320" cy="35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4648320" cy="35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9A761-B65D-4768-9143-EF1C6A9E7EE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 are fabricated on silicon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ography process similar to printing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ach step, different materials are deposited or e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st to understand by viewing both top and cross-section of wafer in a simplified manufactu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CFF36-C9FC-4220-A172-143E9E3B30C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Cross-s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p-type substrate for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-well for body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9480" y="2590920"/>
          <a:ext cx="8153640" cy="26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815364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284A-B519-4171-B224-7415DCDD4F76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and Substrate T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ate must be tied to GND and n-well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to lightly-doped semiconductor forms poor connection called Shottky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avily doped well and substrate contacts /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57200" y="3200400"/>
          <a:ext cx="807732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200400"/>
                    <a:ext cx="80773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94F8-CC8C-49CE-A37F-D9CC2BF1BBA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Mask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nd wires ar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 taken along dashe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2514600"/>
          <a:ext cx="80010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00100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67B40-6115-4793-9D39-2AE87A7899D6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tailed Mask View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38480" y="1523880"/>
          <a:ext cx="414828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4148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E410-CFED-479C-8BC6-9C993C46D45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Ste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blank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verter from the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will be to form the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wafer with protective layer o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layer where n-well should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ant or diffuse n dopants into exposed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520" y="5097600"/>
          <a:ext cx="815328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97600"/>
                    <a:ext cx="815328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A7D39-B78D-4343-B6CA-7392A8F01A94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ircuits: many transistors on one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y Large Scale 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LSI): bucketloa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mentary Metal Oxide Semicond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cheap, low pow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:  How to build your own simple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ogic gates from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layout and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of the course: How to build a good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D080D-65A6-4041-BAEE-AA20A66FB9C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op of Si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 – 1200 C with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xidation fur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33520" y="487692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DF838-C857-4F33-82D2-B59BE2BDCDEF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on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resist is a light-sensitive organic poly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ens where exposed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472428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2428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EE6F0-0DA0-4F25-9A0E-002AC7DBA294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thograph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photoresist through n-well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exposed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990720" y="3429000"/>
          <a:ext cx="64846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648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464A-6AA1-46B2-9F9F-A4A597223435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ith hydrofluoric acid (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ps through skin and eats bone; nasty stuf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ttacks oxide where resist has been ex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08A3-811D-4222-A689-FA81088A8112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remaining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ixture of acids called piranah 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so resist doesn’t melt in nex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533520" y="4898880"/>
          <a:ext cx="807696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98880"/>
                    <a:ext cx="8076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7141-CB4B-48B1-B214-498DC96948E3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w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 is formed with diffusion or ion 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arsenic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until As atoms diffuse into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Impla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wafer with beam of As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blocked by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ly enter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533520" y="488808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8808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DAD12-15BC-4660-87AF-10AB71D7F202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Ox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the remaining oxide using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bare wafer with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teps involve similar series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3520" y="5105520"/>
          <a:ext cx="815328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05520"/>
                    <a:ext cx="81532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D086-9F9A-4A07-80AE-CA064EC5F48D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very thin layer of 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-7 atomic lay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Vapor Deposition (CVD) of silic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Silane gas (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many small crystals called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ily doped to be good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290E3-1993-4D4E-801F-5D65942EA705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 Patter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ame lithography process to pattern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04920" y="2590920"/>
          <a:ext cx="822960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2296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533520" y="4772160"/>
          <a:ext cx="8153280" cy="12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72160"/>
                    <a:ext cx="81532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09C00-15E3-4AF3-AE74-3814C4EA1912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Aligned Proces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xide and masking to expose where n+ dopants should be diffused or impl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diffusion forms nMOS source, drain, and n-wel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28314-C303-4D77-9F0D-C7328080F27C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Latt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built on a silico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Group IV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crystal lattice with bonds to fou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895480" y="2895480"/>
          <a:ext cx="312444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12444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0F92D-F600-4409-9C60-5BE2ED7D4750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oxide and form n+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ligned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gate block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is better than metal for self-aligned gates because it doesn’t melt during la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09480" y="4751280"/>
          <a:ext cx="807732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51280"/>
                    <a:ext cx="80773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380880" y="3352680"/>
          <a:ext cx="82296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8229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D6EE3-1889-4D6C-8097-FC6B28E30BEB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 dopants were dif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on implanta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gions are still calle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8A7A3-8207-4336-B53E-1F1C5E0EFE56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oxide to complete patterning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53BC4-49DD-4865-BF58-8457DF48775C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set of steps form p+ diffusion regions for pMOS source and drain and substrat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80880" y="3276720"/>
          <a:ext cx="82296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8229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4141A-7783-4E6F-A65F-7F5881B901C0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need to wire together th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chip with thick field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here contact cut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33520" y="4675320"/>
          <a:ext cx="81532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75320"/>
                    <a:ext cx="8153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04920" y="3581280"/>
          <a:ext cx="80010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8001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9FAF4-AA61-40BE-B8D1-E14299E2EAA2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al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ter on aluminum over whole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to remove excess metal, leav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533520" y="4660920"/>
          <a:ext cx="8153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60920"/>
                    <a:ext cx="8153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304920" y="2362320"/>
          <a:ext cx="792468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79246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6F376-64B8-43D3-9285-C5B3B392F561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specified with set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dimensions of masks determine transistor size (and hence speed, cost, and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tance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minimum width of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improves 30% every 3 years or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for feature size when describing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rules in term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ED45A-39A7-4737-BA89-16DF14F217FC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Design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rules to get you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40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15D8C-622C-4F10-9E23-FD31DE70396F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1163520" cy="28958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dimensions specified as Width /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 is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1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, this is 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,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4191120" cy="23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C7669-3529-4C6B-97E9-F0ED2BBACE91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transistors are stacks of gate, oxide,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logic gates out of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masks to specify layout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know everything necessary to start designing schematics and layout for a simple ch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53EFB-FC7E-4534-B996-39AFB1E16C3C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pa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silicon has no free carriers and conducts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dopants increases the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V: extra electron (n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II: missing electron, called hole (p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905120" y="4027320"/>
          <a:ext cx="441936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27320"/>
                    <a:ext cx="44193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6B0E3-010A-47FD-A56F-E74BAE841844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n Junc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unction between p-type and n-type semiconductor forms a d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only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86000" y="2881440"/>
          <a:ext cx="434340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81440"/>
                    <a:ext cx="43434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6C8C0-27A4-4514-9371-B8ACA565406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inals: gate, source, drain,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body stack looks like a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body are 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 is a very good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metal – oxide – semiconductor (MOS)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gat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made of 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267080" y="3800520"/>
          <a:ext cx="4289400" cy="21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800520"/>
                    <a:ext cx="428940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DE5A2-F90B-4D4B-9C51-48C90D2D8F3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is usually tied to ground (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low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 body is at low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-body and drain-body diodes ar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urrent flows, transistor i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09680" y="3733920"/>
          <a:ext cx="419112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733920"/>
                    <a:ext cx="41911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113A-C7F6-4400-B092-3D447690F78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high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harge on gate of 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harge attracted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s a channel under gate to 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urrent can flow through n-type silicon from source through channel to drain, transistor 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819520" y="4114800"/>
          <a:ext cx="342900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114800"/>
                    <a:ext cx="342900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0: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E5208-EF0A-4F2C-8936-221FF7C57E9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05:39:08Z</dcterms:modified>
  <cp:revision>278</cp:revision>
  <dc:subject/>
  <dc:title>PowerPoint Presentation</dc:title>
</cp:coreProperties>
</file>