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3.png" ContentType="image/png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2.png" ContentType="image/png"/>
  <Override PartName="/ppt/media/image38.wmf" ContentType="image/x-wmf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339E-77DE-42A3-A327-33081A8CD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6A4F-9E01-4CFD-B38C-A730A1631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C570-853D-4AAE-B238-B65BF5F3C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37D0-0078-4CD1-86D5-90F44C663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F1F5-C954-451D-90FD-981A910E1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0DF1-5880-46A3-A0A3-3A67DE938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2960-D7E0-4501-98DC-B1390A666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D339-6D58-460D-87D2-28B10358D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8FD6-7CE0-449C-8B34-EFA1CB559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E16E-7F24-4F85-8CB3-0C1FAAF3A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5BA8-AC39-44F8-9F1C-E93E2EB92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73B6-5591-4C3F-B49D-555CAADDD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BC859832-D2A0-4A7D-B7F8-04114F533D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0: 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C27C-E539-4954-AE5A-21F1064967C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967B-08BB-4584-936C-F2BD19D8D12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7CFA-C8A4-4C87-83B0-5895A7C5976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991F-E6DE-4600-92FD-56DCA26E5F7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9725-CE0F-4B92-ADBB-D4313F5FAAD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58B9-AFFB-4D17-AF4D-12D09C0C4A9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61AE-3163-4A68-98C9-4DFC462D28A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F048-15EE-40C9-9275-9957A5E7C39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9F85-C0C3-4BE5-AF59-655CCE55C80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F04F-C117-49CE-B0B7-8208C985A92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C178-954F-4AAD-8D04-23C07152523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 &amp; Lab Assistant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s, Problem Sets, an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D3C3-FFA2-4A9D-92B2-930AEFC9840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E283-D7A7-4DE2-BB99-7A04A0B53C6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2108-B343-4B7A-B53F-6988DF2E5B2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B939-E979-4387-93D8-CB77ADAA360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A908-00F9-48B3-ACAF-96B8C72DFA7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6465-356D-488A-BAA5-66AA17C7818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47B7-2B45-420A-8B2E-A393F118CE9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20040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88AD-C8AC-404B-B87B-6C38CF434EB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F789-FA53-45F3-A9D6-0B1D2BCE6F9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38480" y="1523880"/>
          <a:ext cx="4148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AB82-7641-49FD-AC6D-8D6246AC0E7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B04F-3177-433F-956D-83A57CC519E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C147-E1FA-43E2-A87E-57B331DE4E8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3FFC-FD32-4DFC-8255-4257A9AA7E3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C39D-7FE8-4661-AE87-FB13D61B7C4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4D0E-CFEF-4FB5-A9D6-0736C16D508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083F-B329-4AF8-8372-1295E80FDF1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834D-DBC5-4D0C-BFD2-0F2C399F54A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B237-778B-4F8B-838F-4CC07E9099C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E605-C12A-473A-9584-6A7A1D2D1DD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4493-6845-4682-AE93-F2896AB1ADF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9EC2-6072-4FFB-B7C9-9E22DC4330AE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CC94-DB6D-4DD7-8731-1CF829F1FB9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C44A-2D4E-4DFE-8828-4AEDCC2BE5F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286F-BCB8-48B3-85EA-1F8D5469C31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EFA0-CB14-4BE1-9388-2A0BE1A8EEBB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6DFE-96FE-4B72-8ADB-A71DCD6BF63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969B-C1EB-4A03-87D4-D861A3D20D6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B202-1566-44D5-9741-1AF13E385BC9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E52A-3228-43F5-867F-18991FFEB40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C62C-0132-46E1-9C07-2C86BB7BF88A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50E4-AB28-4986-BB2B-2FA5B9A5992E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2338-3AA6-4B88-9E6A-B30D3018B58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1DE1-2692-491E-B432-95C397BB6B5D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1C5A-60A3-4FD7-8024-95FC1CAD893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02A3-9FBA-4AE0-B9E4-FE1C922072F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72DE-F5FB-47D7-BFC6-12EF6F034E1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F9E7-99F9-470F-95B0-2C31A073E49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4A88-92E7-465C-8AFD-9ECF7904198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5:39:08Z</dcterms:modified>
  <cp:revision>278</cp:revision>
  <dc:subject/>
  <dc:title>PowerPoint Presentation</dc:title>
</cp:coreProperties>
</file>