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1.jpeg" ContentType="image/jpeg"/>
  <Override PartName="/ppt/media/image7.wmf" ContentType="image/x-wmf"/>
  <Override PartName="/ppt/media/image12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1.wmf" ContentType="image/x-wmf"/>
  <Override PartName="/ppt/media/image19.wmf" ContentType="image/x-wmf"/>
  <Override PartName="/ppt/media/image4.png" ContentType="image/png"/>
  <Override PartName="/ppt/media/image13.jpeg" ContentType="image/jpeg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png" ContentType="image/png"/>
  <Override PartName="/ppt/media/image15.wmf" ContentType="image/x-wmf"/>
  <Override PartName="/ppt/media/image22.jpeg" ContentType="image/jpeg"/>
  <Override PartName="/ppt/media/image1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63520" y="0"/>
            <a:ext cx="2970360" cy="44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19240" y="6746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892080" y="4346640"/>
            <a:ext cx="5051520" cy="41227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9472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63520" y="8694720"/>
            <a:ext cx="2970360" cy="44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FE88CDCA-09BF-464F-B7C2-78146E637EF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1924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892080" y="4346640"/>
            <a:ext cx="5051520" cy="41227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come to this presentation of a 64-state Viterbi Accelerator operating at 2GHz consuming 40mW in 90nm CMOS technolo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1924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892080" y="4346640"/>
            <a:ext cx="5051520" cy="41227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ircuits are key to achieving a low power energy efficient de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6800" y="219240"/>
            <a:ext cx="868356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76120"/>
            <a:ext cx="777240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6800" y="219240"/>
            <a:ext cx="868356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379260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449000"/>
            <a:ext cx="379260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76120"/>
            <a:ext cx="379260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876120"/>
            <a:ext cx="379260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6800" y="219240"/>
            <a:ext cx="868356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250236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449000"/>
            <a:ext cx="250236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449000"/>
            <a:ext cx="250236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76120"/>
            <a:ext cx="250236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876120"/>
            <a:ext cx="250236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876120"/>
            <a:ext cx="250236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6800" y="219240"/>
            <a:ext cx="868356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19240"/>
            <a:ext cx="868356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19240"/>
            <a:ext cx="868356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3792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449000"/>
            <a:ext cx="3792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6800" y="219240"/>
            <a:ext cx="868356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6800" y="226800"/>
            <a:ext cx="8683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19240"/>
            <a:ext cx="868356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379260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449000"/>
            <a:ext cx="3792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76120"/>
            <a:ext cx="379260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6800" y="219240"/>
            <a:ext cx="868356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3792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9000"/>
            <a:ext cx="379260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876120"/>
            <a:ext cx="379260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6800" y="219240"/>
            <a:ext cx="868356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379260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9000"/>
            <a:ext cx="379260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76120"/>
            <a:ext cx="777240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96080" y="65214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1C74-C12A-4843-8597-A7B34B6F73E6}" type="slidenum">
              <a:rPr b="1" lang="en-US" sz="16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65214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HMC VLSI La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95240" y="547560"/>
            <a:ext cx="768996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6560" y="3124080"/>
            <a:ext cx="76248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89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80880"/>
            <a:ext cx="868356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Very High Radix Montgomery Multiplica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438280"/>
            <a:ext cx="91440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0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vid Harris, Kyle Kelley and Ted Jia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Harvey Mudd Colleg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laremont, CA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orted by Intel Circuit Research Lab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124080" y="4114800"/>
            <a:ext cx="297180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ntgomery Multiplicat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MM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od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the inverse of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o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1 (mod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tgomery Mult finds residue of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X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o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Z = X Y R</a:t>
            </a:r>
            <a:r>
              <a:rPr b="1" i="1" lang="en-US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= (XR) (YR) R</a:t>
            </a:r>
            <a:r>
              <a:rPr b="1" i="1" lang="en-US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= XY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= Z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95280" y="19810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38280" y="19810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19810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19810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19810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38862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38862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33720" y="38862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ntgomery Redu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ecomput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’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atisfying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R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1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M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’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nvert mult and mod to 3 mult and shif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ultiply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=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X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×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duce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duc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=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Z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×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mo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= [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+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duc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×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] /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ormalize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f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≥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then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=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hy is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Z + Redu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×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ivisible by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R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u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814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u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436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u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43800" y="38862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hift for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29400" y="3124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rop 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duction Proof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[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+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duc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×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]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od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=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[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Z +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Z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×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M’ mod 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×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M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]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od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=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[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Z + Z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×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M’M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]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od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=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[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Z + Z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R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1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 1)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]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od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= ZRR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1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od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=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0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od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o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Z + reduc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×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M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s divisible by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re Comments on M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R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1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M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’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=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lies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’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o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’ is od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’ is precomputed from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using the extended Euclidian algorith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held constant over many mul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ly least significant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bits of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’ are needed when computing in radix 2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Arial"/>
              </a:rPr>
              <a:t>v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usse &amp; Kaliski, Eurocrypt ’90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PU Crypto Accelerato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815328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A Esther Padlock Hardware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7160" indent="-261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tgomery Multiplier &lt; 0.5 m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ie ar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7160" indent="-261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essed by x86 in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7160" indent="-261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6b - 32Kb keys in 128 bit granular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7160" indent="-261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so supports A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martMIPS Smart Card Ext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7160" indent="-261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SA, ECC, AES applic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7160" indent="-261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F(2</a:t>
            </a:r>
            <a:r>
              <a:rPr b="1" i="1" lang="en-US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multiply, MAC instru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7160" indent="-261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ry propagation for multiword ad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7160" indent="-261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ES permutations and rot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l LaGrande Technolog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7160" indent="-261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usted compu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mbedded Crypto Accelerato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43160" y="1981080"/>
            <a:ext cx="2265120" cy="2590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93960" y="4616280"/>
            <a:ext cx="29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3COM Router 5000 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ncryption Accelerator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343400" y="1981080"/>
            <a:ext cx="3809880" cy="2590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193280" y="4724280"/>
            <a:ext cx="44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BM PCI SSL Cryptography Acceler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adix 2 Algorith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radix 2, process one bit of X per ste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7040" indent="-272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tion becomes trivial because M’ mod 2 =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7040" indent="-272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multiplies and one shift per ste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Z = 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or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= 0 to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i="1" lang="en-US" sz="2400" spc="-1" strike="noStrike" baseline="-25000">
                <a:solidFill>
                  <a:srgbClr val="ffff00"/>
                </a:solidFill>
                <a:latin typeface="Arial"/>
              </a:rPr>
              <a:t>i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×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 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duce =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i="1" lang="en-US" sz="24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1" i="1" lang="en-US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v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+ reduc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×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 M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ivisible by 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/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≥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then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l Mod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998960" y="3849480"/>
            <a:ext cx="3097440" cy="2246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5867280" y="2743200"/>
            <a:ext cx="3048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=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X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×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reduce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=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×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M’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mod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= [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+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reduce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×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M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] /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if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≥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M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then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=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–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2666880"/>
            <a:ext cx="2743200" cy="167652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266720" y="3276720"/>
            <a:ext cx="1600200" cy="7617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inal Modulo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815328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ult before last step in rang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Z &lt; 2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ducing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t the end is a hass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w 0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&lt; 2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to avoid redu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n if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&gt; 4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0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&lt; 2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nce add two bits to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o avoid subtraction at end of each ste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alter, Electronic Letters ’9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vers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449000"/>
            <a:ext cx="762948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version of integers to/from Montgomery residues takes one MM operation (if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o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precomputed and saved)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dular exponentiation takes two conversion steps and ~2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ultiplication step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219320" y="3276720"/>
                <a:ext cx="69786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r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M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1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r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configurable Hardwa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ilding hardwire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bit unit is limi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low for larg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scalable to different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tter to design for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bit wo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eak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bit operand into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 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bit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called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scal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so handle both GF(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and GF(2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quires conditionally killing carr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lled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unifi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8480"/>
            <a:ext cx="7772400" cy="54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SA Encryp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tgomery Multip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dix 2 Implement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nca-Koç Radix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roved Radix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y High Radix Implement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y High Radi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allel Very High Radi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otient Pipeli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ture Wor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enca-Koç Montgomery Multiplier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449000"/>
            <a:ext cx="80010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0 to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i="1" lang="en-US" sz="2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 =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i="1" lang="en-US" sz="2800" spc="-1" strike="noStrike" baseline="-25000">
                <a:solidFill>
                  <a:srgbClr val="ffff00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reduc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i="1" lang="en-US" sz="2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i="1" lang="en-US" sz="2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 =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reduc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1 to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i="1" lang="en-US" sz="2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 =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i="1" lang="en-US" sz="2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i="1" lang="en-US" sz="2800" spc="-1" strike="noStrike" baseline="-25000">
                <a:solidFill>
                  <a:srgbClr val="ffff00"/>
                </a:solidFill>
                <a:latin typeface="Arial"/>
              </a:rPr>
              <a:t>i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i="1" lang="en-US" sz="2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 =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i="1" lang="en-US" sz="2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reduc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j-1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= (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j</a:t>
            </a:r>
            <a:r>
              <a:rPr b="1" i="1" lang="en-US" sz="2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, 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j-1</a:t>
            </a:r>
            <a:r>
              <a:rPr b="1" i="1" lang="en-US" sz="2800" spc="-1" strike="noStrike" baseline="-25000">
                <a:solidFill>
                  <a:srgbClr val="ffff00"/>
                </a:solidFill>
                <a:latin typeface="Arial"/>
              </a:rPr>
              <a:t>w-1:1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20960" y="1425960"/>
            <a:ext cx="3313800" cy="16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= (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(</a:t>
            </a:r>
            <a:r>
              <a:rPr b="1" i="1" lang="en-US" sz="2400" spc="-1" strike="noStrike" baseline="30000">
                <a:solidFill>
                  <a:srgbClr val="ff99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-1)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, …, 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= (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Y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(</a:t>
            </a:r>
            <a:r>
              <a:rPr b="1" i="1" lang="en-US" sz="2400" spc="-1" strike="noStrike" baseline="30000">
                <a:solidFill>
                  <a:srgbClr val="ff99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-1)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, …, 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Y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Y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= (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Z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(</a:t>
            </a:r>
            <a:r>
              <a:rPr b="1" i="1" lang="en-US" sz="2400" spc="-1" strike="noStrike" baseline="30000">
                <a:solidFill>
                  <a:srgbClr val="ff99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-1)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, …, 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Z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Z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= (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1" i="1" lang="en-US" sz="2400" spc="-1" strike="noStrike" baseline="-25000">
                <a:solidFill>
                  <a:srgbClr val="ff9900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ff9900"/>
                </a:solidFill>
                <a:latin typeface="Arial"/>
              </a:rPr>
              <a:t>-1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, …, 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ff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8320" y="6172200"/>
            <a:ext cx="54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nca, Ko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ç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, Trans. Computers,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cess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ep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n carry-save redundant for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2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N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+ 2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CS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+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MU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+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UF(w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+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RE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2514600"/>
          <a:ext cx="7467480" cy="38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7467480" cy="38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rallelis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wo dimensions of parallelism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dth of processing element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pipelined PEs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y take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kernel cyc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33520" y="3505320"/>
          <a:ext cx="7772400" cy="31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505320"/>
                    <a:ext cx="7772400" cy="31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ipeline Tim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1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905120" y="990720"/>
          <a:ext cx="454824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990720"/>
                    <a:ext cx="454824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ueu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full PEs cause stall, queue resul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vert back to nonredundant for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ves queue sp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PA needed for final result anyw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143000" y="3505320"/>
          <a:ext cx="6324480" cy="31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505320"/>
                    <a:ext cx="6324480" cy="31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roved Desig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n’t wait two cycles for MSB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ick off dependent operation right away on the available b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ke extra cycle(s) at the end to handle the extra b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rocessing elements, cycle count reduces from 2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 (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ris, Krishnamurthy, Anders, Mathew, Hsu, Arith 2005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roved 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ft-shift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ther than right-shift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me amount of hardwa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143000" y="3048120"/>
          <a:ext cx="670572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8120"/>
                    <a:ext cx="670572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ipeline Tim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447920" y="936720"/>
          <a:ext cx="6172200" cy="57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36720"/>
                    <a:ext cx="6172200" cy="57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atenc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449000"/>
            <a:ext cx="80010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nca-Koç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1) + 2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1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 &gt; 2pw – w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2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1) +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- 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2pw – w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Desig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1)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) +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 &gt; pw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1) + 2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- 1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pw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ak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SA Encryp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4582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st widely used public key system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od for encryption and signatur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nted by Rivest, Shamir, Adleman (1978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blic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nd privat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keys are long #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256-2048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b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tisfy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Arial"/>
              </a:rPr>
              <a:t>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o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x for all 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ding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rom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as hard as factoring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cryption: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en-US" sz="3200" spc="-1" strike="noStrike" baseline="30000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od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yption: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i="1" lang="en-US" sz="3200" spc="-1" strike="noStrike" baseline="30000">
                <a:solidFill>
                  <a:srgbClr val="ffff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od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en-US" sz="3200" spc="-1" strike="noStrike" baseline="30000">
                <a:solidFill>
                  <a:srgbClr val="ffff00"/>
                </a:solidFill>
                <a:latin typeface="Arial"/>
              </a:rPr>
              <a:t>ed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ak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ak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4572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ery High Radix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ndle many bits of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t a 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dix 2</a:t>
            </a:r>
            <a:r>
              <a:rPr b="1" i="1" lang="en-US" sz="2400" spc="-1" strike="noStrike" baseline="30000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processe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bits of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uter loop iterations need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kernel cycles with p P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rdware cha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it AND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it multipli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ght shift by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its after each ste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o bits are available to shif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ycle time gets long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duce becomes more complica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st driv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lsbs to 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ery High Radix Algorith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449000"/>
            <a:ext cx="807732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= 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for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= 0 to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f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-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 =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+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X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i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reduc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= (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’ ×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) mod 2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v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duce bottom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b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 =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+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reduc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Z = Z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/ 2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133880" y="248292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5486400" y="1905120"/>
            <a:ext cx="3048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=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X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×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reduce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=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×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M’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mod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= [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+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reduce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×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M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] /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1828800"/>
            <a:ext cx="2743200" cy="13716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885840" y="2438280"/>
            <a:ext cx="1600200" cy="7621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alable Very High Radix M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815328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= 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for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= 0 to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f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-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C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) =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+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X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0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Y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reduc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= (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’ ×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) mod 2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v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nly reduce bottom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b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C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) =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+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reduc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for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j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= 1 to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 +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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v +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1) /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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-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C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j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) =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j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+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C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+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X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i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Y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j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(C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j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) =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j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+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C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B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+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reduc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j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j-1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j</a:t>
            </a:r>
            <a:r>
              <a:rPr b="1" i="1" lang="en-US" sz="2800" spc="-1" strike="noStrike" baseline="-25000">
                <a:solidFill>
                  <a:srgbClr val="ffff00"/>
                </a:solidFill>
                <a:latin typeface="Arial"/>
              </a:rPr>
              <a:t>v-1:0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, 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j-1</a:t>
            </a:r>
            <a:r>
              <a:rPr b="1" i="1" lang="en-US" sz="2800" spc="-1" strike="noStrike" baseline="-25000">
                <a:solidFill>
                  <a:srgbClr val="ffff00"/>
                </a:solidFill>
                <a:latin typeface="Arial"/>
              </a:rPr>
              <a:t>w-1:v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33600" y="4724280"/>
            <a:ext cx="17337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2 mul, 1 shif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 inner lo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ery High Radix 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9564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143000" y="1143000"/>
          <a:ext cx="6858000" cy="50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143000"/>
                    <a:ext cx="6858000" cy="50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3277800" y="624852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elley, Harris IWSOC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ipeline Tim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02280" y="1447920"/>
            <a:ext cx="461448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ach MAC is given a full cy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= 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MUL(v,w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+ 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CPA(v+w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+ 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mu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+ 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RE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wo MAC columns for each 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our cycle latency between P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)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X</a:t>
            </a:r>
            <a:r>
              <a:rPr b="1" i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×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Y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2)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du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’ ×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mod 2</a:t>
            </a:r>
            <a:r>
              <a:rPr b="1" i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3)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du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×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4)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du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×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shift into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990720"/>
          <a:ext cx="331164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331164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ery High Radix Latenc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+ 3) + 4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 1) + 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&gt; 4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4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+ 1) +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- 1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4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w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ign limited for small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by 4-cycle latency between P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1240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0516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rallel Very High Radix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iminate two of the cyc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plication to comput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edu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precomputing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’ ×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od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pendency of Z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n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edu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prescaling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by 2</a:t>
            </a:r>
            <a:r>
              <a:rPr b="1" i="1" lang="en-US" sz="2400" spc="-1" strike="noStrike" baseline="30000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o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h proposed by Orup Arith9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no scalable very high radix H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9568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~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rovement 1: Eliminate Multipl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601640"/>
            <a:ext cx="807732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= 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for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= 0 to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f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-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 =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+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X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i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 =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+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0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M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’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od 2</a:t>
            </a:r>
            <a:r>
              <a:rPr b="1" i="1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od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Z = Z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/ 2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133880" y="26352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4876920" y="1981080"/>
            <a:ext cx="4038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M = M’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×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M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mod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R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(precomput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=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X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×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= [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+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×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M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] /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76920" y="1905120"/>
            <a:ext cx="3657600" cy="13716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276360" y="2666880"/>
            <a:ext cx="1600200" cy="7621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1219320"/>
            <a:ext cx="3048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=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X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×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reduce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=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×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M’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mod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= [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+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reduce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×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M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] /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3880" y="1143000"/>
            <a:ext cx="2743200" cy="13716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52880" y="1828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~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67080" y="1981080"/>
            <a:ext cx="609840" cy="3812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~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~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~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SA Deriv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oose two large random primes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q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tient: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1)(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blic key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coprime to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vate key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ch that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1 mod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n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Arial"/>
              </a:rPr>
              <a:t>e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o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ording to Fermat’s Little Theor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rovement 2: Prescale X by 2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v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449360"/>
            <a:ext cx="77724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= 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for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= 0 to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 =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+ 2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v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X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i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Y + Z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0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Z = Z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/ 2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= 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for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= 0 to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 = (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+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Z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0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M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) /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v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+ X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i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38680" y="1066680"/>
            <a:ext cx="3200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for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= 0 to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f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 =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+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X</a:t>
            </a:r>
            <a:r>
              <a:rPr b="1" i="1" lang="en-US" sz="1800" spc="-1" strike="noStrike" baseline="30000">
                <a:solidFill>
                  <a:srgbClr val="ff9900"/>
                </a:solidFill>
                <a:latin typeface="Arial"/>
                <a:ea typeface="Times New Roman"/>
              </a:rPr>
              <a:t>i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×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 =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+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</a:t>
            </a:r>
            <a:r>
              <a:rPr b="1" lang="en-US" sz="1800" spc="-1" strike="noStrike" baseline="30000">
                <a:solidFill>
                  <a:srgbClr val="ff9900"/>
                </a:solidFill>
                <a:latin typeface="Arial"/>
                <a:ea typeface="Times New Roman"/>
              </a:rPr>
              <a:t>0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×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Z = Z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/ 2</a:t>
            </a:r>
            <a:r>
              <a:rPr b="1" i="1" lang="en-US" sz="1800" spc="-1" strike="noStrike" baseline="30000">
                <a:solidFill>
                  <a:srgbClr val="ff99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00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~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~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38680" y="1066680"/>
            <a:ext cx="2210040" cy="20574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647960" y="1371600"/>
            <a:ext cx="966600" cy="1143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914400" y="3505320"/>
            <a:ext cx="5256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2133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~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4419720" y="2971800"/>
            <a:ext cx="38088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34290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cause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s independent of 2</a:t>
            </a:r>
            <a:r>
              <a:rPr b="1" i="1" lang="en-US" sz="1800" spc="-1" strike="noStrike" baseline="30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18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5803920"/>
            <a:ext cx="7238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l result in range 0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lt; 2</a:t>
            </a:r>
            <a:r>
              <a:rPr b="1" i="1" lang="en-US" sz="1800" spc="-1" strike="noStrike" baseline="30000">
                <a:solidFill>
                  <a:srgbClr val="ffffff"/>
                </a:solidFill>
                <a:latin typeface="Arial"/>
              </a:rPr>
              <a:t>n+v+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avoid final small mod in successive mults by using larger 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62320" y="12952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e more ite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2819160" y="1676520"/>
            <a:ext cx="53316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rovement 3: Avoid LSW ad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9360"/>
            <a:ext cx="77724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= 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for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= 0 to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 = (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+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Z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0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M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) /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v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+ X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i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= 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for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= 0 to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reduce = Z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 =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&gt;&gt; v +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reduc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M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+ X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i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~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800600" y="4952880"/>
            <a:ext cx="152280" cy="152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4952880"/>
            <a:ext cx="152640" cy="152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91520" y="4648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 +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816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43800" y="51055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934320" y="495288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7010280" y="495288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257440" y="4952880"/>
            <a:ext cx="1600200" cy="152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24360" y="3048120"/>
            <a:ext cx="10141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6748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~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012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14800" y="3048120"/>
            <a:ext cx="4191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(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 + Z</a:t>
            </a:r>
            <a:r>
              <a:rPr b="1" lang="en-US" sz="1800" spc="-1" strike="noStrike" baseline="30000">
                <a:solidFill>
                  <a:srgbClr val="ff9900"/>
                </a:solidFill>
                <a:latin typeface="Arial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× M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) /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2</a:t>
            </a:r>
            <a:r>
              <a:rPr b="1" i="1" lang="en-US" sz="1800" spc="-1" strike="noStrike" baseline="30000">
                <a:solidFill>
                  <a:srgbClr val="ff9900"/>
                </a:solidFill>
                <a:latin typeface="Arial"/>
                <a:ea typeface="Times New Roman"/>
              </a:rPr>
              <a:t>v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=  Z &gt;&gt; v +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(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</a:t>
            </a:r>
            <a:r>
              <a:rPr b="1" lang="en-US" sz="1800" spc="-1" strike="noStrike" baseline="30000">
                <a:solidFill>
                  <a:srgbClr val="ff9900"/>
                </a:solidFill>
                <a:latin typeface="Arial"/>
                <a:ea typeface="Times New Roman"/>
              </a:rPr>
              <a:t>0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× M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+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mod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2</a:t>
            </a:r>
            <a:r>
              <a:rPr b="1" i="1" lang="en-US" sz="1800" spc="-1" strike="noStrike" baseline="30000">
                <a:solidFill>
                  <a:srgbClr val="ff9900"/>
                </a:solidFill>
                <a:latin typeface="Arial"/>
                <a:ea typeface="Times New Roman"/>
              </a:rPr>
              <a:t>v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) /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2</a:t>
            </a:r>
            <a:r>
              <a:rPr b="1" i="1" lang="en-US" sz="1800" spc="-1" strike="noStrike" baseline="30000">
                <a:solidFill>
                  <a:srgbClr val="ff9900"/>
                </a:solidFill>
                <a:latin typeface="Arial"/>
                <a:ea typeface="Times New Roman"/>
              </a:rPr>
              <a:t>v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=  Z &gt;&gt; v +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(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</a:t>
            </a:r>
            <a:r>
              <a:rPr b="1" lang="en-US" sz="1800" spc="-1" strike="noStrike" baseline="30000">
                <a:solidFill>
                  <a:srgbClr val="ff9900"/>
                </a:solidFill>
                <a:latin typeface="Arial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×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(M+1)) / 2</a:t>
            </a:r>
            <a:r>
              <a:rPr b="1" i="1" lang="en-US" sz="1800" spc="-1" strike="noStrike" baseline="30000">
                <a:solidFill>
                  <a:srgbClr val="ff9900"/>
                </a:solidFill>
                <a:latin typeface="Arial"/>
                <a:ea typeface="Times New Roman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=  Z &gt;&gt; v + Z</a:t>
            </a:r>
            <a:r>
              <a:rPr b="1" lang="en-US" sz="1800" spc="-1" strike="noStrike" baseline="30000">
                <a:solidFill>
                  <a:srgbClr val="ff9900"/>
                </a:solidFill>
                <a:latin typeface="Arial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×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943600" y="4267080"/>
            <a:ext cx="76320" cy="763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6019560" y="4267080"/>
            <a:ext cx="75960" cy="763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895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~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672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~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67280" y="3733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~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2438280" y="4038480"/>
            <a:ext cx="1524240" cy="763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7010280" y="5486400"/>
            <a:ext cx="304920" cy="3808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5880" y="586728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M </a:t>
            </a:r>
            <a:r>
              <a:rPr b="1" lang="en-US" sz="1800" spc="-1" strike="noStrike">
                <a:solidFill>
                  <a:srgbClr val="ff9900"/>
                </a:solidFill>
                <a:latin typeface="Symbol"/>
                <a:ea typeface="Symbol"/>
              </a:rPr>
              <a:t>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M’M </a:t>
            </a:r>
            <a:r>
              <a:rPr b="1" lang="en-US" sz="1800" spc="-1" strike="noStrike">
                <a:solidFill>
                  <a:srgbClr val="ff9900"/>
                </a:solidFill>
                <a:latin typeface="Symbol"/>
                <a:ea typeface="Symbol"/>
              </a:rPr>
              <a:t>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-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1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mod 2</a:t>
            </a:r>
            <a:r>
              <a:rPr b="1" lang="en-US" sz="1800" spc="-1" strike="noStrike" baseline="30000">
                <a:solidFill>
                  <a:srgbClr val="ff9900"/>
                </a:solidFill>
                <a:latin typeface="Arial"/>
                <a:ea typeface="Times New Roman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So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M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+ 1 is divi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72200" y="5729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~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53080" y="6095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~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alable Parallel Very High Radix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815328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= 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for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i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= 0 to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f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C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= 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reduc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= 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i="1" lang="en-US" sz="32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lang="pl-P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for </a:t>
            </a:r>
            <a:r>
              <a:rPr b="1" i="1" lang="pl-P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j</a:t>
            </a:r>
            <a:r>
              <a:rPr b="1" lang="pl-P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= 0 to </a:t>
            </a:r>
            <a:r>
              <a:rPr b="1" i="1" lang="pl-P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e </a:t>
            </a:r>
            <a:r>
              <a:rPr b="1" lang="pl-P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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v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/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w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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    </a:t>
            </a:r>
            <a:r>
              <a:rPr b="1" i="1" lang="pl-P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(C, Z</a:t>
            </a:r>
            <a:r>
              <a:rPr b="1" i="1" lang="en-US" sz="32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j</a:t>
            </a:r>
            <a:r>
              <a:rPr b="1" i="1" lang="pl-P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) =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i="1" lang="en-US" sz="32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j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i="1" lang="pl-P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+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C + </a:t>
            </a:r>
            <a:r>
              <a:rPr b="1" i="1" lang="pl-P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reduce</a:t>
            </a:r>
            <a:r>
              <a:rPr b="1" i="1" lang="pl-P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l-P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×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M</a:t>
            </a:r>
            <a:r>
              <a:rPr b="1" i="1" lang="en-US" sz="3200" spc="-1" strike="noStrike" baseline="30000">
                <a:solidFill>
                  <a:srgbClr val="ffff00"/>
                </a:solidFill>
                <a:latin typeface="Arial"/>
              </a:rPr>
              <a:t>j</a:t>
            </a:r>
            <a:r>
              <a:rPr b="1" i="1" lang="pl-PL" sz="3200" spc="-1" strike="noStrike" baseline="-30000">
                <a:solidFill>
                  <a:srgbClr val="ffff00"/>
                </a:solidFill>
                <a:latin typeface="Arial"/>
              </a:rPr>
              <a:t> </a:t>
            </a:r>
            <a:r>
              <a:rPr b="1" i="1" lang="pl-PL" sz="32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pl-P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X</a:t>
            </a:r>
            <a:r>
              <a:rPr b="1" i="1" lang="en-US" sz="32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i</a:t>
            </a:r>
            <a:r>
              <a:rPr b="1" i="1" lang="pl-P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l-P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× </a:t>
            </a:r>
            <a:r>
              <a:rPr b="1" i="1" lang="pl-P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Y</a:t>
            </a:r>
            <a:r>
              <a:rPr b="1" i="1" lang="en-US" sz="32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j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i="1" lang="en-US" sz="3200" spc="-1" strike="noStrike" baseline="30000">
                <a:solidFill>
                  <a:srgbClr val="ffff00"/>
                </a:solidFill>
                <a:latin typeface="Arial"/>
              </a:rPr>
              <a:t>j-1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= (Z</a:t>
            </a:r>
            <a:r>
              <a:rPr b="1" i="1" lang="en-US" sz="3200" spc="-1" strike="noStrike" baseline="30000">
                <a:solidFill>
                  <a:srgbClr val="ffff00"/>
                </a:solidFill>
                <a:latin typeface="Arial"/>
              </a:rPr>
              <a:t>j</a:t>
            </a:r>
            <a:r>
              <a:rPr b="1" i="1" lang="en-US" sz="3200" spc="-1" strike="noStrike" baseline="-25000">
                <a:solidFill>
                  <a:srgbClr val="ffff00"/>
                </a:solidFill>
                <a:latin typeface="Arial"/>
              </a:rPr>
              <a:t>v-1:0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, Z</a:t>
            </a:r>
            <a:r>
              <a:rPr b="1" i="1" lang="en-US" sz="3200" spc="-1" strike="noStrike" baseline="30000">
                <a:solidFill>
                  <a:srgbClr val="ffff00"/>
                </a:solidFill>
                <a:latin typeface="Arial"/>
              </a:rPr>
              <a:t>j-1</a:t>
            </a:r>
            <a:r>
              <a:rPr b="1" i="1" lang="en-US" sz="3200" spc="-1" strike="noStrike" baseline="-25000">
                <a:solidFill>
                  <a:srgbClr val="ffff00"/>
                </a:solidFill>
                <a:latin typeface="Arial"/>
              </a:rPr>
              <a:t>w-1:v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6248520" y="4267080"/>
            <a:ext cx="152280" cy="152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00800" y="4267080"/>
            <a:ext cx="152280" cy="152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rallel Very High Radix 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62240" y="160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00320" y="22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523880" y="1295280"/>
          <a:ext cx="6019920" cy="49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95280"/>
                    <a:ext cx="6019920" cy="49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3147120" y="6248520"/>
            <a:ext cx="42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elley, Harris Asilomar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ipeline Tim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33520" y="1143000"/>
          <a:ext cx="407340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40734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4800600" y="3124080"/>
            <a:ext cx="4572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wo cycle latency between P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)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X</a:t>
            </a:r>
            <a:r>
              <a:rPr b="1" i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×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Y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0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+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du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×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2)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X</a:t>
            </a:r>
            <a:r>
              <a:rPr b="1" i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×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Y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+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du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×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hift into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Z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8534520" y="358128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8610480" y="358128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8534520" y="403848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8610480" y="403848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47040" y="1905120"/>
            <a:ext cx="4040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= 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MUL(v,w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+ 2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CS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+ 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CPA(v+w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+ 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RE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rallel Very High Radix Latenc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+1)   +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+1 + 2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mo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&gt; 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+1) +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+1 + 2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mo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uotient Pipelin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educ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pends on previous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pelin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educ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alculation to avoid reduce being on the critical pa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llel Very High Radix can be viewed as 0-stage Quotient Pipeline architec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stage Quotient Pipelin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41148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allel Very High Radi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duce</a:t>
            </a:r>
            <a:r>
              <a:rPr b="1" i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×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M</a:t>
            </a:r>
            <a:r>
              <a:rPr b="1" i="1" lang="en-US" sz="2400" spc="-1" strike="noStrike" baseline="30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pl-PL" sz="2400" spc="-1" strike="noStrike" baseline="-30000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nd  </a:t>
            </a:r>
            <a:r>
              <a:rPr b="1" i="1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1" i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× </a:t>
            </a:r>
            <a:r>
              <a:rPr b="1" i="1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j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ccurs simultaneous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quir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du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in non-redundant fo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lution: Delay </a:t>
            </a:r>
            <a:r>
              <a:rPr b="1" i="1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duce</a:t>
            </a:r>
            <a:r>
              <a:rPr b="1" i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×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M</a:t>
            </a:r>
            <a:r>
              <a:rPr b="1" i="1" lang="en-US" sz="2400" spc="-1" strike="noStrike" baseline="30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pl-PL" sz="2400" spc="-1" strike="noStrike" baseline="-30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alculation by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E’s: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stage delay Quotient Pipeli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4648320" y="1981080"/>
          <a:ext cx="380988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38098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2" name=""/>
          <p:cNvGrpSpPr/>
          <p:nvPr/>
        </p:nvGrpSpPr>
        <p:grpSpPr>
          <a:xfrm>
            <a:off x="2666880" y="2209320"/>
            <a:ext cx="152640" cy="76320"/>
            <a:chOff x="2666880" y="2209320"/>
            <a:chExt cx="152640" cy="76320"/>
          </a:xfrm>
        </p:grpSpPr>
        <p:sp>
          <p:nvSpPr>
            <p:cNvPr id="263" name=""/>
            <p:cNvSpPr/>
            <p:nvPr/>
          </p:nvSpPr>
          <p:spPr>
            <a:xfrm flipV="1">
              <a:off x="2666880" y="2209320"/>
              <a:ext cx="76320" cy="759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43200" y="2209680"/>
              <a:ext cx="76320" cy="759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752480" y="3885840"/>
            <a:ext cx="152640" cy="76320"/>
            <a:chOff x="1752480" y="3885840"/>
            <a:chExt cx="152640" cy="76320"/>
          </a:xfrm>
        </p:grpSpPr>
        <p:sp>
          <p:nvSpPr>
            <p:cNvPr id="266" name=""/>
            <p:cNvSpPr/>
            <p:nvPr/>
          </p:nvSpPr>
          <p:spPr>
            <a:xfrm flipV="1">
              <a:off x="1752480" y="3885840"/>
              <a:ext cx="76320" cy="759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28800" y="3886200"/>
              <a:ext cx="76320" cy="759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Stage Delay Quotient Pipelin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llel Desig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57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’ mod 2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×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57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educ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roduced by PE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used by PE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+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otient Pipelin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57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’ mod 2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1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×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57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the # of delay stag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57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duce produced by PE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used by PE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+1+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llel: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0-Stage Quotient Pipelin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523880" y="1981080"/>
            <a:ext cx="304920" cy="152640"/>
            <a:chOff x="1523880" y="1981080"/>
            <a:chExt cx="304920" cy="152640"/>
          </a:xfrm>
        </p:grpSpPr>
        <p:sp>
          <p:nvSpPr>
            <p:cNvPr id="271" name=""/>
            <p:cNvSpPr/>
            <p:nvPr/>
          </p:nvSpPr>
          <p:spPr>
            <a:xfrm flipV="1">
              <a:off x="1523880" y="1981080"/>
              <a:ext cx="152640" cy="152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76520" y="1981080"/>
              <a:ext cx="152280" cy="152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523880" y="3581280"/>
            <a:ext cx="304920" cy="152640"/>
            <a:chOff x="1523880" y="3581280"/>
            <a:chExt cx="304920" cy="152640"/>
          </a:xfrm>
        </p:grpSpPr>
        <p:sp>
          <p:nvSpPr>
            <p:cNvPr id="274" name=""/>
            <p:cNvSpPr/>
            <p:nvPr/>
          </p:nvSpPr>
          <p:spPr>
            <a:xfrm flipV="1">
              <a:off x="1523880" y="3581280"/>
              <a:ext cx="152640" cy="152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76520" y="3581280"/>
              <a:ext cx="152280" cy="152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-Stage Quotient Pipelined Algorithm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0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oldreduc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0 to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reduce = Z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 =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&gt;&gt; v +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oldreduc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M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+ X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i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ldreduce = redu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&lt;&lt;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oldredu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334120" y="3200040"/>
            <a:ext cx="304200" cy="152640"/>
            <a:chOff x="5334120" y="3200040"/>
            <a:chExt cx="304200" cy="152640"/>
          </a:xfrm>
        </p:grpSpPr>
        <p:sp>
          <p:nvSpPr>
            <p:cNvPr id="279" name=""/>
            <p:cNvSpPr/>
            <p:nvPr/>
          </p:nvSpPr>
          <p:spPr>
            <a:xfrm flipV="1">
              <a:off x="5334120" y="3200040"/>
              <a:ext cx="152280" cy="1522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486400" y="3200400"/>
              <a:ext cx="151920" cy="1522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ryptographic Algorith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, A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metric key algorith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quire exchange of secret ke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utationally effici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SA, EC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blic key algorith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key exchange needed (e.g. ecommerc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utationally expens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 public key to exchange symmetric ke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-Stage Scalable Quotient Pipelin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Z 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oldreduce 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i 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 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reduce = Z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or</a:t>
            </a:r>
            <a:r>
              <a:rPr b="1" i="1" lang="pl-PL" sz="2800" spc="-1" strike="noStrike">
                <a:solidFill>
                  <a:srgbClr val="ffff00"/>
                </a:solidFill>
                <a:latin typeface="Arial"/>
              </a:rPr>
              <a:t> j = </a:t>
            </a: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0 to</a:t>
            </a:r>
            <a:r>
              <a:rPr b="1" i="1" lang="pl-PL" sz="2800" spc="-1" strike="noStrike">
                <a:solidFill>
                  <a:srgbClr val="ffff00"/>
                </a:solidFill>
                <a:latin typeface="Arial"/>
              </a:rPr>
              <a:t> 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i="1" lang="pl-PL" sz="2800" spc="-1" strike="noStrike">
                <a:solidFill>
                  <a:srgbClr val="ffff00"/>
                </a:solidFill>
                <a:latin typeface="Arial"/>
              </a:rPr>
              <a:t>C, 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j</a:t>
            </a: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i="1" lang="pl-PL" sz="2800" spc="-1" strike="noStrike">
                <a:solidFill>
                  <a:srgbClr val="ffff00"/>
                </a:solidFill>
                <a:latin typeface="Arial"/>
              </a:rPr>
              <a:t>  = </a:t>
            </a: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i="1" lang="pl-PL" sz="2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j</a:t>
            </a:r>
            <a:r>
              <a:rPr b="1" i="1" lang="pl-PL" sz="2800" spc="-1" strike="noStrike" baseline="-25000">
                <a:solidFill>
                  <a:srgbClr val="ffff00"/>
                </a:solidFill>
                <a:latin typeface="Arial"/>
              </a:rPr>
              <a:t>v-1:</a:t>
            </a:r>
            <a:r>
              <a:rPr b="1" i="1" lang="en-US" sz="2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1" i="1" lang="pl-PL" sz="2800" spc="-1" strike="noStrike">
                <a:solidFill>
                  <a:srgbClr val="ffff00"/>
                </a:solidFill>
                <a:latin typeface="Arial"/>
              </a:rPr>
              <a:t>, 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j-1</a:t>
            </a:r>
            <a:r>
              <a:rPr b="1" i="1" lang="pl-PL" sz="2800" spc="-1" strike="noStrike" baseline="-25000">
                <a:solidFill>
                  <a:srgbClr val="ffff00"/>
                </a:solidFill>
                <a:latin typeface="Arial"/>
              </a:rPr>
              <a:t>w- 1:v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+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 baseline="-25000">
                <a:solidFill>
                  <a:srgbClr val="ffff00"/>
                </a:solidFill>
                <a:latin typeface="Arial"/>
              </a:rPr>
              <a:t>     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oldreduc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M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j </a:t>
            </a:r>
            <a:r>
              <a:rPr b="1" i="1" lang="pl-PL" sz="28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pl-PL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j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Y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j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+ 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oldreduce = redu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Z = Z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&lt;&lt;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v + oldredu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334120" y="4419360"/>
            <a:ext cx="304200" cy="152640"/>
            <a:chOff x="5334120" y="4419360"/>
            <a:chExt cx="304200" cy="152640"/>
          </a:xfrm>
        </p:grpSpPr>
        <p:sp>
          <p:nvSpPr>
            <p:cNvPr id="284" name=""/>
            <p:cNvSpPr/>
            <p:nvPr/>
          </p:nvSpPr>
          <p:spPr>
            <a:xfrm flipV="1">
              <a:off x="5334120" y="4419360"/>
              <a:ext cx="152280" cy="1522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86400" y="4419720"/>
              <a:ext cx="151920" cy="1522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uotient Pipelined 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25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838080" y="1447920"/>
          <a:ext cx="7543800" cy="47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47920"/>
                    <a:ext cx="75438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uotient Pipelined Performanc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1449000"/>
            <a:ext cx="57150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1" i="1" lang="en-US" sz="16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=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MUL(v,w)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+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CSA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+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RE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+1)   + e+1 + 2(f mod p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&gt; 2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(2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+1) + e+1 + 2(f mod p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2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 = n’/pv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 = n’/w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 = n’/v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’ = n+2v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iffers from Parallel design: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 algn="just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rallel: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’ =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 algn="just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Extra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to account for the extra stage of dela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5029200" y="990720"/>
          <a:ext cx="3505320" cy="22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990720"/>
                    <a:ext cx="350532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parison of Latenc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nca-Koç Radix 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/wp + n/p + 2p –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&gt; 2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p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n + n/p + n/w – 2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2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Radix 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/wp + n/w + n/p + p –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&gt;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 + n/p + 2n/w –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y High Radi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/wpv + 3n/pv + 4p –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&gt; 4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2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4n/v + n/pv + n/w -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4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2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llel Very High Radi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/wpv + n/pv + n/w + 1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&gt; 2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n/v + n/pv + n/w + 1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2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atency vs. # of 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sum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16,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1 or 16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t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wvp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be the amount of H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small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simil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s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larg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tura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gh radi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bet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733920" y="2743200"/>
          <a:ext cx="4838760" cy="33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743200"/>
                    <a:ext cx="483876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parison of Cycle Tim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nca-Koç / Improved Radix 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2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2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CS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MUX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BUF(w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RE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y High Rad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=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MUL(v,w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+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CPA(v+w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+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mux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+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RE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llel Very High Rad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=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MUL(v,w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+ 2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CS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+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CPA(v+w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+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RE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otient Pipelin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=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MUL(v,w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+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CS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+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RE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ynthesis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440" y="1449000"/>
            <a:ext cx="792468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ilinx Virtex II Pro XC2V250-6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~5n RAM bits needed for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FIF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1447920" y="2819520"/>
          <a:ext cx="6248160" cy="3211560"/>
        </p:xfrm>
        <a:graphic>
          <a:graphicData uri="http://schemas.openxmlformats.org/drawingml/2006/table">
            <a:tbl>
              <a:tblPr/>
              <a:tblGrid>
                <a:gridCol w="1676160"/>
                <a:gridCol w="1066680"/>
                <a:gridCol w="1219320"/>
                <a:gridCol w="1218960"/>
                <a:gridCol w="1067040"/>
              </a:tblGrid>
              <a:tr h="64296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r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eq (MHz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UTs/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egs/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6 × 16 Mults/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oved Radix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High Radi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allel Very High Radi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oti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ipelin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ponentiation Tim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 average, 1.5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2 Montgomery multiplies are needed for modular exponenti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* latency(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* (1.5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+ 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ardware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762120" y="1371600"/>
          <a:ext cx="7238880" cy="4827600"/>
        </p:xfrm>
        <a:graphic>
          <a:graphicData uri="http://schemas.openxmlformats.org/drawingml/2006/table">
            <a:tbl>
              <a:tblPr/>
              <a:tblGrid>
                <a:gridCol w="1371600"/>
                <a:gridCol w="1295280"/>
                <a:gridCol w="609480"/>
                <a:gridCol w="762120"/>
                <a:gridCol w="1905120"/>
                <a:gridCol w="1295280"/>
              </a:tblGrid>
              <a:tr h="33192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r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eq (MHz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tency (cycle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600" spc="-1" strike="noStrike" baseline="-25000">
                          <a:solidFill>
                            <a:srgbClr val="ffff00"/>
                          </a:solidFill>
                          <a:latin typeface="Arial"/>
                        </a:rPr>
                        <a:t>exp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(m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800">
                <a:tc rowSpan="4"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mproved Radix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 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800">
                <a:tc rowSpan="4"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ry High Radi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 </a:t>
                      </a:r>
                      <a:r>
                        <a:rPr b="1" i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 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800">
                <a:tc rowSpan="4"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allel Very High Radi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 </a:t>
                      </a:r>
                      <a:r>
                        <a:rPr b="1" i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 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800">
                <a:tc rowSpan="4"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Quoti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ipelin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 </a:t>
                      </a:r>
                      <a:r>
                        <a:rPr b="1" i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 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thena TeraFire 5008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5 ms 1024-bit exponenti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Kgates IP bloc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dular Exponenti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ical operation in RSA and f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gital signature algorith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ie-Hellman key exchan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SL, IPSec, IPv6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liptic curve crypto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one with modular multiplic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: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7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(((((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*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*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*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vision after each multiplication to compute modul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ximum 2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, average 1.5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mults need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ftware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24 bit modular exponenti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4 GHz Pentium 4, FLINT/C libra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2 ms without Montgomery’s al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1 ms with Montgomery’s al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4 GHz Pentium 4, GMP libra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 ms with Karatsuba’s al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 MHz AR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76 ms with Montgomery’s al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822960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tency (cycle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able per full adder for all designs when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ma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urates when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gets too bi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roved radix 2 design 2x better than T-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y high radix even better (by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/4 or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/2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ycle Ti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se for very high radi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t only slightly so on FPGAs with efficient multiplier hardw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tal Ti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dix 2 best when little HW is availa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dix 2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16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ttractive for FPGAs for minimum latency when plenty of HW is availa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uture Work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440" y="1449000"/>
            <a:ext cx="80010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tter pipelining of parallel desig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dix 2 parallel desig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dix 4/8 with precomputed multip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ratsuba Algorith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de channel attack countermeas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onfigurable Logic on CP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ipelining Parallel Desig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685800" y="1905120"/>
          <a:ext cx="7315200" cy="42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5120"/>
                    <a:ext cx="7315200" cy="42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"/>
          <p:cNvSpPr/>
          <p:nvPr/>
        </p:nvSpPr>
        <p:spPr>
          <a:xfrm>
            <a:off x="910080" y="1066680"/>
            <a:ext cx="4629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MUL(v,w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2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CS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RE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rallel Radix 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2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CS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RE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066680" y="2514600"/>
            <a:ext cx="5257800" cy="33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or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= 0 to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educ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= 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i="1" lang="en-US" sz="2000" spc="-1" strike="noStrike" baseline="-25000">
                <a:solidFill>
                  <a:srgbClr val="ffff00"/>
                </a:solidFill>
                <a:latin typeface="Arial"/>
                <a:ea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lang="pl-PL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or </a:t>
            </a:r>
            <a:r>
              <a:rPr b="1" i="1" lang="pl-PL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j</a:t>
            </a:r>
            <a:r>
              <a:rPr b="1" lang="pl-PL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= 0 to </a:t>
            </a:r>
            <a:r>
              <a:rPr b="1" i="1" lang="pl-PL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    </a:t>
            </a:r>
            <a:r>
              <a:rPr b="1" i="1" lang="pl-PL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C, Z</a:t>
            </a:r>
            <a:r>
              <a:rPr b="1" i="1" lang="en-US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j</a:t>
            </a:r>
            <a:r>
              <a:rPr b="1" i="1" lang="pl-PL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) =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i="1" lang="en-US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j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i="1" lang="pl-PL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+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 + </a:t>
            </a:r>
            <a:r>
              <a:rPr b="1" i="1" lang="pl-PL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educe</a:t>
            </a:r>
            <a:r>
              <a:rPr b="1" i="1" lang="pl-P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×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M</a:t>
            </a:r>
            <a:r>
              <a:rPr b="1" i="1" lang="en-US" sz="2000" spc="-1" strike="noStrike" baseline="30000">
                <a:solidFill>
                  <a:srgbClr val="ffff00"/>
                </a:solidFill>
                <a:latin typeface="Arial"/>
              </a:rPr>
              <a:t>j</a:t>
            </a:r>
            <a:r>
              <a:rPr b="1" i="1" lang="pl-PL" sz="2000" spc="-1" strike="noStrike" baseline="-30000">
                <a:solidFill>
                  <a:srgbClr val="ffff00"/>
                </a:solidFill>
                <a:latin typeface="Arial"/>
              </a:rPr>
              <a:t> </a:t>
            </a:r>
            <a:r>
              <a:rPr b="1" i="1" lang="pl-PL" sz="20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pl-PL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ffff00"/>
                </a:solidFill>
                <a:latin typeface="Arial"/>
                <a:ea typeface="Times New Roman"/>
              </a:rPr>
              <a:t>i</a:t>
            </a:r>
            <a:r>
              <a:rPr b="1" i="1" lang="pl-P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× </a:t>
            </a:r>
            <a:r>
              <a:rPr b="1" i="1" lang="pl-PL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Y</a:t>
            </a:r>
            <a:r>
              <a:rPr b="1" i="1" lang="en-US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i="1" lang="en-US" sz="2000" spc="-1" strike="noStrike" baseline="30000">
                <a:solidFill>
                  <a:srgbClr val="ffff00"/>
                </a:solidFill>
                <a:latin typeface="Arial"/>
              </a:rPr>
              <a:t>j-1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= (Z</a:t>
            </a:r>
            <a:r>
              <a:rPr b="1" i="1" lang="en-US" sz="2000" spc="-1" strike="noStrike" baseline="30000">
                <a:solidFill>
                  <a:srgbClr val="ffff00"/>
                </a:solidFill>
                <a:latin typeface="Arial"/>
              </a:rPr>
              <a:t>j</a:t>
            </a:r>
            <a:r>
              <a:rPr b="1" i="1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, Z</a:t>
            </a:r>
            <a:r>
              <a:rPr b="1" i="1" lang="en-US" sz="2000" spc="-1" strike="noStrike" baseline="30000">
                <a:solidFill>
                  <a:srgbClr val="ffff00"/>
                </a:solidFill>
                <a:latin typeface="Arial"/>
              </a:rPr>
              <a:t>j-1</a:t>
            </a:r>
            <a:r>
              <a:rPr b="1" i="1" lang="en-US" sz="2000" spc="-1" strike="noStrike" baseline="-25000">
                <a:solidFill>
                  <a:srgbClr val="ffff00"/>
                </a:solidFill>
                <a:latin typeface="Arial"/>
              </a:rPr>
              <a:t>w-1:1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4572000" y="4724280"/>
            <a:ext cx="76320" cy="76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4647960" y="4724280"/>
            <a:ext cx="75960" cy="76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4191120" y="2133720"/>
          <a:ext cx="3886200" cy="25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133720"/>
                    <a:ext cx="3886200" cy="25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adix 4/8 with Precomputed Multipl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dorov &amp; Twalbeh extended T-K to radix 4/8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compute multiples of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 mux instead of AND / MU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 latency using right shif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es Booth encoding help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MUX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2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CS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RE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Karatsuba Algorith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440" y="1449000"/>
            <a:ext cx="845820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Karatsuba multiplication arouses our curiosity, since it seems simple, and one could pleasantly occupy a (preferably rainy) Sunday afternoon trying it out.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6920" indent="-284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. Welschenbach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ryptography in C and C++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 = 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+ 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 = B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+ B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ular Multiplication (O(n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6920" indent="-284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n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+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+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aratsuba Multiplication (O(n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1.58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6920" indent="-284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–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6920" indent="-284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n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+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ide Channel Attack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449360"/>
            <a:ext cx="77724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itor chip activity to try deducing private ke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consump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oton emis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vulnerable is very high radix MM to side channel attack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can it be improved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VSL, other differential logic familie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erential regis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herent symmetry of addition &amp; multi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configurable Logic on CPU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d FPGA for dynamically reconfigurable accelerato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~1000 transistors / 4-input LU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fferentiates Intel from competition by unique reconfigurable logic fabri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pplic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tgomery Mul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SA, ECC, Diffie-Hellman Key Exchan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ES accelerato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metric key crypt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terbi decode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ttern matching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ome BLAST, Google, network secur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SP accelerator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otoshop filters, video enco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inary Extension Fiel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ilding blocks are polynomials in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rations performed modulo some irreducible polynomial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of degre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ithmetic done modulo 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led GF(2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: GF(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, 1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1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1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utation is the same as GF(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ept that no carries are propagat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amp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449000"/>
            <a:ext cx="380988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tecit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 co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8.5M Tran e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4MB L3$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550M Transisto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47960" y="1449000"/>
            <a:ext cx="380988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276720" cy="25401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4876920" y="1523880"/>
            <a:ext cx="3809880" cy="46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terna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 co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MB L3$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300M Transis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0 KLUT FP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0M Transis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3276720" cy="25401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5029200" y="2133720"/>
            <a:ext cx="609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FP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96080" y="4038480"/>
            <a:ext cx="609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FP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uperblock Organiz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ch contain substantial resour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Bs, memories, multipliers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ip provides one or more superbloc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celerators are compiled for one or more Superbloc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y reconfiguration without recompi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mory manager” controls how many can be downloaded at a 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gh radix best when multipliers are chea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is a research direction of relevance to Intel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cus of future resear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w radix improv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de channel secur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PGA coprocessor architec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Discussion 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ntgomery Multiplic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er way to do modular exponent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rate on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ontgomery resid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vision becomes a simple shif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conversion to and from residues only once per exponenti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ntgomery Residu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the modulus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be an od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bit integ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n-1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 M &lt;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2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the M-residue of an integer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&lt;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AR mod 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is a one-to-one correspondence between integers and M-residues fo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 &lt;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&lt;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-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35812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5T18:00:54Z</dcterms:created>
  <dc:creator>Melissa Widerkehr</dc:creator>
  <dc:description/>
  <dc:language>en-US</dc:language>
  <cp:lastModifiedBy>harris</cp:lastModifiedBy>
  <cp:lastPrinted>2000-02-16T19:06:58Z</cp:lastPrinted>
  <dcterms:modified xsi:type="dcterms:W3CDTF">2006-11-13T21:07:58Z</dcterms:modified>
  <cp:revision>692</cp:revision>
  <dc:subject/>
  <dc:title>This is a good background color and a good text color</dc:title>
</cp:coreProperties>
</file>