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1.wmf" ContentType="image/x-wmf"/>
  <Override PartName="/ppt/media/image19.wmf" ContentType="image/x-wmf"/>
  <Override PartName="/ppt/media/image4.png" ContentType="image/png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png" ContentType="image/png"/>
  <Override PartName="/ppt/media/image15.wmf" ContentType="image/x-wmf"/>
  <Override PartName="/ppt/media/image22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63520" y="0"/>
            <a:ext cx="2970360" cy="44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19240" y="674640"/>
            <a:ext cx="45972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892080" y="4346640"/>
            <a:ext cx="505152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94720"/>
            <a:ext cx="2971800" cy="44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63520" y="8694720"/>
            <a:ext cx="2970360" cy="44928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BAA99056-EE54-4DC5-937C-B3B4BAD0F58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1924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892080" y="4346640"/>
            <a:ext cx="505152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come to this presentation of a 64-state Viterbi Accelerator operating at 2GHz consuming 40mW in 90nm CMOS techn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19240" y="6746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892080" y="4346640"/>
            <a:ext cx="5051520" cy="4122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ircuits are key to achieving a low power energy efficient de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612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612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612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900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900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612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612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6120"/>
            <a:ext cx="250236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26800" y="226800"/>
            <a:ext cx="86835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612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612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6800" y="219240"/>
            <a:ext cx="868356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9000"/>
            <a:ext cx="37926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6120"/>
            <a:ext cx="7772400" cy="22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96080" y="65214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98B2-8DAA-49CF-970F-11342FFD0064}" type="slidenum">
              <a:rPr b="1" lang="en-US" sz="16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214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HMC VLSI L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95240" y="547560"/>
            <a:ext cx="768996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6560" y="3124080"/>
            <a:ext cx="76248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9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80880"/>
            <a:ext cx="86835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Very High Radix Montgomery Multiplic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38280"/>
            <a:ext cx="91440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vid Harris, Kyle Kelley and Ted Jia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Harvey Mudd Colleg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Claremont, CA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orted by Intel Circuit Research La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124080" y="4114800"/>
            <a:ext cx="2971800" cy="17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gomery Multiplicat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MM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the inverse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 (mo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gomery Mult finds residue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Z = X Y R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 (XR) (YR) R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 XY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= Z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9528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3828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19810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38862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gomery Reduc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comput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’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tisfy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R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’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vert mult and mod to 3 mult and shif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ltiply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[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] /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rmalize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≥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hy is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Z + Redu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ivisible b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R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2666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43600" y="3809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43800" y="38862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ift for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400" spc="-1" strike="noStrike" baseline="30000">
                <a:solidFill>
                  <a:srgbClr val="ffff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29400" y="3124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rop bi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duction Proof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[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[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+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’ mod R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[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+ 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’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[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+ 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R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1)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]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ZRR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o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Z + reduc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s divisible by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re Comments on M’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R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-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’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i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 is od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 is precomputed from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using the extended Euclidian algorith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held constant over many m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ly least significan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its of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 are needed when computing in radix 2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usse &amp; Kaliski, Eurocrypt ’90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PU Crypto Acceler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153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A Esther Padlock Hardware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gomery Multiplier &lt; 0.5 m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ie 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essed by x86 in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6b - 32Kb keys in 128 bit granula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so supports A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rtMIPS Smart Card Extens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, ECC, AES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F(2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multiply, MAC instru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y propagation for multiword ad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 permutations and rot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l LaGrande Technolog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7160" indent="-261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compu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mbedded Crypto Accelerator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43160" y="1981080"/>
            <a:ext cx="226512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3960" y="461628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COM Router 5000 Se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ncryption Accelerator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343400" y="1981080"/>
            <a:ext cx="3809880" cy="259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193280" y="4724280"/>
            <a:ext cx="44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BM PCI SSL Cryptography Acceler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adix 2 Algorith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adix 2, process one bit of X per ste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7040" indent="-272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tion becomes trivial because M’ mod 2 =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7040" indent="-272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multiplies and one shift per st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7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 = 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0 to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duce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v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+ reduc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ivisible by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/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≥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then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l Mo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98960" y="3849480"/>
            <a:ext cx="3097440" cy="224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5867280" y="274320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’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od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[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] /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if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≥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then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–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2666880"/>
            <a:ext cx="2743200" cy="167652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266720" y="3276720"/>
            <a:ext cx="1600200" cy="7617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inal Modulo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153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ult before last step in rang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Z &lt; 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 the end is a hass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ow 0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&lt; 2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to avoid redu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i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gt; 4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0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lt; 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nce add two bits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avoid subtraction at end of each ste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lter, Electronic Letters ’9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vers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76294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version of integers to/from Montgomery residues takes one MM operation (i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precomputed and saved)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lar exponentiation takes two conversion steps and ~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ltiplication step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19320" y="3276720"/>
                <a:ext cx="69786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r</m:t>
                        </m:r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1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r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od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onfigurable Hardwar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ilding hardwire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bit unit is limi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low for larg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 scalable to differen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 to design 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bit wo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bit operand int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 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bit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called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so handle both GF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and GF(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s conditionally killing car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lled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unifi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8480"/>
            <a:ext cx="7772400" cy="54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SA Encryp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gomery Multiplic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dix 2 Implement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ca-Koç Radi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oved Radi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High Radix Implement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High Rad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llel Very High Rad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otient Pipeli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nca-Koç Montgomery Multiplier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001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1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i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= (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w-1:1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20960" y="1425960"/>
            <a:ext cx="3313800" cy="16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(</a:t>
            </a:r>
            <a:r>
              <a:rPr b="1" i="1" lang="en-US" sz="2400" spc="-1" strike="noStrike" baseline="30000">
                <a:solidFill>
                  <a:srgbClr val="ff99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)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(</a:t>
            </a:r>
            <a:r>
              <a:rPr b="1" i="1" lang="en-US" sz="2400" spc="-1" strike="noStrike" baseline="30000">
                <a:solidFill>
                  <a:srgbClr val="ff99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)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Y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(</a:t>
            </a:r>
            <a:r>
              <a:rPr b="1" i="1" lang="en-US" sz="2400" spc="-1" strike="noStrike" baseline="30000">
                <a:solidFill>
                  <a:srgbClr val="ff9900"/>
                </a:solidFill>
                <a:latin typeface="Arial"/>
              </a:rPr>
              <a:t>e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-1)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ff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ff9900"/>
                </a:solidFill>
                <a:latin typeface="Arial"/>
              </a:rPr>
              <a:t>n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-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ff99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68320" y="617220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nca, Ko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ç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Trans. Computers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rocessing Elemen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eep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in carry-save redundant fo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2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MU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BUF(w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2514600"/>
          <a:ext cx="7467480" cy="38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4674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is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wo dimensions of parallelism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dth of processing elemen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pipelined P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y tak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kernel cyc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33520" y="3505320"/>
          <a:ext cx="7772400" cy="31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505320"/>
                    <a:ext cx="777240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e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905120" y="990720"/>
          <a:ext cx="4548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990720"/>
                    <a:ext cx="4548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eu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f full PEs cause stall, queue resul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vert back to nonredundant for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ves queue spa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PA needed for final result anywa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143000" y="3505320"/>
          <a:ext cx="632448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505320"/>
                    <a:ext cx="632448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d Desig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n’t wait two cycles for MSB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ick off dependent operation right away on the available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ke extra cycle(s) at the end to handle the extra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cessing elements, cycle count reduces from 2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Harris, Krishnamurthy, Anders, Mathew, Hsu, Arith 2005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d 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ft-shif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her than right-shift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ame amount of hardwa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3000" y="3048120"/>
          <a:ext cx="6705720" cy="35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6705720" cy="35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e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47920" y="936720"/>
          <a:ext cx="6172200" cy="57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36720"/>
                    <a:ext cx="617220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tenc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001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ca-Koç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2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1)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&gt; 2pw – 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2pw – w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Desig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1)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+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) +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-2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&gt; pw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- 1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pw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a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SA Encryp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458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st widely used public key system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od for encryption and signatur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ented by Rivest, Shamir, Adleman (1978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ublic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and privat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keys are long #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256-2048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isf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x for all 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d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from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as hard as factoring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cryption: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od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yption: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mod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ed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a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rea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ry High Rad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ndle many bits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t a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dix 2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rocesse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its of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uter loop iterations need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kernel cycles with p P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rdware cha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 AND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 multip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shift by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 after each ste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so bits are available to shi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ycle time gets long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e becomes more complica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driv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lsbs to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ry High Radix Algorith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0773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’ 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mod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 bottom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133880" y="248292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5486400" y="190512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’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od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[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] /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1828800"/>
            <a:ext cx="2743200" cy="1371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85840" y="2438280"/>
            <a:ext cx="160020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alable Very High Radix M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153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’ 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mod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nly reduce bottom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1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e + 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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v +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) /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w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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-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(C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B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v-1: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w-1: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33600" y="4724280"/>
            <a:ext cx="1733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 mul, 1 sh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 inner lo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ry High Radix 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956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143000"/>
          <a:ext cx="6858000" cy="50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143000"/>
                    <a:ext cx="685800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277800" y="624852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lley, Harris IWSOC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e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02280" y="1447920"/>
            <a:ext cx="461448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ach MAC is given a full cy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PA(v+w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x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wo MAC columns for each 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our cycle latency between P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’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mod 2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3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4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shift into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990720"/>
          <a:ext cx="3311640" cy="54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331164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Very High Radix Latenc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 3) + 4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1) +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4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4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 1) +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- 1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4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 limited for small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y 4-cycle latency between 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312408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0516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 Very High Rad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liminate two of the cyc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ltiplication to comput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precomputing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 ×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pendency of Z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prescaling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by 2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o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h proposed by Orup Arith9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no scalable very high radix H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9568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ment 1: Eliminate Multipl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601640"/>
            <a:ext cx="8077320" cy="464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’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 2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od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33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876920" y="1981080"/>
            <a:ext cx="4038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 = M’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od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R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precompu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[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] /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1905120"/>
            <a:ext cx="3657600" cy="1371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276360" y="2666880"/>
            <a:ext cx="1600200" cy="7621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219320"/>
            <a:ext cx="3048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’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od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[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educe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] /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23880" y="1143000"/>
            <a:ext cx="2743200" cy="13716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52880" y="18288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1981080"/>
            <a:ext cx="609840" cy="3812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248520" y="2666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3962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SA Derivation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oose two large random prime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q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tient: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)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ke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coprime to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vate key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h tha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1 mod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e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o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ording to Fermat’s Little Theor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ment 2: Prescale X by 2</a:t>
            </a:r>
            <a:r>
              <a:rPr b="1" lang="en-US" sz="40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449360"/>
            <a:ext cx="7772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 +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/ 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/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38680" y="1066680"/>
            <a:ext cx="32004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for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i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= 0 to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f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X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i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=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Z = 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/ 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5029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38680" y="1066680"/>
            <a:ext cx="2210040" cy="205740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647960" y="1371600"/>
            <a:ext cx="96660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914400" y="3505320"/>
            <a:ext cx="5256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4419720" y="2971800"/>
            <a:ext cx="38088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00600" y="3429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caus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s independent of 2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5803920"/>
            <a:ext cx="7238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l result in range 0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&lt; 2</a:t>
            </a:r>
            <a:r>
              <a:rPr b="1" i="1" lang="en-US" sz="1800" spc="-1" strike="noStrike" baseline="30000">
                <a:solidFill>
                  <a:srgbClr val="ffffff"/>
                </a:solidFill>
                <a:latin typeface="Arial"/>
              </a:rPr>
              <a:t>n+v+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avoid final small mod in successive mults by using larger 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623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more it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819160" y="1676520"/>
            <a:ext cx="53316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mprovement 3: Avoid LSW add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9360"/>
            <a:ext cx="7772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(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 /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v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+ 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 =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gt;&gt; v 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2286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800600" y="4952880"/>
            <a:ext cx="15228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4952880"/>
            <a:ext cx="15264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915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816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51055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934320" y="495288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7010280" y="49528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257440" y="4952880"/>
            <a:ext cx="1600200" cy="152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24360" y="3048120"/>
            <a:ext cx="1014120" cy="685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4495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~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0120" y="5105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3048120"/>
            <a:ext cx="4191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+ 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) /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=  Z &gt;&gt; v +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× 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od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) /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=  Z &gt;&gt; v +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(M+1)) / 2</a:t>
            </a:r>
            <a:r>
              <a:rPr b="1" i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=  Z &gt;&gt; v + Z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×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943600" y="4267080"/>
            <a:ext cx="76320" cy="763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6019560" y="4267080"/>
            <a:ext cx="75960" cy="763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8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67280" y="3733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438280" y="4038480"/>
            <a:ext cx="1524240" cy="763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7010280" y="5486400"/>
            <a:ext cx="304920" cy="38088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58672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 </a:t>
            </a:r>
            <a:r>
              <a:rPr b="1" lang="en-US" sz="1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’M </a:t>
            </a:r>
            <a:r>
              <a:rPr b="1" lang="en-US" sz="1800" spc="-1" strike="noStrike">
                <a:solidFill>
                  <a:srgbClr val="ff9900"/>
                </a:solidFill>
                <a:latin typeface="Symbol"/>
                <a:ea typeface="Symbol"/>
              </a:rPr>
              <a:t>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-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1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mod 2</a:t>
            </a:r>
            <a:r>
              <a:rPr b="1" lang="en-US" sz="1800" spc="-1" strike="noStrike" baseline="30000">
                <a:solidFill>
                  <a:srgbClr val="ff9900"/>
                </a:solidFill>
                <a:latin typeface="Arial"/>
                <a:ea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So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M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 + 1 is divi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5729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553080" y="6095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  <a:ea typeface="Times New Roman"/>
              </a:rPr>
              <a:t>~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calable Parallel Very High Radix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1532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f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=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e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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v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/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w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Symbol"/>
                <a:ea typeface="Symbol"/>
              </a:rPr>
              <a:t>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   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(C, 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C +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pl-PL" sz="3200" spc="-1" strike="noStrike" baseline="-30000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pl-P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 = (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v-1:0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32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3200" spc="-1" strike="noStrike" baseline="-25000">
                <a:solidFill>
                  <a:srgbClr val="ffff00"/>
                </a:solidFill>
                <a:latin typeface="Arial"/>
              </a:rPr>
              <a:t>w-1:v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248520" y="4267080"/>
            <a:ext cx="15228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4267080"/>
            <a:ext cx="152280" cy="15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 Very High Radix 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62240" y="160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0032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23880" y="1295280"/>
          <a:ext cx="601992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95280"/>
                    <a:ext cx="601992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147120" y="624852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Kelley, Harris Asilomar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e Tim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3520" y="1143000"/>
          <a:ext cx="40734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40734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4800600" y="3124080"/>
            <a:ext cx="4572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wo cycle latency between P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1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2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1" i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×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1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hift into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Z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534520" y="358128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8610480" y="35812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8534520" y="4038480"/>
            <a:ext cx="759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flipV="1">
            <a:off x="8610480" y="4038480"/>
            <a:ext cx="7632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47040" y="1905120"/>
            <a:ext cx="404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2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S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PA(v+w)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 Very High Radix Latenc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1)  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1 + 2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o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+1 + 2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mo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otient Pipeli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Redu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depends on previous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pelin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calculation to avoid reduce being on the critical pa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llel Very High Radix can be viewed as 0-stage Quotient Pipeline architectur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-stage Quotient Pipelining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41148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rallel Very High Radi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pl-PL" sz="24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nd  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i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× 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Y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j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ccurs simultaneous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quir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in non-redundant for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olution: Delay 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educe</a:t>
            </a:r>
            <a:r>
              <a:rPr b="1" i="1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×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M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pl-PL" sz="2400" spc="-1" strike="noStrike" baseline="-30000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lculation by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E’s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stage delay Quotient Pipeli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4648320" y="1981080"/>
          <a:ext cx="38098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2666880" y="2209320"/>
            <a:ext cx="152640" cy="76320"/>
            <a:chOff x="2666880" y="2209320"/>
            <a:chExt cx="152640" cy="76320"/>
          </a:xfrm>
        </p:grpSpPr>
        <p:sp>
          <p:nvSpPr>
            <p:cNvPr id="263" name=""/>
            <p:cNvSpPr/>
            <p:nvPr/>
          </p:nvSpPr>
          <p:spPr>
            <a:xfrm flipV="1">
              <a:off x="2666880" y="2209320"/>
              <a:ext cx="7632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2209680"/>
              <a:ext cx="7632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752480" y="3885840"/>
            <a:ext cx="152640" cy="76320"/>
            <a:chOff x="1752480" y="3885840"/>
            <a:chExt cx="152640" cy="76320"/>
          </a:xfrm>
        </p:grpSpPr>
        <p:sp>
          <p:nvSpPr>
            <p:cNvPr id="266" name=""/>
            <p:cNvSpPr/>
            <p:nvPr/>
          </p:nvSpPr>
          <p:spPr>
            <a:xfrm flipV="1">
              <a:off x="1752480" y="3885840"/>
              <a:ext cx="7632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28800" y="3886200"/>
              <a:ext cx="76320" cy="759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-Stage Delay Quotient Pipeli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 mod 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edu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oduced by PE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used by PE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otient Pipel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 mod 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+1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×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&g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the # of delay stag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57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duce produced by PE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s used by PE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+1+</a:t>
            </a:r>
            <a:r>
              <a:rPr b="1" i="1" lang="en-US" sz="2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: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0-Stage Quotient Pipel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523880" y="1981080"/>
            <a:ext cx="304920" cy="152640"/>
            <a:chOff x="1523880" y="1981080"/>
            <a:chExt cx="304920" cy="152640"/>
          </a:xfrm>
        </p:grpSpPr>
        <p:sp>
          <p:nvSpPr>
            <p:cNvPr id="271" name=""/>
            <p:cNvSpPr/>
            <p:nvPr/>
          </p:nvSpPr>
          <p:spPr>
            <a:xfrm flipV="1">
              <a:off x="1523880" y="1981080"/>
              <a:ext cx="15264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76520" y="1981080"/>
              <a:ext cx="15228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23880" y="3581280"/>
            <a:ext cx="304920" cy="152640"/>
            <a:chOff x="1523880" y="3581280"/>
            <a:chExt cx="304920" cy="152640"/>
          </a:xfrm>
        </p:grpSpPr>
        <p:sp>
          <p:nvSpPr>
            <p:cNvPr id="274" name=""/>
            <p:cNvSpPr/>
            <p:nvPr/>
          </p:nvSpPr>
          <p:spPr>
            <a:xfrm flipV="1">
              <a:off x="1523880" y="3581280"/>
              <a:ext cx="15264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6520" y="3581280"/>
              <a:ext cx="152280" cy="152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-Stage Quotient Pipelined Algorithm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0 to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 =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&gt;&gt; v 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old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+ 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oldreduce = 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&lt;&lt;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334120" y="3200040"/>
            <a:ext cx="304200" cy="152640"/>
            <a:chOff x="5334120" y="3200040"/>
            <a:chExt cx="304200" cy="152640"/>
          </a:xfrm>
        </p:grpSpPr>
        <p:sp>
          <p:nvSpPr>
            <p:cNvPr id="279" name=""/>
            <p:cNvSpPr/>
            <p:nvPr/>
          </p:nvSpPr>
          <p:spPr>
            <a:xfrm flipV="1">
              <a:off x="5334120" y="3200040"/>
              <a:ext cx="15228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86400" y="3200400"/>
              <a:ext cx="15192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ryptographic Algorithm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, A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mmetric key algorith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 exchange of secre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ationally effici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SA, EC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key algorith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key exchange needed (e.g. ecommerc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ationally expensiv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public key to exchange symmetric k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-Stage Scalable Quotient Pipelining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i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o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f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reduce = Z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or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 j =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0 to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 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C, 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  =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pl-PL" sz="2800" spc="-1" strike="noStrike" baseline="-25000">
                <a:solidFill>
                  <a:srgbClr val="ffff00"/>
                </a:solidFill>
                <a:latin typeface="Arial"/>
              </a:rPr>
              <a:t>v-1: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pl-PL" sz="2800" spc="-1" strike="noStrike" baseline="-25000">
                <a:solidFill>
                  <a:srgbClr val="ffff00"/>
                </a:solidFill>
                <a:latin typeface="Arial"/>
              </a:rPr>
              <a:t>w- 1:v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+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 baseline="-25000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M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 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Y</a:t>
            </a:r>
            <a:r>
              <a:rPr b="1" i="1" lang="en-US" sz="2800" spc="-1" strike="noStrike" baseline="30000">
                <a:solidFill>
                  <a:srgbClr val="ffff00"/>
                </a:solidFill>
                <a:latin typeface="Arial"/>
              </a:rPr>
              <a:t>j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+ C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oldreduce = 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Z = Z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&lt;&lt;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v + oldreduc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4120" y="4419360"/>
            <a:ext cx="304200" cy="152640"/>
            <a:chOff x="5334120" y="4419360"/>
            <a:chExt cx="304200" cy="152640"/>
          </a:xfrm>
        </p:grpSpPr>
        <p:sp>
          <p:nvSpPr>
            <p:cNvPr id="284" name=""/>
            <p:cNvSpPr/>
            <p:nvPr/>
          </p:nvSpPr>
          <p:spPr>
            <a:xfrm flipV="1">
              <a:off x="5334120" y="4419360"/>
              <a:ext cx="15228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86400" y="4419720"/>
              <a:ext cx="151920" cy="1522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otient Pipelined P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838080" y="1447920"/>
          <a:ext cx="7543800" cy="479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7543800" cy="47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Quotient Pipelined Performanc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5715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i="1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=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+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SA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+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+1)   + e+1 + 2(f mod p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(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+1) + e+1 + 2(f mod p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or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k = n’/p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 = n’/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f = n’/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’ = n+2v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Differs from Parallel design: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 algn="just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rallel: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’ =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+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 algn="just">
              <a:lnSpc>
                <a:spcPct val="9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Extra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 to account for the extra stage of dela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5029200" y="990720"/>
          <a:ext cx="3505320" cy="22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990720"/>
                    <a:ext cx="35053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arison of Latenci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ca-Koç Radix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p + n/p + 2p –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n + n/p + n/w –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Radix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p + n/w + n/p + p –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+ n/p + 2n/w –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ry High Radi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pv + 3n/pv + 4p – 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n/v + n/pv + n/w - 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4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allel Very High Radi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i="1" lang="en-US" sz="28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/wpv + n/pv + n/w + 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&gt;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n/v + n/pv + n/w + 1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2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atency vs. # of P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sum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6,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1 or 1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v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be the amount of H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small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l simil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cles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 larg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tur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radi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 bet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3733920" y="2743200"/>
          <a:ext cx="4838760" cy="33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743200"/>
                    <a:ext cx="48387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mparison of Cycle Ti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nca-Koç / Improved Radix 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MU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BUF(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y High Ra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PA(v+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llel Very High Radi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PA(v+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otient Pipel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MUL(v,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  <a:ea typeface="Times New Roman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ynthesis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79246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ilinx Virtex II Pro XC2V250-6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5n RAM bits needed fo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FIF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447920" y="2819520"/>
          <a:ext cx="6248160" cy="3211560"/>
        </p:xfrm>
        <a:graphic>
          <a:graphicData uri="http://schemas.openxmlformats.org/drawingml/2006/table">
            <a:tbl>
              <a:tblPr/>
              <a:tblGrid>
                <a:gridCol w="1676160"/>
                <a:gridCol w="1066680"/>
                <a:gridCol w="1219320"/>
                <a:gridCol w="1218960"/>
                <a:gridCol w="1067040"/>
              </a:tblGrid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q (MHz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UTs/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gs/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16 × 16 Mults/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Radix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y High Rad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llel Very High Radi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oti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ipelin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ponentiation Tim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average, 1.5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 Montgomery multiplies are needed for modular exponenti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ex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* latency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* (1.5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Hardware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762120" y="1371600"/>
          <a:ext cx="7238880" cy="4827600"/>
        </p:xfrm>
        <a:graphic>
          <a:graphicData uri="http://schemas.openxmlformats.org/drawingml/2006/table">
            <a:tbl>
              <a:tblPr/>
              <a:tblGrid>
                <a:gridCol w="1371600"/>
                <a:gridCol w="1295280"/>
                <a:gridCol w="609480"/>
                <a:gridCol w="762120"/>
                <a:gridCol w="1905120"/>
                <a:gridCol w="1295280"/>
              </a:tblGrid>
              <a:tr h="3319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eq (MHz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cy (cycl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1" lang="en-US" sz="1600" spc="-1" strike="noStrike" baseline="-25000">
                          <a:solidFill>
                            <a:srgbClr val="ffff00"/>
                          </a:solidFill>
                          <a:latin typeface="Arial"/>
                        </a:rPr>
                        <a:t>exp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(m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roved Radix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ery High Rad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8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allel Very High Radi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Quoti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ipelin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</a:t>
                      </a:r>
                      <a:r>
                        <a:rPr b="1" i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 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3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thena TeraFire 5008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.5 ms 1024-bit exponenti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Kgates IP blo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dular Exponenti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ical operation in RSA and f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 algorith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ie-Hellman key excha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SL, IPSec, IPv6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liptic curve crypto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ne with modular multi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: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(((((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*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*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*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vision after each multiplication to compute modul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ximum 2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average 1.5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ults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ftware Result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24 bit modular exponenti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4 GHz Pentium 4, FLINT/C libr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92 ms without Montgomery’s al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1 ms with Montgomery’s al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4 GHz Pentium 4, GMP libra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 ms with Karatsuba’s al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 MHz AR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76 ms with Montgomery’s al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82296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ency (cycl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able per full adder for all designs wh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ma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urates when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gets too bi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roved radix 2 design 2x better than T-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radix even better (by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4 or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ycle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se for very high radix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 only slightly so on FPGAs with efficient multiplier hard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Ti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x 2 best when little HW is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x 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ttractive for FPGAs for minimum latency when plenty of HW is availab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Future Work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0010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tter pipelining of parallel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dix 2 parallel desig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dix 4/8 with precomputed multipl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ratsuba Algorith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de channel attack countermeas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configurable Logic on CPU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ipelining Parallel Desig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685800" y="1905120"/>
          <a:ext cx="7315200" cy="42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315200" cy="42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910080" y="1066680"/>
            <a:ext cx="46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MUL(v,w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arallel Radix 2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066680" y="2514600"/>
            <a:ext cx="5257800" cy="33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=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or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= 0 to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   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(C, 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 =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+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 +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educe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×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M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pl-PL" sz="2000" spc="-1" strike="noStrike" baseline="-30000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X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  <a:ea typeface="Times New Roman"/>
              </a:rPr>
              <a:t>i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× </a:t>
            </a:r>
            <a:r>
              <a:rPr b="1" i="1" lang="pl-PL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Y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  <a:ea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= (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</a:rPr>
              <a:t>j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, Z</a:t>
            </a:r>
            <a:r>
              <a:rPr b="1" i="1" lang="en-US" sz="2000" spc="-1" strike="noStrike" baseline="30000">
                <a:solidFill>
                  <a:srgbClr val="ffff00"/>
                </a:solidFill>
                <a:latin typeface="Arial"/>
              </a:rPr>
              <a:t>j-1</a:t>
            </a:r>
            <a:r>
              <a:rPr b="1" i="1" lang="en-US" sz="2000" spc="-1" strike="noStrike" baseline="-25000">
                <a:solidFill>
                  <a:srgbClr val="ffff00"/>
                </a:solidFill>
                <a:latin typeface="Arial"/>
              </a:rPr>
              <a:t>w-1:1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572000" y="4724280"/>
            <a:ext cx="7632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4647960" y="4724280"/>
            <a:ext cx="75960" cy="76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4191120" y="2133720"/>
          <a:ext cx="3886200" cy="25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133720"/>
                    <a:ext cx="388620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adix 4/8 with Precomputed Multiple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dorov &amp; Twalbeh extended T-K to radix 4/8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compute multiples of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 mux instead of AND / MU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 latency using right shif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es Booth encoding help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=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MU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2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CS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+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RE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Karatsuba Algorithm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84582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Karatsuba multiplication arouses our curiosity, since it seems simple, and one could pleasantly occupy a (preferably rainy) Sunday afternoon trying it out.”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. Welschenbach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ryptography in C and C++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= 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+ 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B = B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ular Multiplication (O(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ratsuba Multiplication (O(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1.585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(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) –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6920" indent="-284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de Channel Attack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449360"/>
            <a:ext cx="7772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itor chip activity to try deducing private ke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sum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ton emis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vulnerable is very high radix MM to side channel attack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can it be improved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VSL, other differential logic famili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ial regis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herent symmetry of addition &amp; multi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Reconfigurable Logic on CPU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 FPGA for dynamically reconfigurable accelera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1000 transistors / 4-input LU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erentiates Intel from competition by unique reconfigurable logic fabric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pplicat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tgomery Mul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, ECC, Diffie-Hellman Key Excha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ES accelerato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cryp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iterbi decode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tern match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ome BLAST, Google, network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SP accelerator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otoshop filters, video encod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inary Extension Field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ilding blocks are polynomials in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ions performed modulo some irreducible polynomial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of degre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ithmetic done modulo 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led GF(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: GF(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, 1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utation is the same as GF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ept that no carries are propagat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Example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449000"/>
            <a:ext cx="38098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eci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cor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8.5M Tran e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MB L3$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50M Transisto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380988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276720" cy="2540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876920" y="1523880"/>
            <a:ext cx="3809880" cy="46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tern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 co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MB L3$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00M Transis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0 KLUT FPG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0M Transis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029200" y="2057400"/>
            <a:ext cx="3276720" cy="25401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5029200" y="2133720"/>
            <a:ext cx="60948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P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4038480"/>
            <a:ext cx="6098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FP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erblock Organiz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ch contain substantial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Bs, memories, multipliers,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ip provides one or more superblo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celerators are compiled for one or more Superblock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y reconfiguration without recompi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mory manager” controls how many can be downloaded at a ti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radix best when multipliers are chea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this a research direction of relevance to Inte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cus of future resear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w radix improv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de channel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PGA coprocessor architectu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Discussion 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gomery Multiplication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900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er way to do modular exponent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erate on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Montgomery residu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vision becomes a simple shif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conversion to and from residues only once per exponenti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26800"/>
            <a:ext cx="8683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ontgomery Residues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t the modulu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be an odd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bit integ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-1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lt; M &lt;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= 2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e the M-residue of an integer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4480" indent="-2872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AR mod 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re is a one-to-one correspondence between integers and M-residues for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0 &l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&lt;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-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581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8:00:54Z</dcterms:created>
  <dc:creator>Melissa Widerkehr</dc:creator>
  <dc:description/>
  <dc:language>en-US</dc:language>
  <cp:lastModifiedBy>harris</cp:lastModifiedBy>
  <cp:lastPrinted>2000-02-16T19:06:58Z</cp:lastPrinted>
  <dcterms:modified xsi:type="dcterms:W3CDTF">2006-11-13T21:07:58Z</dcterms:modified>
  <cp:revision>692</cp:revision>
  <dc:subject/>
  <dc:title>This is a good background color and a good text color</dc:title>
</cp:coreProperties>
</file>