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A98-86BA-4179-AE0A-834D74F7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826-ACFC-4114-9448-6A0AA20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4A5-3830-420B-8E39-AC809B10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AFD-A33D-44D3-9F25-5C70B26B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9D1A-AD16-4585-A1D2-0DC7BBCC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A027-038D-463A-AA7B-FC2305D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5EA3-341F-4710-A190-8EF6E8E3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A373-140B-4DAF-845A-F67259CA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3DD6-5DEC-4886-B16D-7A0EB5C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0376-60A4-49D9-A431-B7BCEB0C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FD3-D27E-48BF-A635-8F49011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828-1EE6-4816-A0E6-B0AF993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965E-942C-4055-AB6A-D134C1E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9AF1-29FB-4228-B40E-7A6A917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B3B-272B-4937-8F2E-A71EF5E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6A1-13ED-4F8E-ADBF-25CBFA44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7BFF-B0F0-4554-889E-E4B3A49E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68008-8E1D-4F77-BF3A-09AC9A1A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A21B8-7960-4E26-B71D-3AF8BF6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9BB74-F2DD-4EAA-A9AD-3B8CDF7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363A0-6983-4554-9661-2765287B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6CAFC-D6A9-4376-8DE8-DA9FF90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995-EF23-4F34-9D90-5BB9D949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07184-CF04-4D97-AB30-7357381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FD0AC-B6E8-4857-80E1-710DBA7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0CCEA-57A6-4D89-8043-8499A55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DB14B-9A67-4214-B4CC-22C0AFE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B29FD-6E3A-4C31-AF4B-DDE4ED1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5E02D-FE37-4955-931F-6421E7B8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09FFD-4946-4C47-9572-0872191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DD3D-83AC-4859-939D-EB3848A0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AAAE-08B9-4F5F-9A96-081CC32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3484-6658-4373-88AF-C504E374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D89-0A69-406F-A53A-DB4917EA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D7EF-DFD5-4BCE-A016-EE6FE81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2134-EEAF-4261-89EC-B5124D42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DAD3-A498-4818-A157-366C146F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7EF6-046B-4C3F-9B61-5CBACD6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0878-E4D7-4949-AB22-AD29019B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2D33-611E-4E82-AF3C-2EA2E00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1393-8070-42C6-BD4A-82B98BC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4CDB-0556-4D7C-80FF-20F79B67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6CF2-D9EA-4B1C-B463-0057867E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889-1AE2-403B-8A04-EFAFBF37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B45-A7DE-46FA-B2E7-0259BF0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CE1-C222-45E9-9801-A0DFEC9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77A-C4EF-4FA0-B23B-0DCC34F0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43B-35F6-4F0F-BF47-FC76854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5DE8B-7B4D-485C-B312-17C0D991B604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8B3B-22C2-4D83-A95A-CAAC79468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2FE47-F5F1-418B-AA0C-22E8FEB1FB09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FDD03-EE2C-4941-BF4F-922C911DA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E685D-AB2B-4C43-AE40-A292B24A51C3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4DBD2-0F9B-4062-AED4-0FFEDF0EAA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5FD63-C994-4010-A539-3C578D6996BE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01B07-3E54-42B7-AEE8-351C405024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1240" y="20779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am Na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11 Final Present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14440" y="5186160"/>
            <a:ext cx="49100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 1 Name, Student 2 Na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243480" y="800280"/>
            <a:ext cx="19335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in body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84320" y="2249640"/>
            <a:ext cx="8502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06:32Z</dcterms:created>
  <dc:creator>Nancy Lape</dc:creator>
  <dc:description/>
  <dc:language>en-US</dc:language>
  <cp:lastModifiedBy>Nancy Lape</cp:lastModifiedBy>
  <cp:lastPrinted>2010-11-30T17:21:43Z</cp:lastPrinted>
  <dcterms:modified xsi:type="dcterms:W3CDTF">2010-11-30T17:25:47Z</dcterms:modified>
  <cp:revision>332</cp:revision>
  <dc:subject/>
  <dc:title>Autonomous Vehicles </dc:title>
</cp:coreProperties>
</file>