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9DF-C54C-4A3D-949B-620D5B675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1C10-75B4-4967-931B-F28E15EE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3648-D44B-42D8-BF7F-1F018C02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557-B7DA-4E42-ABD0-013E3C7A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450F-197A-4A88-8116-F2DD57C8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126C-3288-41C4-BEB3-4013CD4A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906E-5D5B-4A67-B984-CC584D67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B936-DBFB-40C6-BD05-812EF50E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1C65-B76A-49C7-9010-7139B0FC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2C83-AC19-454C-8FDF-AD7491C2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0880-E967-4E8B-B31C-2CE42747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77F-C42C-4C1C-AA39-B30F72D7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85D6-EFEC-430F-B835-31610550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F26B-476C-427D-B821-7D61C84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0C55-5C06-4804-BB80-2C025918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CEB5-2F54-4C77-859A-7A516B0B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D48F-5035-481C-9F96-700738A1B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CAC1D-1F16-4E80-AF6C-BF2624F1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6C8B1-BC00-4532-8FA8-16514166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B8485-E6FF-4A2A-B2FE-1692EAE7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D15AE9-8E38-45D6-88A2-D0BC9EB2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052460-8189-4BFF-B7B5-848B2F0F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A91-E689-4C6E-8263-385C827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D0D2E-6186-4627-87F0-5AE29236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F7B9F-325D-406D-BD5C-B90AA03E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4784B5-C1B7-4A20-A148-2E91B53E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7C90F-EFCA-405B-858B-5DC031D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95BD3-F201-4E49-97BF-EDA6275A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7FC89-D302-404B-82D3-BC7AA18DF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0EAEC5-2C7F-4948-9383-1BB25897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82253-CE15-41C5-B334-6B73F166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CD8A-6706-4BDE-B7D0-59A2D99F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89C13-47E2-40D2-8876-5D88AD0F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95CD-FB63-4EB7-99E7-E20A968A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A4622-340D-4343-8D42-C5A4EF67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0E004-7665-4A98-9086-3F7D7849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061C-06CD-44D3-A66A-195CFF58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A6CB-3236-4366-A45A-091459F4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E494A-E0F7-4F54-991A-ACDDC89E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66380-4B8E-459C-B142-F1A17A26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2AE5-00BA-4F5C-9B8E-665403CD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635F6-24D5-4B28-9B32-557ADB1A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CF10-AC02-4709-9C46-2A7C9AA7A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B77-EA7A-4528-BF01-86A9BE2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F9DB-7867-4DAA-B6A1-CE18F60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589-29AB-4036-9A3F-2EEDA377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3B8-D851-4C08-81B1-9828FC2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D396-6DA9-4EF9-ACB2-DE4F757D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8FE18-BF6D-434C-8912-F5B54B598790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28F28-07A2-434A-B86F-236E68B7C9B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28EEA7-6546-453A-93E7-723F387C21D0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3702F-B991-4A35-A646-F34BB8B36D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88C55-B73E-417B-9DD5-24701C98064D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2FA6F-DDA8-43B2-8981-A49A1704B0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00DCE2-CDB6-4AF5-981F-043F2AF1AFA7}" type="datetime"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A5352-C54E-4F70-8299-8B91476B5B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01240" y="20779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am Name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11 Final Presentation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14440" y="5186160"/>
            <a:ext cx="491004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tudent 1 Name, Student 2 Nam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6243480" y="800280"/>
            <a:ext cx="193356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in body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84320" y="2249640"/>
            <a:ext cx="85024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is the text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8:06:32Z</dcterms:created>
  <dc:creator>Nancy Lape</dc:creator>
  <dc:description/>
  <dc:language>en-US</dc:language>
  <cp:lastModifiedBy>Nancy Lape</cp:lastModifiedBy>
  <cp:lastPrinted>2010-11-30T17:21:43Z</cp:lastPrinted>
  <dcterms:modified xsi:type="dcterms:W3CDTF">2010-11-30T17:25:47Z</dcterms:modified>
  <cp:revision>332</cp:revision>
  <dc:subject/>
  <dc:title>Autonomous Vehicles </dc:title>
</cp:coreProperties>
</file>